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C6D1-452E-4EF5-8DC1-9DF94D5A2D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2A7-9FE8-443B-B2AE-8B94B09960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572000" y="2424240"/>
            <a:ext cx="0" cy="1411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657600" y="242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DD1-3ED6-4C7D-8963-B220B01B3B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A7E8-E7CC-4252-9469-502A749928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863-0E1E-4B03-8762-483AD6A9B9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371600" y="838080"/>
            <a:ext cx="4273560" cy="320544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9BD6-16C7-404E-AC91-D065BFD757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3BE8-588A-4707-8046-B2636BA3C8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323-E7E2-48BA-92E2-8762202A0B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3825-86F2-4624-83AE-01C1D8B5D4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EFF-C445-450B-AC91-A09D1D9207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4871-5FA7-48E1-827D-CCE9452DF1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7A4-F9CC-4BF9-8ED5-F23BCD46A4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2CE1-73A4-4A45-9E42-74B9D379F9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10552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5CD9-7E24-4B3E-AB66-58C2ABDA7D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295280" y="762120"/>
            <a:ext cx="4273560" cy="320508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6ED-0CC7-44FE-8CE2-A6D7CD1FE0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1B2-3E44-4513-BE57-2584CFAF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2F1-8841-4882-9D58-67CD7D8D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25C-9355-4176-8DC9-1D6CFED0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553-B3C2-495C-B415-DA407AC5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DC07-E3E9-457F-ACDC-FFECB1EB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5837-4A15-4A01-B178-A95063C3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93AA-40E1-4A15-9D79-D9167715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0444-69CA-4CA5-95B8-DB8D2FD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3744-DBA6-4386-92B1-B30F8F09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A3E3-6FAE-4F56-B054-CB7867CE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3E4B-AACF-4A67-9ACE-C7211A04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F0C-1347-450D-8212-0704026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2D38-F51C-4109-AD5B-FFFBCA8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CD49-8874-4059-88E9-093207F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226-0FF6-496B-B8BA-47B8CC37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E758-9F05-4661-A98F-12C0344E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39A-E05C-4AD8-B0E6-410CF2CB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C19-C314-4B13-8DA7-C9A19C85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1A5-DCF4-482D-9687-FEA27AC5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9EF-8AD7-44F0-AECE-77ACAE27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AD6-AB7C-49CD-8318-8B0E6168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618-0BD1-402C-BA0B-A9BA2BE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683-5735-41C7-A9DF-1FBD27A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777-C6A1-4FBA-B328-D5F72D6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23E3-426B-4AC8-B2B2-E40561A07D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652-4371-4E9E-B0B5-701F4A921E7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第五章  干扰滤波技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干扰滤波在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EMC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设计中作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差模干扰和共模干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常用滤波电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怎样制作有效的滤波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正确使用滤波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开关电源干扰发射的原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284400" y="4038480"/>
            <a:ext cx="113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220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5520" y="4419720"/>
            <a:ext cx="609480" cy="1522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4267080"/>
            <a:ext cx="609480" cy="15264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05520" y="4114800"/>
            <a:ext cx="609480" cy="1522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4191120"/>
            <a:ext cx="22860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86400" y="3886200"/>
            <a:ext cx="380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3581280"/>
            <a:ext cx="4114800" cy="2590920"/>
            <a:chOff x="838080" y="3581280"/>
            <a:chExt cx="4114800" cy="2590920"/>
          </a:xfrm>
        </p:grpSpPr>
        <p:sp>
          <p:nvSpPr>
            <p:cNvPr id="348" name=""/>
            <p:cNvSpPr/>
            <p:nvPr/>
          </p:nvSpPr>
          <p:spPr>
            <a:xfrm>
              <a:off x="1683360" y="3581280"/>
              <a:ext cx="1239840" cy="14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2143440" y="4001040"/>
              <a:ext cx="431640" cy="563400"/>
            </a:xfrm>
            <a:prstGeom prst="triangle">
              <a:avLst>
                <a:gd name="adj" fmla="val 50000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41680" y="4066920"/>
              <a:ext cx="0" cy="43164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52560" y="4282560"/>
              <a:ext cx="2815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3796920"/>
              <a:ext cx="90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768560"/>
              <a:ext cx="84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94200" y="5146560"/>
              <a:ext cx="732600" cy="701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76440" y="5254200"/>
              <a:ext cx="0" cy="485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76440" y="5524200"/>
              <a:ext cx="281520" cy="269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9120" y="4390920"/>
              <a:ext cx="450720" cy="10764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89120" y="4282560"/>
              <a:ext cx="450720" cy="10800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89120" y="4174920"/>
              <a:ext cx="450720" cy="10764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9120" y="4066920"/>
              <a:ext cx="450720" cy="10764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23560" y="3742920"/>
              <a:ext cx="1690920" cy="32364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0"/>
                  </a:moveTo>
                  <a:lnTo>
                    <a:pt x="1200" y="0"/>
                  </a:lnTo>
                  <a:lnTo>
                    <a:pt x="120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76440" y="5200200"/>
              <a:ext cx="338040" cy="215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14480" y="46065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89120" y="4498560"/>
              <a:ext cx="450720" cy="10764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19920" y="3904920"/>
              <a:ext cx="33804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52880" y="374292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993840" y="5470200"/>
              <a:ext cx="28188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30800" y="3742920"/>
              <a:ext cx="0" cy="4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61600" y="4228920"/>
              <a:ext cx="3380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61600" y="4336560"/>
              <a:ext cx="3380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0800" y="43365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23560" y="4768560"/>
              <a:ext cx="1634400" cy="1403640"/>
            </a:xfrm>
            <a:custGeom>
              <a:avLst/>
              <a:gdLst/>
              <a:ahLst/>
              <a:rect l="l" t="t" r="r" b="b"/>
              <a:pathLst>
                <a:path w="1392" h="1248">
                  <a:moveTo>
                    <a:pt x="0" y="0"/>
                  </a:moveTo>
                  <a:lnTo>
                    <a:pt x="624" y="0"/>
                  </a:lnTo>
                  <a:lnTo>
                    <a:pt x="624" y="1248"/>
                  </a:lnTo>
                  <a:lnTo>
                    <a:pt x="1392" y="1248"/>
                  </a:lnTo>
                  <a:lnTo>
                    <a:pt x="1392" y="8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85520" y="5470200"/>
              <a:ext cx="1408680" cy="32364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120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65240" y="5740200"/>
              <a:ext cx="563760" cy="27000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0" y="240"/>
                  </a:moveTo>
                  <a:lnTo>
                    <a:pt x="192" y="240"/>
                  </a:lnTo>
                  <a:lnTo>
                    <a:pt x="192" y="0"/>
                  </a:lnTo>
                  <a:lnTo>
                    <a:pt x="336" y="0"/>
                  </a:lnTo>
                  <a:lnTo>
                    <a:pt x="336" y="240"/>
                  </a:lnTo>
                  <a:lnTo>
                    <a:pt x="48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867280" y="3581280"/>
            <a:ext cx="990720" cy="167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6134040" y="40766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43600" y="4343400"/>
            <a:ext cx="228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4114800"/>
            <a:ext cx="0" cy="5335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3962520"/>
            <a:ext cx="533160" cy="152280"/>
          </a:xfrm>
          <a:custGeom>
            <a:avLst/>
            <a:gdLst/>
            <a:ahLst/>
            <a:rect l="l" t="t" r="r" b="b"/>
            <a:pathLst>
              <a:path w="432" h="96">
                <a:moveTo>
                  <a:pt x="0" y="96"/>
                </a:moveTo>
                <a:lnTo>
                  <a:pt x="0" y="0"/>
                </a:lnTo>
                <a:lnTo>
                  <a:pt x="432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4572000"/>
            <a:ext cx="53316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144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38880" y="3733920"/>
            <a:ext cx="152640" cy="3808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91520" y="3733920"/>
            <a:ext cx="152280" cy="3808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3962520"/>
            <a:ext cx="609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0" y="3886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3886200"/>
            <a:ext cx="1066680" cy="3049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672" y="0"/>
                </a:lnTo>
                <a:lnTo>
                  <a:pt x="672" y="192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0" y="4952880"/>
            <a:ext cx="1752480" cy="152640"/>
          </a:xfrm>
          <a:custGeom>
            <a:avLst/>
            <a:gdLst/>
            <a:ahLst/>
            <a:rect l="l" t="t" r="r" b="b"/>
            <a:pathLst>
              <a:path w="1104" h="96">
                <a:moveTo>
                  <a:pt x="0" y="96"/>
                </a:moveTo>
                <a:lnTo>
                  <a:pt x="1104" y="96"/>
                </a:lnTo>
                <a:lnTo>
                  <a:pt x="1104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6080" y="4572000"/>
            <a:ext cx="3049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48720" y="3886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4572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343400"/>
            <a:ext cx="533520" cy="30492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288"/>
                </a:moveTo>
                <a:lnTo>
                  <a:pt x="192" y="288"/>
                </a:lnTo>
                <a:lnTo>
                  <a:pt x="192" y="0"/>
                </a:lnTo>
                <a:lnTo>
                  <a:pt x="432" y="0"/>
                </a:lnTo>
                <a:lnTo>
                  <a:pt x="432" y="288"/>
                </a:lnTo>
                <a:lnTo>
                  <a:pt x="624" y="288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81880" y="3505320"/>
            <a:ext cx="381240" cy="2286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288"/>
                </a:moveTo>
                <a:lnTo>
                  <a:pt x="192" y="288"/>
                </a:lnTo>
                <a:lnTo>
                  <a:pt x="192" y="0"/>
                </a:lnTo>
                <a:lnTo>
                  <a:pt x="432" y="0"/>
                </a:lnTo>
                <a:lnTo>
                  <a:pt x="432" y="288"/>
                </a:lnTo>
                <a:lnTo>
                  <a:pt x="624" y="288"/>
                </a:lnTo>
              </a:path>
            </a:pathLst>
          </a:cu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2666880"/>
            <a:ext cx="3581280" cy="914400"/>
          </a:xfrm>
          <a:custGeom>
            <a:avLst/>
            <a:gdLst/>
            <a:ahLst/>
            <a:rect l="l" t="t" r="r" b="b"/>
            <a:pathLst>
              <a:path w="2544" h="528">
                <a:moveTo>
                  <a:pt x="2544" y="432"/>
                </a:moveTo>
                <a:cubicBezTo>
                  <a:pt x="2532" y="348"/>
                  <a:pt x="2520" y="264"/>
                  <a:pt x="2352" y="192"/>
                </a:cubicBezTo>
                <a:cubicBezTo>
                  <a:pt x="2184" y="120"/>
                  <a:pt x="1840" y="0"/>
                  <a:pt x="1536" y="0"/>
                </a:cubicBezTo>
                <a:cubicBezTo>
                  <a:pt x="1232" y="0"/>
                  <a:pt x="784" y="104"/>
                  <a:pt x="528" y="192"/>
                </a:cubicBezTo>
                <a:cubicBezTo>
                  <a:pt x="272" y="280"/>
                  <a:pt x="136" y="40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2692440"/>
            <a:ext cx="6172200" cy="965160"/>
          </a:xfrm>
          <a:custGeom>
            <a:avLst/>
            <a:gdLst/>
            <a:ahLst/>
            <a:rect l="l" t="t" r="r" b="b"/>
            <a:pathLst>
              <a:path w="3888" h="608">
                <a:moveTo>
                  <a:pt x="3888" y="608"/>
                </a:moveTo>
                <a:cubicBezTo>
                  <a:pt x="3728" y="384"/>
                  <a:pt x="3568" y="160"/>
                  <a:pt x="3072" y="80"/>
                </a:cubicBezTo>
                <a:cubicBezTo>
                  <a:pt x="2576" y="0"/>
                  <a:pt x="1424" y="72"/>
                  <a:pt x="912" y="128"/>
                </a:cubicBezTo>
                <a:cubicBezTo>
                  <a:pt x="400" y="184"/>
                  <a:pt x="200" y="300"/>
                  <a:pt x="0" y="416"/>
                </a:cubicBezTo>
              </a:path>
            </a:pathLst>
          </a:custGeom>
          <a:noFill/>
          <a:ln w="381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50600" y="20574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ahoma"/>
              </a:rPr>
              <a:t>共模干扰耦合路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3822840"/>
            <a:ext cx="799920" cy="1206360"/>
          </a:xfrm>
          <a:custGeom>
            <a:avLst/>
            <a:gdLst/>
            <a:ahLst/>
            <a:rect l="l" t="t" r="r" b="b"/>
            <a:pathLst>
              <a:path w="504" h="760">
                <a:moveTo>
                  <a:pt x="96" y="760"/>
                </a:moveTo>
                <a:cubicBezTo>
                  <a:pt x="236" y="720"/>
                  <a:pt x="376" y="680"/>
                  <a:pt x="432" y="568"/>
                </a:cubicBezTo>
                <a:cubicBezTo>
                  <a:pt x="488" y="456"/>
                  <a:pt x="504" y="176"/>
                  <a:pt x="432" y="88"/>
                </a:cubicBezTo>
                <a:cubicBezTo>
                  <a:pt x="360" y="0"/>
                  <a:pt x="180" y="20"/>
                  <a:pt x="0" y="4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干扰滤波器的种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600200" y="2133720"/>
            <a:ext cx="6400440" cy="3962160"/>
            <a:chOff x="1600200" y="2133720"/>
            <a:chExt cx="6400440" cy="3962160"/>
          </a:xfrm>
        </p:grpSpPr>
        <p:sp>
          <p:nvSpPr>
            <p:cNvPr id="399" name=""/>
            <p:cNvSpPr/>
            <p:nvPr/>
          </p:nvSpPr>
          <p:spPr>
            <a:xfrm>
              <a:off x="2376000" y="2274840"/>
              <a:ext cx="0" cy="162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76000" y="3902400"/>
              <a:ext cx="239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79200" y="2274840"/>
              <a:ext cx="0" cy="162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79200" y="3902400"/>
              <a:ext cx="23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79200" y="4468320"/>
              <a:ext cx="0" cy="162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1200" y="4468320"/>
              <a:ext cx="0" cy="162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11200" y="6095880"/>
              <a:ext cx="239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79200" y="6095880"/>
              <a:ext cx="252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64640" y="213372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衰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68200" y="213372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衰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00200" y="432720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衰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8200" y="432720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衰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76000" y="2770200"/>
              <a:ext cx="2068560" cy="1131840"/>
            </a:xfrm>
            <a:custGeom>
              <a:avLst/>
              <a:gdLst/>
              <a:ahLst/>
              <a:rect l="l" t="t" r="r" b="b"/>
              <a:pathLst>
                <a:path w="1536" h="768">
                  <a:moveTo>
                    <a:pt x="0" y="768"/>
                  </a:moveTo>
                  <a:lnTo>
                    <a:pt x="432" y="768"/>
                  </a:lnTo>
                  <a:lnTo>
                    <a:pt x="960" y="0"/>
                  </a:lnTo>
                  <a:lnTo>
                    <a:pt x="15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79200" y="2770200"/>
              <a:ext cx="1810440" cy="1131840"/>
            </a:xfrm>
            <a:custGeom>
              <a:avLst/>
              <a:gdLst/>
              <a:ahLst/>
              <a:rect l="l" t="t" r="r" b="b"/>
              <a:pathLst>
                <a:path w="1344" h="768">
                  <a:moveTo>
                    <a:pt x="0" y="0"/>
                  </a:moveTo>
                  <a:lnTo>
                    <a:pt x="720" y="0"/>
                  </a:lnTo>
                  <a:lnTo>
                    <a:pt x="1344" y="76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63720" y="241668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低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94400" y="446832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带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66360" y="241668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高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11200" y="4893120"/>
              <a:ext cx="2392200" cy="1202400"/>
            </a:xfrm>
            <a:custGeom>
              <a:avLst/>
              <a:gdLst/>
              <a:ahLst/>
              <a:rect l="l" t="t" r="r" b="b"/>
              <a:pathLst>
                <a:path w="1776" h="816">
                  <a:moveTo>
                    <a:pt x="0" y="0"/>
                  </a:moveTo>
                  <a:lnTo>
                    <a:pt x="384" y="0"/>
                  </a:lnTo>
                  <a:lnTo>
                    <a:pt x="672" y="816"/>
                  </a:lnTo>
                  <a:lnTo>
                    <a:pt x="1008" y="816"/>
                  </a:lnTo>
                  <a:lnTo>
                    <a:pt x="1440" y="48"/>
                  </a:lnTo>
                  <a:lnTo>
                    <a:pt x="177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46832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带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79200" y="4893120"/>
              <a:ext cx="2198160" cy="1202400"/>
            </a:xfrm>
            <a:custGeom>
              <a:avLst/>
              <a:gdLst/>
              <a:ahLst/>
              <a:rect l="l" t="t" r="r" b="b"/>
              <a:pathLst>
                <a:path w="1632" h="816">
                  <a:moveTo>
                    <a:pt x="0" y="816"/>
                  </a:moveTo>
                  <a:lnTo>
                    <a:pt x="528" y="816"/>
                  </a:lnTo>
                  <a:lnTo>
                    <a:pt x="864" y="0"/>
                  </a:lnTo>
                  <a:lnTo>
                    <a:pt x="1296" y="0"/>
                  </a:lnTo>
                  <a:lnTo>
                    <a:pt x="1632" y="8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93880" y="3533760"/>
              <a:ext cx="64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87000" y="3831840"/>
              <a:ext cx="0" cy="7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76000" y="376092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68760" y="3124080"/>
              <a:ext cx="1228320" cy="282960"/>
            </a:xfrm>
            <a:prstGeom prst="wedgeRectCallout">
              <a:avLst>
                <a:gd name="adj1" fmla="val -84648"/>
                <a:gd name="adj2" fmla="val 2218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截止频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52320" y="917280"/>
            <a:ext cx="68562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低通滤波器类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1212840" y="28018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9000" y="280188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47880" y="3208320"/>
            <a:ext cx="28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47880" y="3276720"/>
            <a:ext cx="28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89000" y="327672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76240" y="3683160"/>
            <a:ext cx="4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47880" y="3751200"/>
            <a:ext cx="28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17720" y="3817800"/>
            <a:ext cx="14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97320" y="280188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90880" y="2666880"/>
            <a:ext cx="1396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72040" y="2666880"/>
            <a:ext cx="14112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0560" y="2666880"/>
            <a:ext cx="1414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54640" y="2666880"/>
            <a:ext cx="1396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13160" y="2666880"/>
            <a:ext cx="1414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94320" y="280188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49760" y="2870280"/>
            <a:ext cx="9856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36560" y="4564080"/>
            <a:ext cx="1396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76240" y="4564080"/>
            <a:ext cx="1414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17720" y="4564080"/>
            <a:ext cx="14112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8840" y="4564080"/>
            <a:ext cx="1414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0320" y="4564080"/>
            <a:ext cx="1396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469908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65280" y="4767120"/>
            <a:ext cx="987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40000" y="4699080"/>
            <a:ext cx="3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19600" y="4564080"/>
            <a:ext cx="14112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0720" y="4564080"/>
            <a:ext cx="1414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02200" y="4564080"/>
            <a:ext cx="14112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38440" y="4564080"/>
            <a:ext cx="1414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79920" y="4564080"/>
            <a:ext cx="1396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86000" y="4699080"/>
            <a:ext cx="3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67160" y="320832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7160" y="327672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08280" y="280188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08280" y="327672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97320" y="3683160"/>
            <a:ext cx="42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67160" y="375120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38440" y="3817800"/>
            <a:ext cx="14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67160" y="4767120"/>
            <a:ext cx="987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43320" y="4699080"/>
            <a:ext cx="70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94320" y="510552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35440" y="469908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94320" y="51735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35440" y="517356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24480" y="5580000"/>
            <a:ext cx="42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94320" y="564660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65600" y="5715000"/>
            <a:ext cx="14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15040" y="2666880"/>
            <a:ext cx="1414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56520" y="2666880"/>
            <a:ext cx="14112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97640" y="2666880"/>
            <a:ext cx="1396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01080" y="2666880"/>
            <a:ext cx="14112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73920" y="2666880"/>
            <a:ext cx="14112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42200" y="2666880"/>
            <a:ext cx="14112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83320" y="2666880"/>
            <a:ext cx="1414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4800" y="2666880"/>
            <a:ext cx="139680" cy="27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37320" y="280188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22920" y="2801880"/>
            <a:ext cx="35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64480" y="2801880"/>
            <a:ext cx="3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89760" y="327672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89760" y="280188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0080" y="3208320"/>
            <a:ext cx="28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0080" y="3276720"/>
            <a:ext cx="28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78800" y="3683160"/>
            <a:ext cx="42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0080" y="3751200"/>
            <a:ext cx="28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19920" y="3817800"/>
            <a:ext cx="14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34240" y="2870280"/>
            <a:ext cx="7743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30880" y="2870280"/>
            <a:ext cx="77472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67480" y="4564080"/>
            <a:ext cx="14112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8600" y="4564080"/>
            <a:ext cx="1414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0080" y="4564080"/>
            <a:ext cx="1396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89760" y="4564080"/>
            <a:ext cx="14112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30880" y="4564080"/>
            <a:ext cx="141480" cy="27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62600" y="469908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72360" y="469908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67480" y="4767120"/>
            <a:ext cx="77472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73920" y="510552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73920" y="51735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53160" y="510552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53160" y="51735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15040" y="469908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15040" y="517356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94640" y="469908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17356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04080" y="5580000"/>
            <a:ext cx="42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483320" y="5580000"/>
            <a:ext cx="42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73920" y="564660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53160" y="564660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45200" y="5715000"/>
            <a:ext cx="14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4800" y="5715000"/>
            <a:ext cx="13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40000" y="3208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13160" y="3208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342200" y="31417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76240" y="503712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08280" y="4970520"/>
            <a:ext cx="9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反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88200" y="50371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19280" y="685440"/>
            <a:ext cx="685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器件数与插入损耗的关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057400" y="198072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60958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057400" y="3200040"/>
            <a:ext cx="5468760" cy="2895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057400" y="2285640"/>
            <a:ext cx="3710160" cy="3809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81080" y="53341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4572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81080" y="3809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2286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479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205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76360" y="6095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c                10fc            100fc             1000fc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57400" y="22860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6470280" y="2285640"/>
            <a:ext cx="1260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516480" y="2285640"/>
            <a:ext cx="1728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959360" y="2285640"/>
            <a:ext cx="3492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057400" y="2285640"/>
            <a:ext cx="1881360" cy="3809880"/>
          </a:xfrm>
          <a:prstGeom prst="line">
            <a:avLst/>
          </a:prstGeom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057400" y="2285640"/>
            <a:ext cx="2514600" cy="3809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057400" y="2285640"/>
            <a:ext cx="1459080" cy="3809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66880" y="1905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阶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阶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39760" y="30481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9760" y="38098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39760" y="45720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39760" y="53341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4876920"/>
            <a:ext cx="20574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20N/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十倍频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6N/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倍频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840960" y="3048120"/>
            <a:ext cx="546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ahoma"/>
              </a:rPr>
              <a:t>插入损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5564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确定滤波器阶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961920" y="2590920"/>
            <a:ext cx="1447920" cy="1028520"/>
          </a:xfrm>
          <a:custGeom>
            <a:avLst/>
            <a:gdLst/>
            <a:ahLst/>
            <a:rect l="l" t="t" r="r" b="b"/>
            <a:pathLst>
              <a:path w="1104" h="648">
                <a:moveTo>
                  <a:pt x="0" y="24"/>
                </a:moveTo>
                <a:cubicBezTo>
                  <a:pt x="64" y="12"/>
                  <a:pt x="128" y="0"/>
                  <a:pt x="192" y="24"/>
                </a:cubicBezTo>
                <a:cubicBezTo>
                  <a:pt x="256" y="48"/>
                  <a:pt x="320" y="160"/>
                  <a:pt x="384" y="168"/>
                </a:cubicBezTo>
                <a:cubicBezTo>
                  <a:pt x="448" y="176"/>
                  <a:pt x="504" y="88"/>
                  <a:pt x="576" y="72"/>
                </a:cubicBezTo>
                <a:cubicBezTo>
                  <a:pt x="648" y="56"/>
                  <a:pt x="744" y="32"/>
                  <a:pt x="816" y="72"/>
                </a:cubicBezTo>
                <a:cubicBezTo>
                  <a:pt x="888" y="112"/>
                  <a:pt x="960" y="216"/>
                  <a:pt x="1008" y="312"/>
                </a:cubicBezTo>
                <a:cubicBezTo>
                  <a:pt x="1056" y="408"/>
                  <a:pt x="1080" y="528"/>
                  <a:pt x="1104" y="648"/>
                </a:cubicBezTo>
              </a:path>
            </a:pathLst>
          </a:custGeom>
          <a:solidFill>
            <a:srgbClr val="00e4a8"/>
          </a:solidFill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61920" y="2590920"/>
            <a:ext cx="152424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961920" y="2057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61920" y="358128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61920" y="2514600"/>
            <a:ext cx="2286000" cy="990720"/>
          </a:xfrm>
          <a:custGeom>
            <a:avLst/>
            <a:gdLst/>
            <a:ahLst/>
            <a:rect l="l" t="t" r="r" b="b"/>
            <a:pathLst>
              <a:path w="1776" h="672">
                <a:moveTo>
                  <a:pt x="0" y="0"/>
                </a:moveTo>
                <a:lnTo>
                  <a:pt x="1056" y="0"/>
                </a:lnTo>
                <a:lnTo>
                  <a:pt x="1776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8124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50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43360" y="2514600"/>
            <a:ext cx="75960" cy="1066680"/>
          </a:xfrm>
          <a:custGeom>
            <a:avLst/>
            <a:gdLst/>
            <a:ahLst/>
            <a:rect l="l" t="t" r="r" b="b"/>
            <a:pathLst>
              <a:path w="144" h="672">
                <a:moveTo>
                  <a:pt x="0" y="624"/>
                </a:moveTo>
                <a:lnTo>
                  <a:pt x="48" y="0"/>
                </a:lnTo>
                <a:lnTo>
                  <a:pt x="144" y="67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220968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欲衰减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2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095640" y="259092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2286000"/>
            <a:ext cx="266688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4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6=24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至少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阶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61920" y="5067360"/>
            <a:ext cx="838440" cy="1028520"/>
          </a:xfrm>
          <a:custGeom>
            <a:avLst/>
            <a:gdLst/>
            <a:ahLst/>
            <a:rect l="l" t="t" r="r" b="b"/>
            <a:pathLst>
              <a:path w="1104" h="648">
                <a:moveTo>
                  <a:pt x="0" y="24"/>
                </a:moveTo>
                <a:cubicBezTo>
                  <a:pt x="64" y="12"/>
                  <a:pt x="128" y="0"/>
                  <a:pt x="192" y="24"/>
                </a:cubicBezTo>
                <a:cubicBezTo>
                  <a:pt x="256" y="48"/>
                  <a:pt x="320" y="160"/>
                  <a:pt x="384" y="168"/>
                </a:cubicBezTo>
                <a:cubicBezTo>
                  <a:pt x="448" y="176"/>
                  <a:pt x="504" y="88"/>
                  <a:pt x="576" y="72"/>
                </a:cubicBezTo>
                <a:cubicBezTo>
                  <a:pt x="648" y="56"/>
                  <a:pt x="744" y="32"/>
                  <a:pt x="816" y="72"/>
                </a:cubicBezTo>
                <a:cubicBezTo>
                  <a:pt x="888" y="112"/>
                  <a:pt x="960" y="216"/>
                  <a:pt x="1008" y="312"/>
                </a:cubicBezTo>
                <a:cubicBezTo>
                  <a:pt x="1056" y="408"/>
                  <a:pt x="1080" y="528"/>
                  <a:pt x="1104" y="648"/>
                </a:cubicBezTo>
              </a:path>
            </a:pathLst>
          </a:custGeom>
          <a:solidFill>
            <a:srgbClr val="00e4a8"/>
          </a:solidFill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61920" y="5105520"/>
            <a:ext cx="91440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961920" y="47242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61920" y="609588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43360" y="5029200"/>
            <a:ext cx="75960" cy="1066680"/>
          </a:xfrm>
          <a:custGeom>
            <a:avLst/>
            <a:gdLst/>
            <a:ahLst/>
            <a:rect l="l" t="t" r="r" b="b"/>
            <a:pathLst>
              <a:path w="144" h="672">
                <a:moveTo>
                  <a:pt x="0" y="624"/>
                </a:moveTo>
                <a:lnTo>
                  <a:pt x="48" y="0"/>
                </a:lnTo>
                <a:lnTo>
                  <a:pt x="144" y="67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61920" y="5029200"/>
            <a:ext cx="2743200" cy="1066680"/>
          </a:xfrm>
          <a:custGeom>
            <a:avLst/>
            <a:gdLst/>
            <a:ahLst/>
            <a:rect l="l" t="t" r="r" b="b"/>
            <a:pathLst>
              <a:path w="1728" h="672">
                <a:moveTo>
                  <a:pt x="0" y="0"/>
                </a:moveTo>
                <a:lnTo>
                  <a:pt x="384" y="0"/>
                </a:lnTo>
                <a:lnTo>
                  <a:pt x="1728" y="67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6110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10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533920" y="4927680"/>
            <a:ext cx="3076560" cy="157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20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阶滤波器就可以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为了保险，可用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05320" y="481500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欲衰减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2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095640" y="5181480"/>
            <a:ext cx="9907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080" y="4114800"/>
            <a:ext cx="37339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的数值决定截止频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739880" y="2819520"/>
            <a:ext cx="622440" cy="1295280"/>
          </a:xfrm>
          <a:custGeom>
            <a:avLst/>
            <a:gdLst/>
            <a:ahLst/>
            <a:rect l="l" t="t" r="r" b="b"/>
            <a:pathLst>
              <a:path w="392" h="816">
                <a:moveTo>
                  <a:pt x="392" y="0"/>
                </a:moveTo>
                <a:cubicBezTo>
                  <a:pt x="304" y="64"/>
                  <a:pt x="216" y="128"/>
                  <a:pt x="152" y="240"/>
                </a:cubicBezTo>
                <a:cubicBezTo>
                  <a:pt x="88" y="352"/>
                  <a:pt x="16" y="576"/>
                  <a:pt x="8" y="672"/>
                </a:cubicBezTo>
                <a:cubicBezTo>
                  <a:pt x="0" y="768"/>
                  <a:pt x="52" y="792"/>
                  <a:pt x="104" y="816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133720" y="2286000"/>
            <a:ext cx="3808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4800600"/>
            <a:ext cx="304560" cy="3808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457200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cubicBezTo>
                  <a:pt x="36" y="108"/>
                  <a:pt x="72" y="72"/>
                  <a:pt x="144" y="48"/>
                </a:cubicBezTo>
                <a:cubicBezTo>
                  <a:pt x="216" y="24"/>
                  <a:pt x="324" y="12"/>
                  <a:pt x="43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86400" y="3733920"/>
            <a:ext cx="3276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阶数决定过渡带的陡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3073320"/>
            <a:ext cx="3352680" cy="660600"/>
          </a:xfrm>
          <a:custGeom>
            <a:avLst/>
            <a:gdLst/>
            <a:ahLst/>
            <a:rect l="l" t="t" r="r" b="b"/>
            <a:pathLst>
              <a:path w="2112" h="416">
                <a:moveTo>
                  <a:pt x="2112" y="416"/>
                </a:moveTo>
                <a:cubicBezTo>
                  <a:pt x="2016" y="376"/>
                  <a:pt x="1920" y="336"/>
                  <a:pt x="1776" y="272"/>
                </a:cubicBezTo>
                <a:cubicBezTo>
                  <a:pt x="1632" y="208"/>
                  <a:pt x="1496" y="64"/>
                  <a:pt x="1248" y="32"/>
                </a:cubicBezTo>
                <a:cubicBezTo>
                  <a:pt x="1000" y="0"/>
                  <a:pt x="496" y="64"/>
                  <a:pt x="288" y="80"/>
                </a:cubicBezTo>
                <a:cubicBezTo>
                  <a:pt x="80" y="96"/>
                  <a:pt x="40" y="112"/>
                  <a:pt x="0" y="12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4191120"/>
            <a:ext cx="3276360" cy="1676160"/>
          </a:xfrm>
          <a:custGeom>
            <a:avLst/>
            <a:gdLst/>
            <a:ahLst/>
            <a:rect l="l" t="t" r="r" b="b"/>
            <a:pathLst>
              <a:path w="2064" h="1056">
                <a:moveTo>
                  <a:pt x="2064" y="0"/>
                </a:moveTo>
                <a:cubicBezTo>
                  <a:pt x="1744" y="60"/>
                  <a:pt x="1424" y="120"/>
                  <a:pt x="1248" y="240"/>
                </a:cubicBezTo>
                <a:cubicBezTo>
                  <a:pt x="1072" y="360"/>
                  <a:pt x="1216" y="584"/>
                  <a:pt x="1008" y="720"/>
                </a:cubicBezTo>
                <a:cubicBezTo>
                  <a:pt x="800" y="856"/>
                  <a:pt x="400" y="956"/>
                  <a:pt x="0" y="1056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根据阻抗选用滤波电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447920" y="2409840"/>
          <a:ext cx="6095880" cy="2390760"/>
        </p:xfrm>
        <a:graphic>
          <a:graphicData uri="http://schemas.openxmlformats.org/drawingml/2006/table">
            <a:tbl>
              <a:tblPr/>
              <a:tblGrid>
                <a:gridCol w="1599840"/>
                <a:gridCol w="266724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源阻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电路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负载阻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多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多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多级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多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1066680" y="5029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规律：电容对高阻，电感对低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7218360" y="4114800"/>
            <a:ext cx="96840" cy="35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324480" y="4114800"/>
            <a:ext cx="1981080" cy="1676520"/>
            <a:chOff x="6324480" y="4114800"/>
            <a:chExt cx="1981080" cy="1676520"/>
          </a:xfrm>
        </p:grpSpPr>
        <p:sp>
          <p:nvSpPr>
            <p:cNvPr id="583" name=""/>
            <p:cNvSpPr/>
            <p:nvPr/>
          </p:nvSpPr>
          <p:spPr>
            <a:xfrm>
              <a:off x="8196120" y="4653000"/>
              <a:ext cx="109440" cy="479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6489360" y="5132520"/>
              <a:ext cx="1760400" cy="65880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3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33920" y="4473720"/>
              <a:ext cx="111240" cy="419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24480" y="5013360"/>
              <a:ext cx="330120" cy="358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15200" y="4114800"/>
              <a:ext cx="10872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24280" y="4114800"/>
              <a:ext cx="111240" cy="35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40520" y="4294080"/>
              <a:ext cx="66024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89360" y="4294080"/>
              <a:ext cx="716040" cy="17964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144"/>
                  </a:moveTo>
                  <a:lnTo>
                    <a:pt x="0" y="0"/>
                  </a:lnTo>
                  <a:lnTo>
                    <a:pt x="6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35880" y="4294080"/>
              <a:ext cx="713880" cy="3589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lnTo>
                    <a:pt x="624" y="0"/>
                  </a:lnTo>
                  <a:lnTo>
                    <a:pt x="624" y="3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插入损耗的估算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609480" y="2209320"/>
            <a:ext cx="0" cy="265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4792680"/>
            <a:ext cx="510552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77120" y="288756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3040200"/>
            <a:ext cx="3352680" cy="1752480"/>
          </a:xfrm>
          <a:custGeom>
            <a:avLst/>
            <a:gdLst/>
            <a:ahLst/>
            <a:rect l="l" t="t" r="r" b="b"/>
            <a:pathLst>
              <a:path w="2112" h="1104">
                <a:moveTo>
                  <a:pt x="0" y="1104"/>
                </a:moveTo>
                <a:lnTo>
                  <a:pt x="624" y="1104"/>
                </a:lnTo>
                <a:lnTo>
                  <a:pt x="2112" y="0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90920" y="49449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Fco = 1/(2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Rp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90920" y="456408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26589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64440" y="3016080"/>
            <a:ext cx="0" cy="78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42320" y="2714760"/>
            <a:ext cx="135000" cy="42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51560" y="2049480"/>
            <a:ext cx="1557360" cy="66528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lnTo>
                  <a:pt x="0" y="0"/>
                </a:lnTo>
                <a:lnTo>
                  <a:pt x="816" y="0"/>
                </a:lnTo>
                <a:lnTo>
                  <a:pt x="816" y="336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451560" y="3136320"/>
            <a:ext cx="1557360" cy="6649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lnTo>
                  <a:pt x="0" y="0"/>
                </a:lnTo>
                <a:lnTo>
                  <a:pt x="816" y="0"/>
                </a:lnTo>
                <a:lnTo>
                  <a:pt x="816" y="336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383160" y="2471760"/>
            <a:ext cx="136800" cy="42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3016080"/>
            <a:ext cx="40644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4440" y="2049480"/>
            <a:ext cx="0" cy="84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061040" y="2895480"/>
            <a:ext cx="40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61040" y="3016080"/>
            <a:ext cx="40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48520" y="29638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4944960"/>
            <a:ext cx="457200" cy="609840"/>
          </a:xfrm>
          <a:prstGeom prst="ellipse">
            <a:avLst/>
          </a:prstGeom>
          <a:noFill/>
          <a:ln w="28440">
            <a:solidFill>
              <a:srgbClr val="cc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6010200"/>
            <a:ext cx="144792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Zs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Z</a:t>
            </a:r>
            <a:r>
              <a:rPr b="1" lang="zh-CN" sz="1800" spc="-1" strike="noStrike" baseline="-25000">
                <a:solidFill>
                  <a:srgbClr val="ff0000"/>
                </a:solidFill>
                <a:latin typeface="Tahoma"/>
              </a:rPr>
              <a:t>L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816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9386000">
            <a:off x="2853360" y="3420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IL = 20 lg(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R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9386000">
            <a:off x="914760" y="311580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IL = 20 lg(</a:t>
            </a:r>
            <a:r>
              <a:rPr b="1" lang="zh-CN" sz="2400" spc="-1" strike="noStrike">
                <a:solidFill>
                  <a:srgbClr val="006600"/>
                </a:solidFill>
                <a:latin typeface="Symbol"/>
                <a:ea typeface="Symbol"/>
              </a:rPr>
              <a:t>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L/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19320" y="5326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Fco = Rs/(2</a:t>
            </a:r>
            <a:r>
              <a:rPr b="1" lang="zh-CN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 L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3040200"/>
            <a:ext cx="2971800" cy="1752480"/>
          </a:xfrm>
          <a:custGeom>
            <a:avLst/>
            <a:gdLst/>
            <a:ahLst/>
            <a:rect l="l" t="t" r="r" b="b"/>
            <a:pathLst>
              <a:path w="1872" h="1104">
                <a:moveTo>
                  <a:pt x="0" y="1104"/>
                </a:moveTo>
                <a:lnTo>
                  <a:pt x="384" y="1104"/>
                </a:lnTo>
                <a:lnTo>
                  <a:pt x="1872" y="0"/>
                </a:ln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00200" y="456408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95480" y="6019920"/>
            <a:ext cx="1524240" cy="405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Tahoma"/>
              </a:rPr>
              <a:t>Zs</a:t>
            </a:r>
            <a:r>
              <a:rPr b="1" lang="zh-CN" sz="1800" spc="-1" strike="noStrike">
                <a:solidFill>
                  <a:srgbClr val="006600"/>
                </a:solidFill>
                <a:latin typeface="Tahoma"/>
              </a:rPr>
              <a:t>、</a:t>
            </a:r>
            <a:r>
              <a:rPr b="1" lang="zh-CN" sz="1800" spc="-1" strike="noStrike">
                <a:solidFill>
                  <a:srgbClr val="006600"/>
                </a:solidFill>
                <a:latin typeface="Tahoma"/>
              </a:rPr>
              <a:t>Z</a:t>
            </a:r>
            <a:r>
              <a:rPr b="1" lang="zh-CN" sz="1800" spc="-1" strike="noStrike" baseline="-25000">
                <a:solidFill>
                  <a:srgbClr val="006600"/>
                </a:solidFill>
                <a:latin typeface="Tahoma"/>
              </a:rPr>
              <a:t>L</a:t>
            </a:r>
            <a:r>
              <a:rPr b="1" lang="zh-CN" sz="1800" spc="-1" strike="noStrike">
                <a:solidFill>
                  <a:srgbClr val="006600"/>
                </a:solidFill>
                <a:latin typeface="Tahoma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09680" y="5334120"/>
            <a:ext cx="457200" cy="457200"/>
          </a:xfrm>
          <a:prstGeom prst="ellipse">
            <a:avLst/>
          </a:prstGeom>
          <a:noFill/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91320"/>
            <a:ext cx="457200" cy="22860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5402160"/>
            <a:ext cx="381240" cy="61776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262560" y="4952880"/>
            <a:ext cx="2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7712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943600" y="4433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Z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388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1880" y="47386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路阻抗对滤波特性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419360" cy="33195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5114880" y="2286000"/>
            <a:ext cx="3571920" cy="31845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2233080" y="563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三端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17280" y="563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铁氧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器件参数的确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981080" y="2362320"/>
            <a:ext cx="1143000" cy="914400"/>
            <a:chOff x="1981080" y="2362320"/>
            <a:chExt cx="1143000" cy="914400"/>
          </a:xfrm>
        </p:grpSpPr>
        <p:sp>
          <p:nvSpPr>
            <p:cNvPr id="636" name=""/>
            <p:cNvSpPr/>
            <p:nvPr/>
          </p:nvSpPr>
          <p:spPr>
            <a:xfrm>
              <a:off x="1981080" y="2514600"/>
              <a:ext cx="152640" cy="609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2362320"/>
              <a:ext cx="1066680" cy="15228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192"/>
                  </a:moveTo>
                  <a:lnTo>
                    <a:pt x="0" y="0"/>
                  </a:lnTo>
                  <a:lnTo>
                    <a:pt x="6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057400" y="3124080"/>
              <a:ext cx="1066680" cy="15264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192"/>
                  </a:moveTo>
                  <a:lnTo>
                    <a:pt x="0" y="0"/>
                  </a:lnTo>
                  <a:lnTo>
                    <a:pt x="6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3124080" y="2209680"/>
            <a:ext cx="274320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866920" y="2362320"/>
            <a:ext cx="1143000" cy="914400"/>
            <a:chOff x="5866920" y="2362320"/>
            <a:chExt cx="1143000" cy="914400"/>
          </a:xfrm>
        </p:grpSpPr>
        <p:sp>
          <p:nvSpPr>
            <p:cNvPr id="641" name=""/>
            <p:cNvSpPr/>
            <p:nvPr/>
          </p:nvSpPr>
          <p:spPr>
            <a:xfrm flipH="1">
              <a:off x="6857280" y="2514600"/>
              <a:ext cx="152640" cy="609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66560" y="2362320"/>
              <a:ext cx="1066680" cy="15228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192"/>
                  </a:moveTo>
                  <a:lnTo>
                    <a:pt x="0" y="0"/>
                  </a:lnTo>
                  <a:lnTo>
                    <a:pt x="6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5866560" y="3124080"/>
              <a:ext cx="1066680" cy="15264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192"/>
                  </a:moveTo>
                  <a:lnTo>
                    <a:pt x="0" y="0"/>
                  </a:lnTo>
                  <a:lnTo>
                    <a:pt x="6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352680" y="2438280"/>
            <a:ext cx="914040" cy="380880"/>
            <a:chOff x="3352680" y="2438280"/>
            <a:chExt cx="914040" cy="380880"/>
          </a:xfrm>
        </p:grpSpPr>
        <p:sp>
          <p:nvSpPr>
            <p:cNvPr id="645" name=""/>
            <p:cNvSpPr/>
            <p:nvPr/>
          </p:nvSpPr>
          <p:spPr>
            <a:xfrm>
              <a:off x="3638520" y="2438280"/>
              <a:ext cx="114120" cy="3045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52640" y="2438280"/>
              <a:ext cx="114120" cy="3045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66760" y="2438280"/>
              <a:ext cx="114480" cy="3045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24040" y="2590560"/>
              <a:ext cx="5713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52680" y="2590560"/>
              <a:ext cx="285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81240" y="2590560"/>
              <a:ext cx="285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038480" y="2590920"/>
            <a:ext cx="304920" cy="532800"/>
            <a:chOff x="4038480" y="2590920"/>
            <a:chExt cx="304920" cy="532800"/>
          </a:xfrm>
        </p:grpSpPr>
        <p:sp>
          <p:nvSpPr>
            <p:cNvPr id="652" name=""/>
            <p:cNvSpPr/>
            <p:nvPr/>
          </p:nvSpPr>
          <p:spPr>
            <a:xfrm>
              <a:off x="4038480" y="281916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90760" y="2590920"/>
              <a:ext cx="0" cy="228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90760" y="2895480"/>
              <a:ext cx="0" cy="228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38480" y="28954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114800" y="2438280"/>
            <a:ext cx="914040" cy="380880"/>
            <a:chOff x="4114800" y="2438280"/>
            <a:chExt cx="914040" cy="380880"/>
          </a:xfrm>
        </p:grpSpPr>
        <p:sp>
          <p:nvSpPr>
            <p:cNvPr id="657" name=""/>
            <p:cNvSpPr/>
            <p:nvPr/>
          </p:nvSpPr>
          <p:spPr>
            <a:xfrm>
              <a:off x="4400640" y="2438280"/>
              <a:ext cx="114120" cy="3045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14760" y="2438280"/>
              <a:ext cx="114120" cy="3045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28880" y="2438280"/>
              <a:ext cx="114480" cy="3045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86160" y="2590560"/>
              <a:ext cx="5713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14800" y="2590560"/>
              <a:ext cx="285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43360" y="2590560"/>
              <a:ext cx="285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724280" y="2590920"/>
            <a:ext cx="304920" cy="532800"/>
            <a:chOff x="4724280" y="2590920"/>
            <a:chExt cx="304920" cy="532800"/>
          </a:xfrm>
        </p:grpSpPr>
        <p:sp>
          <p:nvSpPr>
            <p:cNvPr id="664" name=""/>
            <p:cNvSpPr/>
            <p:nvPr/>
          </p:nvSpPr>
          <p:spPr>
            <a:xfrm>
              <a:off x="4724280" y="281916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76560" y="2590920"/>
              <a:ext cx="0" cy="228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76560" y="2895480"/>
              <a:ext cx="0" cy="228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4280" y="28954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5257800" y="2286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819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01028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8080" y="4259160"/>
            <a:ext cx="7696440" cy="1432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L = R / 2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Tahoma"/>
              </a:rPr>
              <a:t>C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C = 1 / 2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RF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对于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形（多级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）和 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形（多级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）电路，最外边的电感或电容取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L/2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C/2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，中间的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际电容器的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152280" y="23623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2819520"/>
            <a:ext cx="2666880" cy="1600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5268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际电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38080" y="2590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理想电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5720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09480" y="25905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81480" y="20574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引线长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.6mm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的陶瓷电容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388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05120" y="541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28800" y="541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5334120"/>
            <a:ext cx="15264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5334120"/>
            <a:ext cx="15228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14600" y="5334120"/>
            <a:ext cx="15228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1080" y="55627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05120" y="5562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5562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4952880" y="2529000"/>
          <a:ext cx="3657600" cy="3644640"/>
        </p:xfrm>
        <a:graphic>
          <a:graphicData uri="http://schemas.openxmlformats.org/drawingml/2006/table">
            <a:tbl>
              <a:tblPr/>
              <a:tblGrid>
                <a:gridCol w="1295640"/>
                <a:gridCol w="2361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电容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谐振频率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00 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 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0 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0 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"/>
          <p:cNvSpPr/>
          <p:nvPr/>
        </p:nvSpPr>
        <p:spPr>
          <a:xfrm>
            <a:off x="1905120" y="4632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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648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76520" y="5715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5715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5410080"/>
            <a:ext cx="6094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2160" y="5638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09480" y="3047760"/>
            <a:ext cx="3429000" cy="1523880"/>
          </a:xfrm>
          <a:prstGeom prst="line">
            <a:avLst/>
          </a:prstGeom>
          <a:ln w="28440">
            <a:solidFill>
              <a:srgbClr val="00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480" y="4114800"/>
            <a:ext cx="2971800" cy="0"/>
          </a:xfrm>
          <a:prstGeom prst="line">
            <a:avLst/>
          </a:prstGeom>
          <a:ln cap="rnd" w="28440">
            <a:solidFill>
              <a:srgbClr val="b12a0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9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电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2895480"/>
            <a:ext cx="3352680" cy="1270080"/>
          </a:xfrm>
          <a:custGeom>
            <a:avLst/>
            <a:gdLst/>
            <a:ahLst/>
            <a:rect l="l" t="t" r="r" b="b"/>
            <a:pathLst>
              <a:path w="2112" h="800">
                <a:moveTo>
                  <a:pt x="0" y="0"/>
                </a:moveTo>
                <a:cubicBezTo>
                  <a:pt x="32" y="12"/>
                  <a:pt x="64" y="24"/>
                  <a:pt x="144" y="96"/>
                </a:cubicBezTo>
                <a:cubicBezTo>
                  <a:pt x="224" y="168"/>
                  <a:pt x="376" y="328"/>
                  <a:pt x="480" y="432"/>
                </a:cubicBezTo>
                <a:cubicBezTo>
                  <a:pt x="584" y="536"/>
                  <a:pt x="688" y="664"/>
                  <a:pt x="768" y="720"/>
                </a:cubicBezTo>
                <a:cubicBezTo>
                  <a:pt x="848" y="776"/>
                  <a:pt x="856" y="800"/>
                  <a:pt x="960" y="768"/>
                </a:cubicBezTo>
                <a:cubicBezTo>
                  <a:pt x="1064" y="736"/>
                  <a:pt x="1256" y="616"/>
                  <a:pt x="1392" y="528"/>
                </a:cubicBezTo>
                <a:cubicBezTo>
                  <a:pt x="1528" y="440"/>
                  <a:pt x="1656" y="320"/>
                  <a:pt x="1776" y="240"/>
                </a:cubicBezTo>
                <a:cubicBezTo>
                  <a:pt x="1896" y="160"/>
                  <a:pt x="2056" y="80"/>
                  <a:pt x="2112" y="4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12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电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滤波器的作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E03254_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589280" cy="41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86400" y="2209680"/>
            <a:ext cx="2590920" cy="762120"/>
          </a:xfrm>
          <a:prstGeom prst="wedgeEllipseCallout">
            <a:avLst>
              <a:gd name="adj1" fmla="val -79046"/>
              <a:gd name="adj2" fmla="val 18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电磁屏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276720"/>
            <a:ext cx="2895480" cy="761760"/>
          </a:xfrm>
          <a:prstGeom prst="wedgeEllipseCallout">
            <a:avLst>
              <a:gd name="adj1" fmla="val -109759"/>
              <a:gd name="adj2" fmla="val 18166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电磁干扰滤波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陶瓷电容谐振频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3995640" y="3267000"/>
            <a:ext cx="463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2206800"/>
            <a:ext cx="824040" cy="34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43000" y="2682720"/>
            <a:ext cx="8240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43000" y="4591080"/>
            <a:ext cx="8240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43000" y="5068800"/>
            <a:ext cx="824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43000" y="5664240"/>
            <a:ext cx="8240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43000" y="3160800"/>
            <a:ext cx="824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43000" y="3637080"/>
            <a:ext cx="8240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43000" y="4114800"/>
            <a:ext cx="824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84440" y="5772240"/>
            <a:ext cx="6164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Hz    100     1k      10k    100k   1M    10M   100M   1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92240" y="2432160"/>
            <a:ext cx="4932360" cy="334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08200" y="2432160"/>
            <a:ext cx="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225960" y="2432160"/>
            <a:ext cx="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41920" y="2432160"/>
            <a:ext cx="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459320" y="2432160"/>
            <a:ext cx="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75280" y="2432160"/>
            <a:ext cx="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308640" y="2432160"/>
            <a:ext cx="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91240" y="2432160"/>
            <a:ext cx="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92240" y="2909880"/>
            <a:ext cx="49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92240" y="3386160"/>
            <a:ext cx="49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92240" y="3863880"/>
            <a:ext cx="49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92240" y="4340160"/>
            <a:ext cx="49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92240" y="4818240"/>
            <a:ext cx="49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92240" y="5294160"/>
            <a:ext cx="49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92240" y="4699080"/>
            <a:ext cx="1387440" cy="107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92240" y="4221000"/>
            <a:ext cx="2003400" cy="1551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92240" y="3745080"/>
            <a:ext cx="2621160" cy="2027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92240" y="3267000"/>
            <a:ext cx="3237120" cy="2505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92240" y="2789280"/>
            <a:ext cx="3853080" cy="2982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146320" y="2432160"/>
            <a:ext cx="4316400" cy="3340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62280" y="2432160"/>
            <a:ext cx="4162320" cy="3101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79680" y="2432160"/>
            <a:ext cx="3544920" cy="262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3995640" y="3504960"/>
            <a:ext cx="2928960" cy="22669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613400" y="3983040"/>
            <a:ext cx="2311200" cy="17892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229360" y="4458960"/>
            <a:ext cx="1695240" cy="13129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45320" y="4937040"/>
            <a:ext cx="1079280" cy="8352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3386160"/>
            <a:ext cx="461880" cy="83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阻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49720" y="3029040"/>
            <a:ext cx="6174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0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87840" y="3505320"/>
            <a:ext cx="6159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0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79680" y="3863880"/>
            <a:ext cx="6159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00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3720" y="4340160"/>
            <a:ext cx="6159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zh-CN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71880" y="4102200"/>
            <a:ext cx="6159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47760" y="4937040"/>
            <a:ext cx="6159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0m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55920" y="4578480"/>
            <a:ext cx="7444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0" lang="zh-CN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zh-CN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078680" y="3386160"/>
            <a:ext cx="6174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078680" y="3863880"/>
            <a:ext cx="824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78680" y="4221000"/>
            <a:ext cx="82404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78680" y="4697280"/>
            <a:ext cx="8240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表面贴装电容的阻抗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54" name="991005e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1532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温度对陶瓷电容容量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1495440" y="2209680"/>
            <a:ext cx="23623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09640" y="20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0964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038240" y="29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1495440" y="2437920"/>
            <a:ext cx="2362320" cy="1295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6684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5284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91280" y="2201760"/>
            <a:ext cx="23623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10400" y="20638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57760" y="3816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62520" y="2376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962680" y="4030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248680" y="4030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19720" y="2577960"/>
            <a:ext cx="2362320" cy="1079640"/>
          </a:xfrm>
          <a:custGeom>
            <a:avLst/>
            <a:gdLst/>
            <a:ahLst/>
            <a:rect l="l" t="t" r="r" b="b"/>
            <a:pathLst>
              <a:path w="1536" h="680">
                <a:moveTo>
                  <a:pt x="0" y="680"/>
                </a:moveTo>
                <a:cubicBezTo>
                  <a:pt x="76" y="656"/>
                  <a:pt x="152" y="632"/>
                  <a:pt x="240" y="536"/>
                </a:cubicBezTo>
                <a:cubicBezTo>
                  <a:pt x="328" y="440"/>
                  <a:pt x="464" y="192"/>
                  <a:pt x="528" y="104"/>
                </a:cubicBezTo>
                <a:cubicBezTo>
                  <a:pt x="592" y="16"/>
                  <a:pt x="576" y="0"/>
                  <a:pt x="624" y="8"/>
                </a:cubicBezTo>
                <a:cubicBezTo>
                  <a:pt x="672" y="16"/>
                  <a:pt x="744" y="80"/>
                  <a:pt x="816" y="152"/>
                </a:cubicBezTo>
                <a:cubicBezTo>
                  <a:pt x="888" y="224"/>
                  <a:pt x="976" y="416"/>
                  <a:pt x="1056" y="440"/>
                </a:cubicBezTo>
                <a:cubicBezTo>
                  <a:pt x="1136" y="464"/>
                  <a:pt x="1240" y="328"/>
                  <a:pt x="1296" y="296"/>
                </a:cubicBezTo>
                <a:cubicBezTo>
                  <a:pt x="1352" y="264"/>
                  <a:pt x="1352" y="240"/>
                  <a:pt x="1392" y="248"/>
                </a:cubicBezTo>
                <a:cubicBezTo>
                  <a:pt x="1432" y="256"/>
                  <a:pt x="1484" y="300"/>
                  <a:pt x="1536" y="344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1972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10240" y="3276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219720" y="2971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57760" y="28195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24040" y="236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96040" y="22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7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981600" y="4800600"/>
            <a:ext cx="236196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448080" y="626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552840" y="4600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75300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3900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524400" y="5653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76680" y="50436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86360" y="4448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Y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10040" y="5257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53040" y="52578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7216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933720" y="5245200"/>
            <a:ext cx="2438640" cy="1155600"/>
          </a:xfrm>
          <a:custGeom>
            <a:avLst/>
            <a:gdLst/>
            <a:ahLst/>
            <a:rect l="l" t="t" r="r" b="b"/>
            <a:pathLst>
              <a:path w="1536" h="728">
                <a:moveTo>
                  <a:pt x="0" y="584"/>
                </a:moveTo>
                <a:cubicBezTo>
                  <a:pt x="224" y="416"/>
                  <a:pt x="448" y="248"/>
                  <a:pt x="576" y="152"/>
                </a:cubicBezTo>
                <a:cubicBezTo>
                  <a:pt x="704" y="56"/>
                  <a:pt x="696" y="0"/>
                  <a:pt x="768" y="8"/>
                </a:cubicBezTo>
                <a:cubicBezTo>
                  <a:pt x="840" y="16"/>
                  <a:pt x="912" y="104"/>
                  <a:pt x="1008" y="200"/>
                </a:cubicBezTo>
                <a:cubicBezTo>
                  <a:pt x="1104" y="296"/>
                  <a:pt x="1256" y="496"/>
                  <a:pt x="1344" y="584"/>
                </a:cubicBezTo>
                <a:cubicBezTo>
                  <a:pt x="1432" y="672"/>
                  <a:pt x="1484" y="700"/>
                  <a:pt x="1536" y="728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48616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3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7242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压对陶瓷电容容量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2028960" y="2195640"/>
            <a:ext cx="5867280" cy="335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71960" y="2195640"/>
            <a:ext cx="0" cy="33526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90920" y="2195640"/>
            <a:ext cx="0" cy="33526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10240" y="2195640"/>
            <a:ext cx="0" cy="33526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53240" y="2195640"/>
            <a:ext cx="0" cy="33526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28960" y="349092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028960" y="417672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28960" y="486252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04920" y="2881440"/>
            <a:ext cx="58676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28960" y="2703600"/>
            <a:ext cx="5867280" cy="1168200"/>
          </a:xfrm>
          <a:custGeom>
            <a:avLst/>
            <a:gdLst/>
            <a:ahLst/>
            <a:rect l="l" t="t" r="r" b="b"/>
            <a:pathLst>
              <a:path w="3696" h="736">
                <a:moveTo>
                  <a:pt x="0" y="112"/>
                </a:moveTo>
                <a:cubicBezTo>
                  <a:pt x="84" y="96"/>
                  <a:pt x="168" y="80"/>
                  <a:pt x="288" y="64"/>
                </a:cubicBezTo>
                <a:cubicBezTo>
                  <a:pt x="408" y="48"/>
                  <a:pt x="600" y="16"/>
                  <a:pt x="720" y="16"/>
                </a:cubicBezTo>
                <a:cubicBezTo>
                  <a:pt x="840" y="16"/>
                  <a:pt x="752" y="0"/>
                  <a:pt x="1008" y="64"/>
                </a:cubicBezTo>
                <a:cubicBezTo>
                  <a:pt x="1264" y="128"/>
                  <a:pt x="1808" y="288"/>
                  <a:pt x="2256" y="400"/>
                </a:cubicBezTo>
                <a:cubicBezTo>
                  <a:pt x="2704" y="512"/>
                  <a:pt x="3200" y="624"/>
                  <a:pt x="3696" y="736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28960" y="2678040"/>
            <a:ext cx="5867280" cy="2641680"/>
          </a:xfrm>
          <a:custGeom>
            <a:avLst/>
            <a:gdLst/>
            <a:ahLst/>
            <a:rect l="l" t="t" r="r" b="b"/>
            <a:pathLst>
              <a:path w="3696" h="1664">
                <a:moveTo>
                  <a:pt x="0" y="128"/>
                </a:moveTo>
                <a:cubicBezTo>
                  <a:pt x="108" y="88"/>
                  <a:pt x="216" y="48"/>
                  <a:pt x="288" y="32"/>
                </a:cubicBezTo>
                <a:cubicBezTo>
                  <a:pt x="360" y="16"/>
                  <a:pt x="384" y="0"/>
                  <a:pt x="432" y="32"/>
                </a:cubicBezTo>
                <a:cubicBezTo>
                  <a:pt x="480" y="64"/>
                  <a:pt x="520" y="152"/>
                  <a:pt x="576" y="224"/>
                </a:cubicBezTo>
                <a:cubicBezTo>
                  <a:pt x="632" y="296"/>
                  <a:pt x="688" y="384"/>
                  <a:pt x="768" y="464"/>
                </a:cubicBezTo>
                <a:cubicBezTo>
                  <a:pt x="848" y="544"/>
                  <a:pt x="872" y="584"/>
                  <a:pt x="1056" y="704"/>
                </a:cubicBezTo>
                <a:cubicBezTo>
                  <a:pt x="1240" y="824"/>
                  <a:pt x="1664" y="1080"/>
                  <a:pt x="1872" y="1184"/>
                </a:cubicBezTo>
                <a:cubicBezTo>
                  <a:pt x="2080" y="1288"/>
                  <a:pt x="2080" y="1264"/>
                  <a:pt x="2304" y="1328"/>
                </a:cubicBezTo>
                <a:cubicBezTo>
                  <a:pt x="2528" y="1392"/>
                  <a:pt x="2984" y="1512"/>
                  <a:pt x="3216" y="1568"/>
                </a:cubicBezTo>
                <a:cubicBezTo>
                  <a:pt x="3448" y="1624"/>
                  <a:pt x="3572" y="1644"/>
                  <a:pt x="3696" y="1664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28960" y="2805120"/>
            <a:ext cx="5867280" cy="763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38840" y="23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29560" y="31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7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838840" y="44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Y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19120" y="1967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95440" y="25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19120" y="32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19120" y="39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19120" y="45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419120" y="52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876320" y="554832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         20         40         60         80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额定电压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Vd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0880" y="349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际电感器的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0948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9480" y="426708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2280" y="20574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09480" y="2895480"/>
            <a:ext cx="2743200" cy="1371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理想电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际电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62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38080" y="5334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752480" y="5105520"/>
            <a:ext cx="2286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1080" y="5105520"/>
            <a:ext cx="2286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09680" y="5105520"/>
            <a:ext cx="2286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523880" y="541008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81080" y="5562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133720" y="5562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71600" y="5334120"/>
            <a:ext cx="60948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0"/>
                </a:moveTo>
                <a:lnTo>
                  <a:pt x="0" y="288"/>
                </a:lnTo>
                <a:lnTo>
                  <a:pt x="336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133720" y="5334120"/>
            <a:ext cx="914400" cy="4572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336"/>
                </a:moveTo>
                <a:lnTo>
                  <a:pt x="624" y="336"/>
                </a:lnTo>
                <a:lnTo>
                  <a:pt x="6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438280" y="53341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2666880"/>
            <a:ext cx="3124440" cy="1625760"/>
          </a:xfrm>
          <a:custGeom>
            <a:avLst/>
            <a:gdLst/>
            <a:ahLst/>
            <a:rect l="l" t="t" r="r" b="b"/>
            <a:pathLst>
              <a:path w="1968" h="1024">
                <a:moveTo>
                  <a:pt x="0" y="1024"/>
                </a:moveTo>
                <a:cubicBezTo>
                  <a:pt x="148" y="936"/>
                  <a:pt x="296" y="848"/>
                  <a:pt x="432" y="736"/>
                </a:cubicBezTo>
                <a:cubicBezTo>
                  <a:pt x="568" y="624"/>
                  <a:pt x="720" y="464"/>
                  <a:pt x="816" y="352"/>
                </a:cubicBezTo>
                <a:cubicBezTo>
                  <a:pt x="912" y="240"/>
                  <a:pt x="968" y="120"/>
                  <a:pt x="1008" y="64"/>
                </a:cubicBezTo>
                <a:cubicBezTo>
                  <a:pt x="1048" y="8"/>
                  <a:pt x="1032" y="0"/>
                  <a:pt x="1056" y="16"/>
                </a:cubicBezTo>
                <a:cubicBezTo>
                  <a:pt x="1080" y="32"/>
                  <a:pt x="1104" y="88"/>
                  <a:pt x="1152" y="160"/>
                </a:cubicBezTo>
                <a:cubicBezTo>
                  <a:pt x="1200" y="232"/>
                  <a:pt x="1256" y="352"/>
                  <a:pt x="1344" y="448"/>
                </a:cubicBezTo>
                <a:cubicBezTo>
                  <a:pt x="1432" y="544"/>
                  <a:pt x="1576" y="664"/>
                  <a:pt x="1680" y="736"/>
                </a:cubicBezTo>
                <a:cubicBezTo>
                  <a:pt x="1784" y="808"/>
                  <a:pt x="1876" y="844"/>
                  <a:pt x="1968" y="88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4952880" y="3000240"/>
          <a:ext cx="3657600" cy="3171600"/>
        </p:xfrm>
        <a:graphic>
          <a:graphicData uri="http://schemas.openxmlformats.org/drawingml/2006/table">
            <a:tbl>
              <a:tblPr/>
              <a:tblGrid>
                <a:gridCol w="1524240"/>
                <a:gridCol w="2133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电感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谐振频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5" name=""/>
          <p:cNvSpPr/>
          <p:nvPr/>
        </p:nvSpPr>
        <p:spPr>
          <a:xfrm>
            <a:off x="4724280" y="2362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绕在铁粉芯上的电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4327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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0" y="2666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447920" y="4937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905120" y="59277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感寄生电容的来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1820880" y="3048120"/>
            <a:ext cx="1828800" cy="1752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58920" y="3367080"/>
            <a:ext cx="114300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33640" y="2895480"/>
            <a:ext cx="196920" cy="228600"/>
          </a:xfrm>
          <a:prstGeom prst="ellipse">
            <a:avLst/>
          </a:prstGeom>
          <a:solidFill>
            <a:srgbClr val="b12a05"/>
          </a:solidFill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35080" y="3352680"/>
            <a:ext cx="196920" cy="228600"/>
          </a:xfrm>
          <a:prstGeom prst="ellipse">
            <a:avLst/>
          </a:prstGeom>
          <a:solidFill>
            <a:srgbClr val="b12a05"/>
          </a:solidFill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44560" y="2590920"/>
            <a:ext cx="196920" cy="228600"/>
          </a:xfrm>
          <a:prstGeom prst="ellipse">
            <a:avLst/>
          </a:prstGeom>
          <a:solidFill>
            <a:srgbClr val="b12a05"/>
          </a:solidFill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43280" y="2514600"/>
            <a:ext cx="196920" cy="228600"/>
          </a:xfrm>
          <a:prstGeom prst="ellipse">
            <a:avLst/>
          </a:prstGeom>
          <a:solidFill>
            <a:srgbClr val="b12a05"/>
          </a:solidFill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0560" y="3886200"/>
            <a:ext cx="196920" cy="228600"/>
          </a:xfrm>
          <a:prstGeom prst="ellipse">
            <a:avLst/>
          </a:prstGeom>
          <a:solidFill>
            <a:srgbClr val="b12a05"/>
          </a:solidFill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363680" y="2819520"/>
            <a:ext cx="609480" cy="837720"/>
            <a:chOff x="1363680" y="2819520"/>
            <a:chExt cx="609480" cy="837720"/>
          </a:xfrm>
        </p:grpSpPr>
        <p:sp>
          <p:nvSpPr>
            <p:cNvPr id="850" name=""/>
            <p:cNvSpPr/>
            <p:nvPr/>
          </p:nvSpPr>
          <p:spPr>
            <a:xfrm>
              <a:off x="1897200" y="281952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44560" y="304776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4456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63680" y="350496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15960" y="342900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92280" y="342900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592280" y="35049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97200" y="312408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1953360" y="2656800"/>
            <a:ext cx="914400" cy="457560"/>
            <a:chOff x="1953360" y="2656800"/>
            <a:chExt cx="914400" cy="457560"/>
          </a:xfrm>
        </p:grpSpPr>
        <p:sp>
          <p:nvSpPr>
            <p:cNvPr id="859" name=""/>
            <p:cNvSpPr/>
            <p:nvPr/>
          </p:nvSpPr>
          <p:spPr>
            <a:xfrm>
              <a:off x="1953360" y="2761920"/>
              <a:ext cx="195840" cy="117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109960" y="2748240"/>
              <a:ext cx="117720" cy="19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175480" y="2787480"/>
              <a:ext cx="117720" cy="19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2737440" y="2656800"/>
              <a:ext cx="78120" cy="13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72280" y="2748240"/>
              <a:ext cx="195480" cy="117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33040" y="2813760"/>
              <a:ext cx="195480" cy="117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1240" y="2853000"/>
              <a:ext cx="156960" cy="261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14720" y="2918520"/>
              <a:ext cx="326160" cy="19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937600" y="2706120"/>
            <a:ext cx="918360" cy="498240"/>
            <a:chOff x="2937600" y="2706120"/>
            <a:chExt cx="918360" cy="498240"/>
          </a:xfrm>
        </p:grpSpPr>
        <p:sp>
          <p:nvSpPr>
            <p:cNvPr id="868" name=""/>
            <p:cNvSpPr/>
            <p:nvPr/>
          </p:nvSpPr>
          <p:spPr>
            <a:xfrm flipH="1">
              <a:off x="3642840" y="2959560"/>
              <a:ext cx="213120" cy="81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88480" y="2898720"/>
              <a:ext cx="81360" cy="213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17200" y="2925720"/>
              <a:ext cx="81360" cy="21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25440" y="2706120"/>
              <a:ext cx="54360" cy="142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937600" y="2821320"/>
              <a:ext cx="213120" cy="81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964600" y="2892600"/>
              <a:ext cx="213480" cy="81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06800" y="2919600"/>
              <a:ext cx="109080" cy="28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216240" y="3068640"/>
              <a:ext cx="355320" cy="135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593880" y="3104280"/>
            <a:ext cx="480600" cy="920880"/>
            <a:chOff x="3593880" y="3104280"/>
            <a:chExt cx="480600" cy="920880"/>
          </a:xfrm>
        </p:grpSpPr>
        <p:sp>
          <p:nvSpPr>
            <p:cNvPr id="877" name=""/>
            <p:cNvSpPr/>
            <p:nvPr/>
          </p:nvSpPr>
          <p:spPr>
            <a:xfrm flipH="1">
              <a:off x="3792600" y="3104280"/>
              <a:ext cx="99000" cy="20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3724200" y="3277440"/>
              <a:ext cx="205920" cy="9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3691080" y="3346200"/>
              <a:ext cx="205920" cy="9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3937320" y="3887640"/>
              <a:ext cx="137160" cy="66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871080" y="3819240"/>
              <a:ext cx="99360" cy="20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802320" y="3786120"/>
              <a:ext cx="99360" cy="20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593880" y="3722040"/>
              <a:ext cx="274680" cy="13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593880" y="3378960"/>
              <a:ext cx="16560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135080" y="2590920"/>
            <a:ext cx="609480" cy="837720"/>
            <a:chOff x="1135080" y="2590920"/>
            <a:chExt cx="609480" cy="837720"/>
          </a:xfrm>
        </p:grpSpPr>
        <p:sp>
          <p:nvSpPr>
            <p:cNvPr id="886" name=""/>
            <p:cNvSpPr/>
            <p:nvPr/>
          </p:nvSpPr>
          <p:spPr>
            <a:xfrm flipH="1">
              <a:off x="1199520" y="2971800"/>
              <a:ext cx="74520" cy="45684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6" y="288"/>
                  </a:moveTo>
                  <a:cubicBezTo>
                    <a:pt x="36" y="216"/>
                    <a:pt x="16" y="144"/>
                    <a:pt x="8" y="96"/>
                  </a:cubicBezTo>
                  <a:cubicBezTo>
                    <a:pt x="0" y="48"/>
                    <a:pt x="4" y="24"/>
                    <a:pt x="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135080" y="297180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211400" y="289548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87360" y="259092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92"/>
                  </a:moveTo>
                  <a:cubicBezTo>
                    <a:pt x="12" y="156"/>
                    <a:pt x="24" y="120"/>
                    <a:pt x="48" y="96"/>
                  </a:cubicBezTo>
                  <a:cubicBezTo>
                    <a:pt x="72" y="72"/>
                    <a:pt x="104" y="64"/>
                    <a:pt x="144" y="48"/>
                  </a:cubicBezTo>
                  <a:cubicBezTo>
                    <a:pt x="184" y="32"/>
                    <a:pt x="236" y="16"/>
                    <a:pt x="28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839240" y="2134080"/>
            <a:ext cx="994680" cy="547560"/>
            <a:chOff x="1839240" y="2134080"/>
            <a:chExt cx="994680" cy="547560"/>
          </a:xfrm>
        </p:grpSpPr>
        <p:sp>
          <p:nvSpPr>
            <p:cNvPr id="891" name=""/>
            <p:cNvSpPr/>
            <p:nvPr/>
          </p:nvSpPr>
          <p:spPr>
            <a:xfrm flipH="1" rot="3089400">
              <a:off x="2003760" y="2245680"/>
              <a:ext cx="74520" cy="45684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6" y="288"/>
                  </a:moveTo>
                  <a:cubicBezTo>
                    <a:pt x="36" y="216"/>
                    <a:pt x="16" y="144"/>
                    <a:pt x="8" y="96"/>
                  </a:cubicBezTo>
                  <a:cubicBezTo>
                    <a:pt x="0" y="48"/>
                    <a:pt x="4" y="24"/>
                    <a:pt x="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56400" y="2252160"/>
              <a:ext cx="142200" cy="178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63320" y="2264400"/>
              <a:ext cx="142560" cy="178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3089400">
              <a:off x="2343600" y="225540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92"/>
                  </a:moveTo>
                  <a:cubicBezTo>
                    <a:pt x="12" y="156"/>
                    <a:pt x="24" y="120"/>
                    <a:pt x="48" y="96"/>
                  </a:cubicBezTo>
                  <a:cubicBezTo>
                    <a:pt x="72" y="72"/>
                    <a:pt x="104" y="64"/>
                    <a:pt x="144" y="48"/>
                  </a:cubicBezTo>
                  <a:cubicBezTo>
                    <a:pt x="184" y="32"/>
                    <a:pt x="236" y="16"/>
                    <a:pt x="28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027960" y="2436480"/>
            <a:ext cx="866520" cy="604440"/>
            <a:chOff x="3027960" y="2436480"/>
            <a:chExt cx="866520" cy="604440"/>
          </a:xfrm>
        </p:grpSpPr>
        <p:sp>
          <p:nvSpPr>
            <p:cNvPr id="896" name=""/>
            <p:cNvSpPr/>
            <p:nvPr/>
          </p:nvSpPr>
          <p:spPr>
            <a:xfrm flipH="1" rot="5209200">
              <a:off x="3220560" y="2322720"/>
              <a:ext cx="74520" cy="45684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6" y="288"/>
                  </a:moveTo>
                  <a:cubicBezTo>
                    <a:pt x="36" y="216"/>
                    <a:pt x="16" y="144"/>
                    <a:pt x="8" y="96"/>
                  </a:cubicBezTo>
                  <a:cubicBezTo>
                    <a:pt x="0" y="48"/>
                    <a:pt x="4" y="24"/>
                    <a:pt x="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80480" y="2436480"/>
              <a:ext cx="12600" cy="228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60760" y="2508480"/>
              <a:ext cx="12960" cy="228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5209800">
              <a:off x="3501000" y="265176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92"/>
                  </a:moveTo>
                  <a:cubicBezTo>
                    <a:pt x="12" y="156"/>
                    <a:pt x="24" y="120"/>
                    <a:pt x="48" y="96"/>
                  </a:cubicBezTo>
                  <a:cubicBezTo>
                    <a:pt x="72" y="72"/>
                    <a:pt x="104" y="64"/>
                    <a:pt x="144" y="48"/>
                  </a:cubicBezTo>
                  <a:cubicBezTo>
                    <a:pt x="184" y="32"/>
                    <a:pt x="236" y="16"/>
                    <a:pt x="28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936600" y="2998800"/>
            <a:ext cx="570600" cy="981720"/>
            <a:chOff x="3936600" y="2998800"/>
            <a:chExt cx="570600" cy="981720"/>
          </a:xfrm>
        </p:grpSpPr>
        <p:sp>
          <p:nvSpPr>
            <p:cNvPr id="901" name=""/>
            <p:cNvSpPr/>
            <p:nvPr/>
          </p:nvSpPr>
          <p:spPr>
            <a:xfrm flipH="1" rot="8172600">
              <a:off x="4083840" y="2960640"/>
              <a:ext cx="74520" cy="45684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6" y="288"/>
                  </a:moveTo>
                  <a:cubicBezTo>
                    <a:pt x="36" y="216"/>
                    <a:pt x="16" y="144"/>
                    <a:pt x="8" y="96"/>
                  </a:cubicBezTo>
                  <a:cubicBezTo>
                    <a:pt x="0" y="48"/>
                    <a:pt x="4" y="24"/>
                    <a:pt x="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188240" y="3283560"/>
              <a:ext cx="165240" cy="158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186080" y="3391560"/>
              <a:ext cx="164880" cy="158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8172600">
              <a:off x="4007880" y="356004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92"/>
                  </a:moveTo>
                  <a:cubicBezTo>
                    <a:pt x="12" y="156"/>
                    <a:pt x="24" y="120"/>
                    <a:pt x="48" y="96"/>
                  </a:cubicBezTo>
                  <a:cubicBezTo>
                    <a:pt x="72" y="72"/>
                    <a:pt x="104" y="64"/>
                    <a:pt x="144" y="48"/>
                  </a:cubicBezTo>
                  <a:cubicBezTo>
                    <a:pt x="184" y="32"/>
                    <a:pt x="236" y="16"/>
                    <a:pt x="288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5181480" y="2362320"/>
            <a:ext cx="37339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每圈之间的电容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1" lang="zh-CN" sz="2400" spc="-1" strike="noStrike" baseline="-25000">
                <a:solidFill>
                  <a:srgbClr val="3333cc"/>
                </a:solidFill>
                <a:latin typeface="Tahoma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导线与磁芯之间的电容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ahoma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05320" y="5029200"/>
            <a:ext cx="4952880" cy="1116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磁芯为导体时，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zh-CN" sz="2400" spc="-1" strike="noStrike" baseline="-25000">
                <a:solidFill>
                  <a:srgbClr val="006600"/>
                </a:solidFill>
                <a:latin typeface="Tahoma"/>
              </a:rPr>
              <a:t>TC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为主要因素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磁芯为非导体时，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zh-CN" sz="2400" spc="-1" strike="noStrike" baseline="-25000">
                <a:solidFill>
                  <a:srgbClr val="006600"/>
                </a:solidFill>
                <a:latin typeface="Tahoma"/>
              </a:rPr>
              <a:t>TT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为主要因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19280" y="921960"/>
            <a:ext cx="685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克服电容非理想性的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60948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衰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314360" y="3752640"/>
            <a:ext cx="0" cy="208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14360" y="5834160"/>
            <a:ext cx="55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190520" y="5911920"/>
            <a:ext cx="630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电容并联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并联        电感并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314360" y="4587840"/>
            <a:ext cx="4327560" cy="1246320"/>
          </a:xfrm>
          <a:custGeom>
            <a:avLst/>
            <a:gdLst/>
            <a:ahLst/>
            <a:rect l="l" t="t" r="r" b="b"/>
            <a:pathLst>
              <a:path w="1680" h="776">
                <a:moveTo>
                  <a:pt x="0" y="776"/>
                </a:moveTo>
                <a:cubicBezTo>
                  <a:pt x="36" y="756"/>
                  <a:pt x="72" y="736"/>
                  <a:pt x="144" y="632"/>
                </a:cubicBezTo>
                <a:cubicBezTo>
                  <a:pt x="216" y="528"/>
                  <a:pt x="368" y="256"/>
                  <a:pt x="432" y="152"/>
                </a:cubicBezTo>
                <a:cubicBezTo>
                  <a:pt x="496" y="48"/>
                  <a:pt x="504" y="16"/>
                  <a:pt x="528" y="8"/>
                </a:cubicBezTo>
                <a:cubicBezTo>
                  <a:pt x="552" y="0"/>
                  <a:pt x="560" y="72"/>
                  <a:pt x="576" y="104"/>
                </a:cubicBezTo>
                <a:cubicBezTo>
                  <a:pt x="592" y="136"/>
                  <a:pt x="600" y="152"/>
                  <a:pt x="624" y="200"/>
                </a:cubicBezTo>
                <a:cubicBezTo>
                  <a:pt x="648" y="248"/>
                  <a:pt x="680" y="336"/>
                  <a:pt x="720" y="392"/>
                </a:cubicBezTo>
                <a:cubicBezTo>
                  <a:pt x="760" y="448"/>
                  <a:pt x="800" y="488"/>
                  <a:pt x="864" y="536"/>
                </a:cubicBezTo>
                <a:cubicBezTo>
                  <a:pt x="928" y="584"/>
                  <a:pt x="968" y="640"/>
                  <a:pt x="1104" y="680"/>
                </a:cubicBezTo>
                <a:cubicBezTo>
                  <a:pt x="1240" y="720"/>
                  <a:pt x="1460" y="748"/>
                  <a:pt x="1680" y="776"/>
                </a:cubicBezTo>
              </a:path>
            </a:pathLst>
          </a:cu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314360" y="4575240"/>
            <a:ext cx="4946760" cy="1258920"/>
          </a:xfrm>
          <a:custGeom>
            <a:avLst/>
            <a:gdLst/>
            <a:ahLst/>
            <a:rect l="l" t="t" r="r" b="b"/>
            <a:pathLst>
              <a:path w="1920" h="784">
                <a:moveTo>
                  <a:pt x="0" y="784"/>
                </a:moveTo>
                <a:cubicBezTo>
                  <a:pt x="244" y="712"/>
                  <a:pt x="488" y="640"/>
                  <a:pt x="672" y="544"/>
                </a:cubicBezTo>
                <a:cubicBezTo>
                  <a:pt x="856" y="448"/>
                  <a:pt x="1016" y="288"/>
                  <a:pt x="1104" y="208"/>
                </a:cubicBezTo>
                <a:cubicBezTo>
                  <a:pt x="1192" y="128"/>
                  <a:pt x="1176" y="96"/>
                  <a:pt x="1200" y="64"/>
                </a:cubicBezTo>
                <a:cubicBezTo>
                  <a:pt x="1224" y="32"/>
                  <a:pt x="1224" y="0"/>
                  <a:pt x="1248" y="16"/>
                </a:cubicBezTo>
                <a:cubicBezTo>
                  <a:pt x="1272" y="32"/>
                  <a:pt x="1304" y="104"/>
                  <a:pt x="1344" y="160"/>
                </a:cubicBezTo>
                <a:cubicBezTo>
                  <a:pt x="1384" y="216"/>
                  <a:pt x="1432" y="288"/>
                  <a:pt x="1488" y="352"/>
                </a:cubicBezTo>
                <a:cubicBezTo>
                  <a:pt x="1544" y="416"/>
                  <a:pt x="1608" y="488"/>
                  <a:pt x="1680" y="544"/>
                </a:cubicBezTo>
                <a:cubicBezTo>
                  <a:pt x="1752" y="600"/>
                  <a:pt x="1836" y="644"/>
                  <a:pt x="1920" y="688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14360" y="4203720"/>
            <a:ext cx="4699080" cy="1630440"/>
          </a:xfrm>
          <a:custGeom>
            <a:avLst/>
            <a:gdLst/>
            <a:ahLst/>
            <a:rect l="l" t="t" r="r" b="b"/>
            <a:pathLst>
              <a:path w="1824" h="1016">
                <a:moveTo>
                  <a:pt x="0" y="1016"/>
                </a:moveTo>
                <a:cubicBezTo>
                  <a:pt x="56" y="972"/>
                  <a:pt x="112" y="928"/>
                  <a:pt x="192" y="776"/>
                </a:cubicBezTo>
                <a:cubicBezTo>
                  <a:pt x="272" y="624"/>
                  <a:pt x="416" y="208"/>
                  <a:pt x="480" y="104"/>
                </a:cubicBezTo>
                <a:cubicBezTo>
                  <a:pt x="544" y="0"/>
                  <a:pt x="528" y="24"/>
                  <a:pt x="576" y="152"/>
                </a:cubicBezTo>
                <a:cubicBezTo>
                  <a:pt x="624" y="280"/>
                  <a:pt x="712" y="792"/>
                  <a:pt x="768" y="872"/>
                </a:cubicBezTo>
                <a:cubicBezTo>
                  <a:pt x="824" y="952"/>
                  <a:pt x="856" y="736"/>
                  <a:pt x="912" y="632"/>
                </a:cubicBezTo>
                <a:cubicBezTo>
                  <a:pt x="968" y="528"/>
                  <a:pt x="1048" y="336"/>
                  <a:pt x="1104" y="248"/>
                </a:cubicBezTo>
                <a:cubicBezTo>
                  <a:pt x="1160" y="160"/>
                  <a:pt x="1200" y="88"/>
                  <a:pt x="1248" y="104"/>
                </a:cubicBezTo>
                <a:cubicBezTo>
                  <a:pt x="1296" y="120"/>
                  <a:pt x="1344" y="264"/>
                  <a:pt x="1392" y="344"/>
                </a:cubicBezTo>
                <a:cubicBezTo>
                  <a:pt x="1440" y="424"/>
                  <a:pt x="1464" y="488"/>
                  <a:pt x="1536" y="584"/>
                </a:cubicBezTo>
                <a:cubicBezTo>
                  <a:pt x="1608" y="680"/>
                  <a:pt x="1716" y="800"/>
                  <a:pt x="1824" y="92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18240" y="3986280"/>
            <a:ext cx="1063440" cy="368280"/>
          </a:xfrm>
          <a:prstGeom prst="rect">
            <a:avLst/>
          </a:prstGeom>
          <a:noFill/>
          <a:ln cap="rnd" w="12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ahoma"/>
              </a:rPr>
              <a:t>小电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055960" y="4062240"/>
            <a:ext cx="495000" cy="61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85880" y="3676680"/>
            <a:ext cx="1133640" cy="368280"/>
          </a:xfrm>
          <a:prstGeom prst="rect">
            <a:avLst/>
          </a:prstGeom>
          <a:noFill/>
          <a:ln w="12600">
            <a:solidFill>
              <a:srgbClr val="cc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ahoma"/>
              </a:rPr>
              <a:t>大电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652640" y="4446720"/>
            <a:ext cx="865080" cy="307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40240" y="3598920"/>
            <a:ext cx="1412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并联电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35600" y="3984480"/>
            <a:ext cx="24588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74800" y="467820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29160" y="467820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55960" y="2289240"/>
            <a:ext cx="259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798640" y="2289240"/>
            <a:ext cx="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11760" y="2289240"/>
            <a:ext cx="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50960" y="2674800"/>
            <a:ext cx="4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50960" y="2751120"/>
            <a:ext cx="4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664080" y="2751120"/>
            <a:ext cx="49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664080" y="2674800"/>
            <a:ext cx="49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798640" y="2751120"/>
            <a:ext cx="0" cy="3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11760" y="2751120"/>
            <a:ext cx="0" cy="3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55960" y="3137040"/>
            <a:ext cx="259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632640" y="583416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频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66680" y="252108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大容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159080" y="2521080"/>
            <a:ext cx="14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小容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端电容器的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4648320" y="4479840"/>
            <a:ext cx="2133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ahoma"/>
              </a:rPr>
              <a:t>引线电感与电容一起构成了一个</a:t>
            </a:r>
            <a:r>
              <a:rPr b="1" lang="zh-CN" sz="2000" spc="-1" strike="noStrike">
                <a:solidFill>
                  <a:srgbClr val="ff6600"/>
                </a:solidFill>
                <a:latin typeface="Tahoma"/>
              </a:rPr>
              <a:t>T</a:t>
            </a:r>
            <a:r>
              <a:rPr b="1" lang="zh-CN" sz="2000" spc="-1" strike="noStrike">
                <a:solidFill>
                  <a:srgbClr val="ff6600"/>
                </a:solidFill>
                <a:latin typeface="Tahoma"/>
              </a:rPr>
              <a:t>形低通滤波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在引线上安装两个磁珠滤波效果更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38880" y="4648320"/>
            <a:ext cx="16765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地线电感起着不良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791320" y="2057400"/>
            <a:ext cx="2437920" cy="2437920"/>
            <a:chOff x="5791320" y="2057400"/>
            <a:chExt cx="2437920" cy="2437920"/>
          </a:xfrm>
        </p:grpSpPr>
        <p:sp>
          <p:nvSpPr>
            <p:cNvPr id="940" name=""/>
            <p:cNvSpPr/>
            <p:nvPr/>
          </p:nvSpPr>
          <p:spPr>
            <a:xfrm>
              <a:off x="6487920" y="2506320"/>
              <a:ext cx="464040" cy="513360"/>
            </a:xfrm>
            <a:custGeom>
              <a:avLst/>
              <a:gdLst/>
              <a:ahLst/>
              <a:rect l="l" t="t" r="r" b="b"/>
              <a:pathLst>
                <a:path w="912" h="384">
                  <a:moveTo>
                    <a:pt x="0" y="0"/>
                  </a:moveTo>
                  <a:lnTo>
                    <a:pt x="672" y="0"/>
                  </a:lnTo>
                  <a:lnTo>
                    <a:pt x="912" y="3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951600" y="2506320"/>
              <a:ext cx="406440" cy="513360"/>
            </a:xfrm>
            <a:custGeom>
              <a:avLst/>
              <a:gdLst/>
              <a:ahLst/>
              <a:rect l="l" t="t" r="r" b="b"/>
              <a:pathLst>
                <a:path w="912" h="384">
                  <a:moveTo>
                    <a:pt x="0" y="0"/>
                  </a:moveTo>
                  <a:lnTo>
                    <a:pt x="672" y="0"/>
                  </a:lnTo>
                  <a:lnTo>
                    <a:pt x="912" y="3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39440" y="2313720"/>
              <a:ext cx="115920" cy="384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55360" y="2313720"/>
              <a:ext cx="115920" cy="384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90600" y="2313720"/>
              <a:ext cx="116280" cy="384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58760" y="2313720"/>
              <a:ext cx="115920" cy="384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1640" y="2313720"/>
              <a:ext cx="116280" cy="384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74680" y="2313720"/>
              <a:ext cx="115920" cy="384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07240" y="2570400"/>
              <a:ext cx="81252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84520" y="2570400"/>
              <a:ext cx="81252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91320" y="2506320"/>
              <a:ext cx="3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06880" y="2506320"/>
              <a:ext cx="3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62160" y="3019680"/>
              <a:ext cx="52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62160" y="3147840"/>
              <a:ext cx="52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52320" y="3147840"/>
              <a:ext cx="0" cy="3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78080" y="3468600"/>
              <a:ext cx="464040" cy="128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778080" y="3597120"/>
              <a:ext cx="464040" cy="128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778080" y="3725640"/>
              <a:ext cx="464040" cy="128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010280" y="3340440"/>
              <a:ext cx="2901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952320" y="3853800"/>
              <a:ext cx="0" cy="3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19760" y="4174920"/>
              <a:ext cx="46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78080" y="4238640"/>
              <a:ext cx="3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894000" y="4303080"/>
              <a:ext cx="11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07240" y="2057400"/>
              <a:ext cx="2031840" cy="1283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68240" y="3661200"/>
              <a:ext cx="1161000" cy="83412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960" y="624"/>
                  </a:move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28600" y="2482920"/>
            <a:ext cx="4114440" cy="3918600"/>
            <a:chOff x="228600" y="2482920"/>
            <a:chExt cx="4114440" cy="3918600"/>
          </a:xfrm>
        </p:grpSpPr>
        <p:sp>
          <p:nvSpPr>
            <p:cNvPr id="966" name=""/>
            <p:cNvSpPr/>
            <p:nvPr/>
          </p:nvSpPr>
          <p:spPr>
            <a:xfrm flipV="1">
              <a:off x="712440" y="3930480"/>
              <a:ext cx="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40" y="5987880"/>
              <a:ext cx="330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440" y="4819320"/>
              <a:ext cx="3065760" cy="1168200"/>
            </a:xfrm>
            <a:custGeom>
              <a:avLst/>
              <a:gdLst/>
              <a:ahLst/>
              <a:rect l="l" t="t" r="r" b="b"/>
              <a:pathLst>
                <a:path w="1824" h="736">
                  <a:moveTo>
                    <a:pt x="0" y="736"/>
                  </a:moveTo>
                  <a:cubicBezTo>
                    <a:pt x="108" y="720"/>
                    <a:pt x="216" y="704"/>
                    <a:pt x="336" y="640"/>
                  </a:cubicBezTo>
                  <a:cubicBezTo>
                    <a:pt x="456" y="576"/>
                    <a:pt x="624" y="448"/>
                    <a:pt x="720" y="352"/>
                  </a:cubicBezTo>
                  <a:cubicBezTo>
                    <a:pt x="816" y="256"/>
                    <a:pt x="872" y="120"/>
                    <a:pt x="912" y="64"/>
                  </a:cubicBezTo>
                  <a:cubicBezTo>
                    <a:pt x="952" y="8"/>
                    <a:pt x="936" y="0"/>
                    <a:pt x="960" y="16"/>
                  </a:cubicBezTo>
                  <a:cubicBezTo>
                    <a:pt x="984" y="32"/>
                    <a:pt x="1008" y="88"/>
                    <a:pt x="1056" y="160"/>
                  </a:cubicBezTo>
                  <a:cubicBezTo>
                    <a:pt x="1104" y="232"/>
                    <a:pt x="1184" y="376"/>
                    <a:pt x="1248" y="448"/>
                  </a:cubicBezTo>
                  <a:cubicBezTo>
                    <a:pt x="1312" y="520"/>
                    <a:pt x="1368" y="552"/>
                    <a:pt x="1440" y="592"/>
                  </a:cubicBezTo>
                  <a:cubicBezTo>
                    <a:pt x="1512" y="632"/>
                    <a:pt x="1616" y="672"/>
                    <a:pt x="1680" y="688"/>
                  </a:cubicBezTo>
                  <a:cubicBezTo>
                    <a:pt x="1744" y="704"/>
                    <a:pt x="1784" y="696"/>
                    <a:pt x="1824" y="688"/>
                  </a:cubicBezTo>
                </a:path>
              </a:pathLst>
            </a:custGeom>
            <a:noFill/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2440" y="4362120"/>
              <a:ext cx="3065760" cy="1625400"/>
            </a:xfrm>
            <a:custGeom>
              <a:avLst/>
              <a:gdLst/>
              <a:ahLst/>
              <a:rect l="l" t="t" r="r" b="b"/>
              <a:pathLst>
                <a:path w="1824" h="1024">
                  <a:moveTo>
                    <a:pt x="0" y="1024"/>
                  </a:moveTo>
                  <a:cubicBezTo>
                    <a:pt x="248" y="856"/>
                    <a:pt x="496" y="688"/>
                    <a:pt x="672" y="544"/>
                  </a:cubicBezTo>
                  <a:cubicBezTo>
                    <a:pt x="848" y="400"/>
                    <a:pt x="976" y="248"/>
                    <a:pt x="1056" y="160"/>
                  </a:cubicBezTo>
                  <a:cubicBezTo>
                    <a:pt x="1136" y="72"/>
                    <a:pt x="1128" y="32"/>
                    <a:pt x="1152" y="16"/>
                  </a:cubicBezTo>
                  <a:cubicBezTo>
                    <a:pt x="1176" y="0"/>
                    <a:pt x="1168" y="16"/>
                    <a:pt x="1200" y="64"/>
                  </a:cubicBezTo>
                  <a:cubicBezTo>
                    <a:pt x="1232" y="112"/>
                    <a:pt x="1272" y="200"/>
                    <a:pt x="1344" y="304"/>
                  </a:cubicBezTo>
                  <a:cubicBezTo>
                    <a:pt x="1416" y="408"/>
                    <a:pt x="1552" y="600"/>
                    <a:pt x="1632" y="688"/>
                  </a:cubicBezTo>
                  <a:cubicBezTo>
                    <a:pt x="1712" y="776"/>
                    <a:pt x="1768" y="804"/>
                    <a:pt x="1824" y="83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41760" y="2787480"/>
              <a:ext cx="32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841760" y="2863800"/>
              <a:ext cx="32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035000" y="248292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922760" y="2482920"/>
              <a:ext cx="80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2003040" y="2482920"/>
              <a:ext cx="80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084040" y="2482920"/>
              <a:ext cx="88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003040" y="286380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035000" y="3168360"/>
              <a:ext cx="169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052080" y="4235400"/>
              <a:ext cx="1290960" cy="3682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ahoma"/>
                </a:rPr>
                <a:t>三端电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213360" y="4616280"/>
              <a:ext cx="24192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54720" y="4311360"/>
              <a:ext cx="1209960" cy="368280"/>
            </a:xfrm>
            <a:prstGeom prst="rect">
              <a:avLst/>
            </a:prstGeom>
            <a:noFill/>
            <a:ln cap="rnd" w="1260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ahoma"/>
                </a:rPr>
                <a:t>普通电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438560" y="4768560"/>
              <a:ext cx="403200" cy="685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25960" y="484488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48880" y="4387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35000" y="6064200"/>
              <a:ext cx="29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30    70          1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12440" y="5682960"/>
              <a:ext cx="29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" y="5530680"/>
              <a:ext cx="56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1800" y="4844880"/>
              <a:ext cx="169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8600" y="4159080"/>
              <a:ext cx="56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8600" y="4630680"/>
              <a:ext cx="56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5562720" y="2514600"/>
            <a:ext cx="685800" cy="2057400"/>
          </a:xfrm>
          <a:custGeom>
            <a:avLst/>
            <a:gdLst/>
            <a:ahLst/>
            <a:rect l="l" t="t" r="r" b="b"/>
            <a:pathLst>
              <a:path w="1008" h="1200">
                <a:moveTo>
                  <a:pt x="0" y="1200"/>
                </a:moveTo>
                <a:lnTo>
                  <a:pt x="768" y="768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端电容与普通电容的比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1"/>
          <a:srcRect l="0" t="0" r="-856" b="8798"/>
          <a:stretch/>
        </p:blipFill>
        <p:spPr>
          <a:xfrm>
            <a:off x="762120" y="1886040"/>
            <a:ext cx="7953120" cy="474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端电容的正确使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>
            <a:off x="1143000" y="2971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990720" y="31240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828800" y="289548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05120" y="30052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590920" y="289548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66880" y="30052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09680" y="289548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71600" y="30193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43200" y="2971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19520" y="31240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57400" y="2057400"/>
            <a:ext cx="685800" cy="60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05120" y="2362320"/>
            <a:ext cx="30456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192" y="0"/>
                </a:moveTo>
                <a:lnTo>
                  <a:pt x="0" y="288"/>
                </a:lnTo>
                <a:lnTo>
                  <a:pt x="0" y="43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590920" y="2514600"/>
            <a:ext cx="152280" cy="609480"/>
          </a:xfrm>
          <a:custGeom>
            <a:avLst/>
            <a:gdLst/>
            <a:ahLst/>
            <a:rect l="l" t="t" r="r" b="b"/>
            <a:pathLst>
              <a:path w="96" h="384">
                <a:moveTo>
                  <a:pt x="0" y="0"/>
                </a:moveTo>
                <a:lnTo>
                  <a:pt x="96" y="144"/>
                </a:lnTo>
                <a:lnTo>
                  <a:pt x="96" y="384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362320" y="2514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380988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接地点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1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干净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2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与机箱或其它较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的金属件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射频搭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53040" y="36147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00760" y="37670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38840" y="353844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15160" y="36482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600960" y="353844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76920" y="364824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19720" y="266688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305400" y="27860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53240" y="36147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29560" y="37670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67440" y="1981080"/>
            <a:ext cx="68580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915160" y="2362320"/>
            <a:ext cx="333360" cy="132876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192" y="0"/>
                </a:moveTo>
                <a:lnTo>
                  <a:pt x="0" y="288"/>
                </a:lnTo>
                <a:lnTo>
                  <a:pt x="0" y="43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553080" y="2362320"/>
            <a:ext cx="200160" cy="1404720"/>
          </a:xfrm>
          <a:custGeom>
            <a:avLst/>
            <a:gdLst/>
            <a:ahLst/>
            <a:rect l="l" t="t" r="r" b="b"/>
            <a:pathLst>
              <a:path w="96" h="384">
                <a:moveTo>
                  <a:pt x="0" y="0"/>
                </a:moveTo>
                <a:lnTo>
                  <a:pt x="96" y="144"/>
                </a:lnTo>
                <a:lnTo>
                  <a:pt x="96" y="384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372000" y="2438280"/>
            <a:ext cx="28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506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029200" y="52149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867280" y="498636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43600" y="5095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29400" y="4986360"/>
            <a:ext cx="228600" cy="3049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705720" y="5095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248520" y="5562720"/>
            <a:ext cx="228600" cy="30456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310440" y="5638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81680" y="506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0" y="52149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95880" y="4148280"/>
            <a:ext cx="685800" cy="60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943600" y="445284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192" y="0"/>
                </a:moveTo>
                <a:lnTo>
                  <a:pt x="0" y="288"/>
                </a:lnTo>
                <a:lnTo>
                  <a:pt x="0" y="43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629400" y="4605480"/>
            <a:ext cx="152280" cy="609480"/>
          </a:xfrm>
          <a:custGeom>
            <a:avLst/>
            <a:gdLst/>
            <a:ahLst/>
            <a:rect l="l" t="t" r="r" b="b"/>
            <a:pathLst>
              <a:path w="96" h="384">
                <a:moveTo>
                  <a:pt x="0" y="0"/>
                </a:moveTo>
                <a:lnTo>
                  <a:pt x="96" y="144"/>
                </a:lnTo>
                <a:lnTo>
                  <a:pt x="96" y="384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6400800" y="457200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467480" y="4191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620120" y="2438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滤波器的种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438280"/>
            <a:ext cx="3581280" cy="213372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590920"/>
            <a:ext cx="327672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819520"/>
            <a:ext cx="304560" cy="3808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962520"/>
            <a:ext cx="68580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140360"/>
            <a:ext cx="2971800" cy="90144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32"/>
                </a:moveTo>
                <a:cubicBezTo>
                  <a:pt x="56" y="16"/>
                  <a:pt x="112" y="0"/>
                  <a:pt x="144" y="32"/>
                </a:cubicBezTo>
                <a:cubicBezTo>
                  <a:pt x="176" y="64"/>
                  <a:pt x="80" y="144"/>
                  <a:pt x="192" y="224"/>
                </a:cubicBezTo>
                <a:cubicBezTo>
                  <a:pt x="304" y="304"/>
                  <a:pt x="536" y="456"/>
                  <a:pt x="816" y="512"/>
                </a:cubicBezTo>
                <a:cubicBezTo>
                  <a:pt x="1096" y="568"/>
                  <a:pt x="1484" y="564"/>
                  <a:pt x="1872" y="56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4800600"/>
            <a:ext cx="152640" cy="3808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380880"/>
              <a:gd name="textAreaBottom" fmla="*/ 373680 h 380880"/>
            </a:gdLst>
            <a:ahLst/>
            <a:rect l="textAreaLeft" t="textAreaTop" r="textAreaRight" b="textAreaBottom"/>
            <a:pathLst>
              <a:path w="21600" h="53822">
                <a:moveTo>
                  <a:pt x="3600" y="0"/>
                </a:moveTo>
                <a:arcTo wR="3600" hR="3600" stAng="16200000" swAng="-5400000"/>
                <a:lnTo>
                  <a:pt x="0" y="50222"/>
                </a:lnTo>
                <a:arcTo wR="3600" hR="3600" stAng="10800000" swAng="-5400000"/>
                <a:lnTo>
                  <a:pt x="18000" y="53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487692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50292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510552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806560"/>
            <a:ext cx="2590920" cy="241560"/>
          </a:xfrm>
          <a:custGeom>
            <a:avLst/>
            <a:gdLst/>
            <a:ahLst/>
            <a:rect l="l" t="t" r="r" b="b"/>
            <a:pathLst>
              <a:path w="1632" h="152">
                <a:moveTo>
                  <a:pt x="0" y="104"/>
                </a:moveTo>
                <a:cubicBezTo>
                  <a:pt x="68" y="128"/>
                  <a:pt x="136" y="152"/>
                  <a:pt x="288" y="152"/>
                </a:cubicBezTo>
                <a:cubicBezTo>
                  <a:pt x="440" y="152"/>
                  <a:pt x="752" y="128"/>
                  <a:pt x="912" y="104"/>
                </a:cubicBezTo>
                <a:cubicBezTo>
                  <a:pt x="1072" y="80"/>
                  <a:pt x="1128" y="0"/>
                  <a:pt x="1248" y="8"/>
                </a:cubicBezTo>
                <a:cubicBezTo>
                  <a:pt x="1368" y="16"/>
                  <a:pt x="1500" y="84"/>
                  <a:pt x="1632" y="15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114800"/>
            <a:ext cx="19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3962520"/>
            <a:ext cx="228600" cy="152280"/>
          </a:xfrm>
          <a:prstGeom prst="rect">
            <a:avLst/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962520"/>
            <a:ext cx="228600" cy="152280"/>
          </a:xfrm>
          <a:prstGeom prst="rect">
            <a:avLst/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3886200"/>
            <a:ext cx="228600" cy="228600"/>
          </a:xfrm>
          <a:prstGeom prst="rect">
            <a:avLst/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971800"/>
            <a:ext cx="1130040" cy="888840"/>
          </a:xfrm>
          <a:custGeom>
            <a:avLst/>
            <a:gdLst/>
            <a:ahLst/>
            <a:rect l="l" t="t" r="r" b="b"/>
            <a:pathLst>
              <a:path w="712" h="704">
                <a:moveTo>
                  <a:pt x="88" y="704"/>
                </a:moveTo>
                <a:cubicBezTo>
                  <a:pt x="44" y="648"/>
                  <a:pt x="0" y="592"/>
                  <a:pt x="40" y="512"/>
                </a:cubicBezTo>
                <a:cubicBezTo>
                  <a:pt x="80" y="432"/>
                  <a:pt x="248" y="304"/>
                  <a:pt x="328" y="224"/>
                </a:cubicBezTo>
                <a:cubicBezTo>
                  <a:pt x="408" y="144"/>
                  <a:pt x="456" y="64"/>
                  <a:pt x="520" y="32"/>
                </a:cubicBezTo>
                <a:cubicBezTo>
                  <a:pt x="584" y="0"/>
                  <a:pt x="648" y="16"/>
                  <a:pt x="712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886200"/>
            <a:ext cx="152640" cy="2286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892160"/>
            <a:ext cx="187632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17768"/>
              <a:gd name="adj5" fmla="val 217680"/>
              <a:gd name="adj6" fmla="val -319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608280"/>
            <a:ext cx="174780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30425"/>
              <a:gd name="adj5" fmla="val 98824"/>
              <a:gd name="adj6" fmla="val -5747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源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410080"/>
            <a:ext cx="777240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切断干扰沿信号线或电源线传播的路径，与屏蔽共同构成完善的干扰防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038480"/>
            <a:ext cx="990360" cy="26676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0"/>
                </a:moveTo>
                <a:cubicBezTo>
                  <a:pt x="16" y="60"/>
                  <a:pt x="32" y="120"/>
                  <a:pt x="96" y="144"/>
                </a:cubicBezTo>
                <a:cubicBezTo>
                  <a:pt x="160" y="168"/>
                  <a:pt x="296" y="152"/>
                  <a:pt x="384" y="144"/>
                </a:cubicBezTo>
                <a:cubicBezTo>
                  <a:pt x="472" y="136"/>
                  <a:pt x="548" y="116"/>
                  <a:pt x="624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贴片三端电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5419800" cy="365760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2"/>
          <a:srcRect l="0" t="0" r="37041" b="0"/>
          <a:stretch/>
        </p:blipFill>
        <p:spPr>
          <a:xfrm>
            <a:off x="228600" y="2743200"/>
            <a:ext cx="259092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6984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端电容器的不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3" name=""/>
          <p:cNvSpPr/>
          <p:nvPr/>
        </p:nvSpPr>
        <p:spPr>
          <a:xfrm>
            <a:off x="4114800" y="3581280"/>
            <a:ext cx="609480" cy="60984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0" y="0"/>
                </a:moveTo>
                <a:lnTo>
                  <a:pt x="672" y="0"/>
                </a:lnTo>
                <a:lnTo>
                  <a:pt x="912" y="384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724280" y="3581280"/>
            <a:ext cx="533520" cy="60984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0" y="0"/>
                </a:moveTo>
                <a:lnTo>
                  <a:pt x="672" y="0"/>
                </a:lnTo>
                <a:lnTo>
                  <a:pt x="912" y="384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57600" y="3352680"/>
            <a:ext cx="1522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09880" y="3352680"/>
            <a:ext cx="15264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3352680"/>
            <a:ext cx="1522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257800" y="3352680"/>
            <a:ext cx="1522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3352680"/>
            <a:ext cx="1522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410080" y="3352680"/>
            <a:ext cx="15264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352680" y="3657600"/>
            <a:ext cx="1067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029200" y="3657600"/>
            <a:ext cx="10666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715000" y="3581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343400" y="43434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72428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495680" y="4724280"/>
            <a:ext cx="6098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495680" y="4876920"/>
            <a:ext cx="6098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95680" y="5029200"/>
            <a:ext cx="6098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00600" y="4572000"/>
            <a:ext cx="380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724280" y="5181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19720" y="5562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95680" y="5638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48320" y="5715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352680" y="2629080"/>
            <a:ext cx="2819520" cy="647640"/>
          </a:xfrm>
          <a:custGeom>
            <a:avLst/>
            <a:gdLst/>
            <a:ahLst/>
            <a:rect l="l" t="t" r="r" b="b"/>
            <a:pathLst>
              <a:path w="1776" h="408">
                <a:moveTo>
                  <a:pt x="0" y="408"/>
                </a:moveTo>
                <a:cubicBezTo>
                  <a:pt x="64" y="320"/>
                  <a:pt x="128" y="232"/>
                  <a:pt x="240" y="168"/>
                </a:cubicBezTo>
                <a:cubicBezTo>
                  <a:pt x="352" y="104"/>
                  <a:pt x="528" y="48"/>
                  <a:pt x="672" y="24"/>
                </a:cubicBezTo>
                <a:cubicBezTo>
                  <a:pt x="816" y="0"/>
                  <a:pt x="976" y="8"/>
                  <a:pt x="1104" y="24"/>
                </a:cubicBezTo>
                <a:cubicBezTo>
                  <a:pt x="1232" y="40"/>
                  <a:pt x="1328" y="56"/>
                  <a:pt x="1440" y="120"/>
                </a:cubicBezTo>
                <a:cubicBezTo>
                  <a:pt x="1552" y="184"/>
                  <a:pt x="1664" y="296"/>
                  <a:pt x="1776" y="408"/>
                </a:cubicBezTo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72000" y="2362320"/>
            <a:ext cx="3808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724280" y="23623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876920" y="23623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90720" y="22701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寄生电容造成输入端、输出端耦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981080" y="46324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接地电感造成旁路效果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7440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穿心电容更胜一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1981080" y="2514600"/>
            <a:ext cx="457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81080" y="26668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81080" y="2286000"/>
            <a:ext cx="15264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285640" y="228600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19320" y="2286000"/>
            <a:ext cx="7617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228600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209680" y="26668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43400" y="5943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791320" y="2133720"/>
            <a:ext cx="533160" cy="1600200"/>
          </a:xfrm>
          <a:custGeom>
            <a:avLst/>
            <a:gdLst/>
            <a:ahLst/>
            <a:rect l="l" t="t" r="r" b="b"/>
            <a:pathLst>
              <a:path w="336" h="1008">
                <a:moveTo>
                  <a:pt x="0" y="192"/>
                </a:moveTo>
                <a:lnTo>
                  <a:pt x="0" y="1008"/>
                </a:lnTo>
                <a:lnTo>
                  <a:pt x="336" y="1008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91320" y="2133720"/>
            <a:ext cx="533160" cy="30456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192"/>
                </a:moveTo>
                <a:cubicBezTo>
                  <a:pt x="56" y="180"/>
                  <a:pt x="112" y="168"/>
                  <a:pt x="144" y="144"/>
                </a:cubicBezTo>
                <a:cubicBezTo>
                  <a:pt x="176" y="120"/>
                  <a:pt x="160" y="72"/>
                  <a:pt x="192" y="48"/>
                </a:cubicBezTo>
                <a:cubicBezTo>
                  <a:pt x="224" y="24"/>
                  <a:pt x="312" y="8"/>
                  <a:pt x="336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5791320" y="4494960"/>
            <a:ext cx="533160" cy="1600200"/>
          </a:xfrm>
          <a:custGeom>
            <a:avLst/>
            <a:gdLst/>
            <a:ahLst/>
            <a:rect l="l" t="t" r="r" b="b"/>
            <a:pathLst>
              <a:path w="336" h="1008">
                <a:moveTo>
                  <a:pt x="0" y="192"/>
                </a:moveTo>
                <a:lnTo>
                  <a:pt x="0" y="1008"/>
                </a:lnTo>
                <a:lnTo>
                  <a:pt x="336" y="1008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791320" y="5637960"/>
            <a:ext cx="53316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192"/>
                </a:moveTo>
                <a:cubicBezTo>
                  <a:pt x="56" y="180"/>
                  <a:pt x="112" y="168"/>
                  <a:pt x="144" y="144"/>
                </a:cubicBezTo>
                <a:cubicBezTo>
                  <a:pt x="176" y="120"/>
                  <a:pt x="160" y="72"/>
                  <a:pt x="192" y="48"/>
                </a:cubicBezTo>
                <a:cubicBezTo>
                  <a:pt x="224" y="24"/>
                  <a:pt x="312" y="8"/>
                  <a:pt x="336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57800" y="3809880"/>
            <a:ext cx="1523880" cy="60984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410080" y="3733920"/>
            <a:ext cx="129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34120" y="449568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410080" y="3886200"/>
            <a:ext cx="12956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4120" y="4343400"/>
            <a:ext cx="1295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43400" y="4114800"/>
            <a:ext cx="3429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62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金属板隔离输入输出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705720" y="5105520"/>
            <a:ext cx="19047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一周接地电感很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400440" y="4572000"/>
            <a:ext cx="685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3353040" cy="27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穿心电容的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rcRect l="6047" t="2497" r="0" b="9750"/>
          <a:stretch/>
        </p:blipFill>
        <p:spPr>
          <a:xfrm>
            <a:off x="685800" y="1905120"/>
            <a:ext cx="76201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穿心电容、馈通滤波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>
            <a:off x="5943600" y="4543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以穿心电容为基础的馈通滤波器广泛应用于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RF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滤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5638680" y="1962000"/>
            <a:ext cx="3267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1" name="PKGA" descr=""/>
          <p:cNvPicPr/>
          <p:nvPr/>
        </p:nvPicPr>
        <p:blipFill>
          <a:blip r:embed="rId2"/>
          <a:srcRect l="13512" t="18217" r="12165" b="18026"/>
          <a:stretch/>
        </p:blipFill>
        <p:spPr>
          <a:xfrm>
            <a:off x="838080" y="228600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平板滤波阵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190760" cy="254628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5664600" y="2286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用于制造滤波连接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733920" cy="35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馈通滤波器使用注意事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>
            <a:off x="762120" y="2362320"/>
            <a:ext cx="754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必须安装在金属板上，并在一周接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好焊接，螺纹安装时要使用带齿垫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焊接时间不能过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上紧螺纹时扭矩不能过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线路板上使用馈通滤波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"/>
          <p:cNvSpPr/>
          <p:nvPr/>
        </p:nvSpPr>
        <p:spPr>
          <a:xfrm>
            <a:off x="2590920" y="2209680"/>
            <a:ext cx="2057400" cy="3200400"/>
          </a:xfrm>
          <a:custGeom>
            <a:avLst/>
            <a:gdLst/>
            <a:ahLst/>
            <a:rect l="l" t="t" r="r" b="b"/>
            <a:pathLst>
              <a:path w="1296" h="2016">
                <a:moveTo>
                  <a:pt x="96" y="1056"/>
                </a:moveTo>
                <a:lnTo>
                  <a:pt x="1200" y="0"/>
                </a:lnTo>
                <a:lnTo>
                  <a:pt x="1296" y="0"/>
                </a:lnTo>
                <a:lnTo>
                  <a:pt x="1296" y="768"/>
                </a:lnTo>
                <a:lnTo>
                  <a:pt x="0" y="2016"/>
                </a:lnTo>
                <a:lnTo>
                  <a:pt x="0" y="1248"/>
                </a:lnTo>
                <a:lnTo>
                  <a:pt x="1296" y="0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981080" y="4876920"/>
            <a:ext cx="457200" cy="53316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384" y="384"/>
                </a:moveTo>
                <a:lnTo>
                  <a:pt x="0" y="384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7400" y="388620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432" y="0"/>
                </a:moveTo>
                <a:lnTo>
                  <a:pt x="240" y="240"/>
                </a:lnTo>
                <a:lnTo>
                  <a:pt x="240" y="912"/>
                </a:lnTo>
                <a:lnTo>
                  <a:pt x="0" y="912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38080" y="2514600"/>
            <a:ext cx="3276720" cy="1143000"/>
          </a:xfrm>
          <a:custGeom>
            <a:avLst/>
            <a:gdLst/>
            <a:ahLst/>
            <a:rect l="l" t="t" r="r" b="b"/>
            <a:pathLst>
              <a:path w="2064" h="720">
                <a:moveTo>
                  <a:pt x="0" y="720"/>
                </a:moveTo>
                <a:lnTo>
                  <a:pt x="816" y="0"/>
                </a:lnTo>
                <a:lnTo>
                  <a:pt x="2064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64832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5800" y="48769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48769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09480" y="5715000"/>
            <a:ext cx="655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685800" y="4876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914400" y="4876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1143000" y="4876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1371600" y="4876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1600200" y="4876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1905120" y="5334120"/>
            <a:ext cx="30456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2133720" y="5334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362320" y="5334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2590920" y="48769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2895120" y="4876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3200040" y="4876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962520" y="3124080"/>
            <a:ext cx="152280" cy="30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81280" y="3505320"/>
            <a:ext cx="152640" cy="304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048120" y="403848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00400" y="4038480"/>
            <a:ext cx="152280" cy="457200"/>
          </a:xfrm>
          <a:custGeom>
            <a:avLst/>
            <a:gdLst/>
            <a:ahLst/>
            <a:rect l="l" t="t" r="r" b="b"/>
            <a:pathLst>
              <a:path w="112" h="288">
                <a:moveTo>
                  <a:pt x="48" y="0"/>
                </a:moveTo>
                <a:cubicBezTo>
                  <a:pt x="68" y="28"/>
                  <a:pt x="88" y="56"/>
                  <a:pt x="96" y="96"/>
                </a:cubicBezTo>
                <a:cubicBezTo>
                  <a:pt x="104" y="136"/>
                  <a:pt x="112" y="208"/>
                  <a:pt x="96" y="240"/>
                </a:cubicBezTo>
                <a:cubicBezTo>
                  <a:pt x="80" y="272"/>
                  <a:pt x="40" y="280"/>
                  <a:pt x="0" y="288"/>
                </a:cubicBezTo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24080" y="41911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48" y="0"/>
                </a:moveTo>
                <a:lnTo>
                  <a:pt x="192" y="0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276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352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209680" y="4267080"/>
            <a:ext cx="228600" cy="3812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144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29000" y="4267080"/>
            <a:ext cx="30492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0"/>
                </a:moveTo>
                <a:lnTo>
                  <a:pt x="192" y="0"/>
                </a:lnTo>
                <a:lnTo>
                  <a:pt x="192" y="240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505320" y="4572000"/>
            <a:ext cx="2819160" cy="152280"/>
          </a:xfrm>
          <a:custGeom>
            <a:avLst/>
            <a:gdLst/>
            <a:ahLst/>
            <a:rect l="l" t="t" r="r" b="b"/>
            <a:pathLst>
              <a:path w="1776" h="96">
                <a:moveTo>
                  <a:pt x="1776" y="0"/>
                </a:moveTo>
                <a:lnTo>
                  <a:pt x="48" y="0"/>
                </a:lnTo>
                <a:lnTo>
                  <a:pt x="0" y="96"/>
                </a:lnTo>
                <a:lnTo>
                  <a:pt x="1488" y="9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657600" y="4648320"/>
            <a:ext cx="22860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2120" y="457200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144" y="0"/>
                </a:moveTo>
                <a:lnTo>
                  <a:pt x="1008" y="0"/>
                </a:lnTo>
                <a:lnTo>
                  <a:pt x="912" y="96"/>
                </a:ln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20040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线路板地线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 flipV="1">
            <a:off x="2514240" y="56386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248520" y="3124080"/>
            <a:ext cx="838080" cy="38124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59600" y="3352680"/>
            <a:ext cx="965160" cy="330480"/>
          </a:xfrm>
          <a:custGeom>
            <a:avLst/>
            <a:gdLst/>
            <a:ahLst/>
            <a:rect l="l" t="t" r="r" b="b"/>
            <a:pathLst>
              <a:path w="608" h="208">
                <a:moveTo>
                  <a:pt x="56" y="0"/>
                </a:moveTo>
                <a:cubicBezTo>
                  <a:pt x="28" y="36"/>
                  <a:pt x="0" y="72"/>
                  <a:pt x="8" y="96"/>
                </a:cubicBezTo>
                <a:cubicBezTo>
                  <a:pt x="16" y="120"/>
                  <a:pt x="64" y="128"/>
                  <a:pt x="104" y="144"/>
                </a:cubicBezTo>
                <a:cubicBezTo>
                  <a:pt x="144" y="160"/>
                  <a:pt x="192" y="184"/>
                  <a:pt x="248" y="192"/>
                </a:cubicBezTo>
                <a:cubicBezTo>
                  <a:pt x="304" y="200"/>
                  <a:pt x="384" y="208"/>
                  <a:pt x="440" y="192"/>
                </a:cubicBezTo>
                <a:cubicBezTo>
                  <a:pt x="496" y="176"/>
                  <a:pt x="560" y="128"/>
                  <a:pt x="584" y="96"/>
                </a:cubicBezTo>
                <a:cubicBezTo>
                  <a:pt x="608" y="64"/>
                  <a:pt x="584" y="16"/>
                  <a:pt x="584" y="0"/>
                </a:cubicBezTo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502320" y="2895480"/>
            <a:ext cx="406440" cy="444600"/>
          </a:xfrm>
          <a:custGeom>
            <a:avLst/>
            <a:gdLst/>
            <a:ahLst/>
            <a:rect l="l" t="t" r="r" b="b"/>
            <a:pathLst>
              <a:path w="256" h="280">
                <a:moveTo>
                  <a:pt x="32" y="0"/>
                </a:moveTo>
                <a:cubicBezTo>
                  <a:pt x="16" y="100"/>
                  <a:pt x="0" y="200"/>
                  <a:pt x="32" y="240"/>
                </a:cubicBezTo>
                <a:cubicBezTo>
                  <a:pt x="64" y="280"/>
                  <a:pt x="192" y="272"/>
                  <a:pt x="224" y="240"/>
                </a:cubicBezTo>
                <a:cubicBezTo>
                  <a:pt x="256" y="208"/>
                  <a:pt x="240" y="128"/>
                  <a:pt x="224" y="48"/>
                </a:cubicBezTo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553080" y="2895480"/>
            <a:ext cx="304920" cy="22860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05720" y="2819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15280" y="3657600"/>
            <a:ext cx="342720" cy="177840"/>
          </a:xfrm>
          <a:custGeom>
            <a:avLst/>
            <a:gdLst/>
            <a:ahLst/>
            <a:rect l="l" t="t" r="r" b="b"/>
            <a:pathLst>
              <a:path w="216" h="112">
                <a:moveTo>
                  <a:pt x="24" y="0"/>
                </a:moveTo>
                <a:cubicBezTo>
                  <a:pt x="12" y="40"/>
                  <a:pt x="0" y="80"/>
                  <a:pt x="24" y="96"/>
                </a:cubicBezTo>
                <a:cubicBezTo>
                  <a:pt x="48" y="112"/>
                  <a:pt x="136" y="112"/>
                  <a:pt x="168" y="96"/>
                </a:cubicBezTo>
                <a:cubicBezTo>
                  <a:pt x="200" y="80"/>
                  <a:pt x="208" y="40"/>
                  <a:pt x="216" y="0"/>
                </a:cubicBezTo>
              </a:path>
            </a:pathLst>
          </a:custGeom>
          <a:noFill/>
          <a:ln w="38160">
            <a:solidFill>
              <a:srgbClr val="33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5486040" y="289548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248520" y="3352680"/>
            <a:ext cx="838080" cy="177840"/>
          </a:xfrm>
          <a:custGeom>
            <a:avLst/>
            <a:gdLst/>
            <a:ahLst/>
            <a:rect l="l" t="t" r="r" b="b"/>
            <a:pathLst>
              <a:path w="528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0" y="112"/>
                  <a:pt x="384" y="96"/>
                </a:cubicBezTo>
                <a:cubicBezTo>
                  <a:pt x="448" y="80"/>
                  <a:pt x="488" y="40"/>
                  <a:pt x="52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791320" y="289548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5943600" y="3581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172200" y="3657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6629400" y="32004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6858000" y="2590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009920" y="2743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609552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572000" y="3733920"/>
            <a:ext cx="1676520" cy="152280"/>
          </a:xfrm>
          <a:custGeom>
            <a:avLst/>
            <a:gdLst/>
            <a:ahLst/>
            <a:rect l="l" t="t" r="r" b="b"/>
            <a:pathLst>
              <a:path w="1776" h="96">
                <a:moveTo>
                  <a:pt x="1776" y="0"/>
                </a:moveTo>
                <a:lnTo>
                  <a:pt x="48" y="0"/>
                </a:lnTo>
                <a:lnTo>
                  <a:pt x="0" y="96"/>
                </a:lnTo>
                <a:lnTo>
                  <a:pt x="1488" y="96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172200" y="3809880"/>
            <a:ext cx="457200" cy="152640"/>
          </a:xfrm>
          <a:custGeom>
            <a:avLst/>
            <a:gdLst/>
            <a:ahLst/>
            <a:rect l="l" t="t" r="r" b="b"/>
            <a:pathLst>
              <a:path w="288" h="96">
                <a:moveTo>
                  <a:pt x="288" y="0"/>
                </a:moveTo>
                <a:lnTo>
                  <a:pt x="28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3352680"/>
            <a:ext cx="83844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432" y="0"/>
                </a:moveTo>
                <a:lnTo>
                  <a:pt x="48" y="0"/>
                </a:lnTo>
                <a:lnTo>
                  <a:pt x="0" y="96"/>
                </a:lnTo>
                <a:lnTo>
                  <a:pt x="528" y="9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335268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705720" y="2819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384" y="0"/>
                </a:lnTo>
                <a:lnTo>
                  <a:pt x="528" y="0"/>
                </a:lnTo>
                <a:lnTo>
                  <a:pt x="528" y="384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201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086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638680" y="4038480"/>
            <a:ext cx="1524240" cy="355680"/>
          </a:xfrm>
          <a:custGeom>
            <a:avLst/>
            <a:gdLst/>
            <a:ahLst/>
            <a:rect l="l" t="t" r="r" b="b"/>
            <a:pathLst>
              <a:path w="960" h="224">
                <a:moveTo>
                  <a:pt x="960" y="192"/>
                </a:moveTo>
                <a:cubicBezTo>
                  <a:pt x="824" y="208"/>
                  <a:pt x="688" y="224"/>
                  <a:pt x="528" y="192"/>
                </a:cubicBezTo>
                <a:cubicBezTo>
                  <a:pt x="368" y="160"/>
                  <a:pt x="88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00200" y="2971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71600" y="32004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28800" y="2743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4382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257800" y="3581280"/>
            <a:ext cx="1905120" cy="2590920"/>
          </a:xfrm>
          <a:custGeom>
            <a:avLst/>
            <a:gdLst/>
            <a:ahLst/>
            <a:rect l="l" t="t" r="r" b="b"/>
            <a:pathLst>
              <a:path w="1344" h="1680">
                <a:moveTo>
                  <a:pt x="0" y="1680"/>
                </a:moveTo>
                <a:cubicBezTo>
                  <a:pt x="440" y="1388"/>
                  <a:pt x="880" y="1096"/>
                  <a:pt x="1104" y="816"/>
                </a:cubicBezTo>
                <a:cubicBezTo>
                  <a:pt x="1328" y="536"/>
                  <a:pt x="1336" y="268"/>
                  <a:pt x="1344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磁芯对电感寄生电容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2819520" y="2743200"/>
            <a:ext cx="1600200" cy="1600200"/>
            <a:chOff x="2819520" y="2743200"/>
            <a:chExt cx="1600200" cy="1600200"/>
          </a:xfrm>
        </p:grpSpPr>
        <p:grpSp>
          <p:nvGrpSpPr>
            <p:cNvPr id="1173" name=""/>
            <p:cNvGrpSpPr/>
            <p:nvPr/>
          </p:nvGrpSpPr>
          <p:grpSpPr>
            <a:xfrm>
              <a:off x="2819520" y="2743200"/>
              <a:ext cx="1447920" cy="1447560"/>
              <a:chOff x="2819520" y="2743200"/>
              <a:chExt cx="1447920" cy="1447560"/>
            </a:xfrm>
          </p:grpSpPr>
          <p:sp>
            <p:nvSpPr>
              <p:cNvPr id="1174" name=""/>
              <p:cNvSpPr/>
              <p:nvPr/>
            </p:nvSpPr>
            <p:spPr>
              <a:xfrm>
                <a:off x="2819520" y="2743200"/>
                <a:ext cx="1447920" cy="1447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124440" y="3047760"/>
                <a:ext cx="838080" cy="838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2895840" y="3581280"/>
              <a:ext cx="380880" cy="68580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432"/>
                  </a:moveTo>
                  <a:cubicBezTo>
                    <a:pt x="76" y="264"/>
                    <a:pt x="152" y="96"/>
                    <a:pt x="192" y="48"/>
                  </a:cubicBezTo>
                  <a:cubicBezTo>
                    <a:pt x="232" y="0"/>
                    <a:pt x="232" y="128"/>
                    <a:pt x="240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00400" y="3835440"/>
              <a:ext cx="304920" cy="39348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76"/>
                  </a:moveTo>
                  <a:cubicBezTo>
                    <a:pt x="16" y="212"/>
                    <a:pt x="32" y="248"/>
                    <a:pt x="48" y="224"/>
                  </a:cubicBezTo>
                  <a:cubicBezTo>
                    <a:pt x="64" y="200"/>
                    <a:pt x="72" y="64"/>
                    <a:pt x="96" y="32"/>
                  </a:cubicBezTo>
                  <a:cubicBezTo>
                    <a:pt x="120" y="0"/>
                    <a:pt x="156" y="16"/>
                    <a:pt x="192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20856600">
              <a:off x="3353040" y="3843000"/>
              <a:ext cx="304560" cy="39348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76"/>
                  </a:moveTo>
                  <a:cubicBezTo>
                    <a:pt x="16" y="212"/>
                    <a:pt x="32" y="248"/>
                    <a:pt x="48" y="224"/>
                  </a:cubicBezTo>
                  <a:cubicBezTo>
                    <a:pt x="64" y="200"/>
                    <a:pt x="72" y="64"/>
                    <a:pt x="96" y="32"/>
                  </a:cubicBezTo>
                  <a:cubicBezTo>
                    <a:pt x="120" y="0"/>
                    <a:pt x="156" y="16"/>
                    <a:pt x="192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20637600">
              <a:off x="3549240" y="3809520"/>
              <a:ext cx="304920" cy="39384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76"/>
                  </a:moveTo>
                  <a:cubicBezTo>
                    <a:pt x="16" y="212"/>
                    <a:pt x="32" y="248"/>
                    <a:pt x="48" y="224"/>
                  </a:cubicBezTo>
                  <a:cubicBezTo>
                    <a:pt x="64" y="200"/>
                    <a:pt x="72" y="64"/>
                    <a:pt x="96" y="32"/>
                  </a:cubicBezTo>
                  <a:cubicBezTo>
                    <a:pt x="120" y="0"/>
                    <a:pt x="156" y="16"/>
                    <a:pt x="192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19486800">
              <a:off x="3733560" y="3733200"/>
              <a:ext cx="304920" cy="39384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76"/>
                  </a:moveTo>
                  <a:cubicBezTo>
                    <a:pt x="16" y="212"/>
                    <a:pt x="32" y="248"/>
                    <a:pt x="48" y="224"/>
                  </a:cubicBezTo>
                  <a:cubicBezTo>
                    <a:pt x="64" y="200"/>
                    <a:pt x="72" y="64"/>
                    <a:pt x="96" y="32"/>
                  </a:cubicBezTo>
                  <a:cubicBezTo>
                    <a:pt x="120" y="0"/>
                    <a:pt x="156" y="16"/>
                    <a:pt x="192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14800" y="388620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0"/>
                  </a:moveTo>
                  <a:cubicBezTo>
                    <a:pt x="32" y="24"/>
                    <a:pt x="64" y="48"/>
                    <a:pt x="96" y="96"/>
                  </a:cubicBezTo>
                  <a:cubicBezTo>
                    <a:pt x="128" y="144"/>
                    <a:pt x="160" y="216"/>
                    <a:pt x="192" y="2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216040" y="2585520"/>
            <a:ext cx="1802880" cy="1853640"/>
            <a:chOff x="5216040" y="2585520"/>
            <a:chExt cx="1802880" cy="1853640"/>
          </a:xfrm>
        </p:grpSpPr>
        <p:grpSp>
          <p:nvGrpSpPr>
            <p:cNvPr id="1183" name=""/>
            <p:cNvGrpSpPr/>
            <p:nvPr/>
          </p:nvGrpSpPr>
          <p:grpSpPr>
            <a:xfrm>
              <a:off x="5216040" y="2585520"/>
              <a:ext cx="1802880" cy="1802880"/>
              <a:chOff x="5216040" y="2585520"/>
              <a:chExt cx="1802880" cy="1802880"/>
            </a:xfrm>
          </p:grpSpPr>
          <p:sp>
            <p:nvSpPr>
              <p:cNvPr id="1184" name=""/>
              <p:cNvSpPr/>
              <p:nvPr/>
            </p:nvSpPr>
            <p:spPr>
              <a:xfrm rot="20596800">
                <a:off x="5393520" y="2763000"/>
                <a:ext cx="1447560" cy="1447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20596800">
                <a:off x="5698080" y="3067560"/>
                <a:ext cx="838440" cy="837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 rot="20596800">
              <a:off x="5519160" y="3705840"/>
              <a:ext cx="622440" cy="609120"/>
            </a:xfrm>
            <a:custGeom>
              <a:avLst/>
              <a:gdLst/>
              <a:ahLst/>
              <a:rect l="l" t="t" r="r" b="b"/>
              <a:pathLst>
                <a:path w="296" h="576">
                  <a:moveTo>
                    <a:pt x="0" y="576"/>
                  </a:moveTo>
                  <a:cubicBezTo>
                    <a:pt x="96" y="444"/>
                    <a:pt x="192" y="312"/>
                    <a:pt x="240" y="240"/>
                  </a:cubicBezTo>
                  <a:cubicBezTo>
                    <a:pt x="288" y="168"/>
                    <a:pt x="296" y="176"/>
                    <a:pt x="288" y="144"/>
                  </a:cubicBezTo>
                  <a:cubicBezTo>
                    <a:pt x="280" y="112"/>
                    <a:pt x="216" y="72"/>
                    <a:pt x="192" y="48"/>
                  </a:cubicBezTo>
                  <a:cubicBezTo>
                    <a:pt x="168" y="24"/>
                    <a:pt x="156" y="12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20596800">
              <a:off x="5299920" y="3290400"/>
              <a:ext cx="482760" cy="88560"/>
            </a:xfrm>
            <a:custGeom>
              <a:avLst/>
              <a:gdLst/>
              <a:ahLst/>
              <a:rect l="l" t="t" r="r" b="b"/>
              <a:pathLst>
                <a:path w="520" h="104">
                  <a:moveTo>
                    <a:pt x="64" y="96"/>
                  </a:moveTo>
                  <a:cubicBezTo>
                    <a:pt x="32" y="48"/>
                    <a:pt x="0" y="0"/>
                    <a:pt x="64" y="0"/>
                  </a:cubicBezTo>
                  <a:cubicBezTo>
                    <a:pt x="128" y="0"/>
                    <a:pt x="376" y="88"/>
                    <a:pt x="448" y="96"/>
                  </a:cubicBezTo>
                  <a:cubicBezTo>
                    <a:pt x="520" y="104"/>
                    <a:pt x="508" y="76"/>
                    <a:pt x="496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873000">
              <a:off x="5627160" y="2967120"/>
              <a:ext cx="482760" cy="88560"/>
            </a:xfrm>
            <a:custGeom>
              <a:avLst/>
              <a:gdLst/>
              <a:ahLst/>
              <a:rect l="l" t="t" r="r" b="b"/>
              <a:pathLst>
                <a:path w="520" h="104">
                  <a:moveTo>
                    <a:pt x="64" y="96"/>
                  </a:moveTo>
                  <a:cubicBezTo>
                    <a:pt x="32" y="48"/>
                    <a:pt x="0" y="0"/>
                    <a:pt x="64" y="0"/>
                  </a:cubicBezTo>
                  <a:cubicBezTo>
                    <a:pt x="128" y="0"/>
                    <a:pt x="376" y="88"/>
                    <a:pt x="448" y="96"/>
                  </a:cubicBezTo>
                  <a:cubicBezTo>
                    <a:pt x="520" y="104"/>
                    <a:pt x="508" y="76"/>
                    <a:pt x="496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5427000">
              <a:off x="6110280" y="2920680"/>
              <a:ext cx="482400" cy="88920"/>
            </a:xfrm>
            <a:custGeom>
              <a:avLst/>
              <a:gdLst/>
              <a:ahLst/>
              <a:rect l="l" t="t" r="r" b="b"/>
              <a:pathLst>
                <a:path w="520" h="104">
                  <a:moveTo>
                    <a:pt x="64" y="96"/>
                  </a:moveTo>
                  <a:cubicBezTo>
                    <a:pt x="32" y="48"/>
                    <a:pt x="0" y="0"/>
                    <a:pt x="64" y="0"/>
                  </a:cubicBezTo>
                  <a:cubicBezTo>
                    <a:pt x="128" y="0"/>
                    <a:pt x="376" y="88"/>
                    <a:pt x="448" y="96"/>
                  </a:cubicBezTo>
                  <a:cubicBezTo>
                    <a:pt x="520" y="104"/>
                    <a:pt x="508" y="76"/>
                    <a:pt x="496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7776600">
              <a:off x="6439320" y="3220200"/>
              <a:ext cx="482400" cy="88560"/>
            </a:xfrm>
            <a:custGeom>
              <a:avLst/>
              <a:gdLst/>
              <a:ahLst/>
              <a:rect l="l" t="t" r="r" b="b"/>
              <a:pathLst>
                <a:path w="520" h="104">
                  <a:moveTo>
                    <a:pt x="64" y="96"/>
                  </a:moveTo>
                  <a:cubicBezTo>
                    <a:pt x="32" y="48"/>
                    <a:pt x="0" y="0"/>
                    <a:pt x="64" y="0"/>
                  </a:cubicBezTo>
                  <a:cubicBezTo>
                    <a:pt x="128" y="0"/>
                    <a:pt x="376" y="88"/>
                    <a:pt x="448" y="96"/>
                  </a:cubicBezTo>
                  <a:cubicBezTo>
                    <a:pt x="520" y="104"/>
                    <a:pt x="508" y="76"/>
                    <a:pt x="496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11458200">
              <a:off x="6397200" y="3676680"/>
              <a:ext cx="482400" cy="88560"/>
            </a:xfrm>
            <a:custGeom>
              <a:avLst/>
              <a:gdLst/>
              <a:ahLst/>
              <a:rect l="l" t="t" r="r" b="b"/>
              <a:pathLst>
                <a:path w="520" h="104">
                  <a:moveTo>
                    <a:pt x="64" y="96"/>
                  </a:moveTo>
                  <a:cubicBezTo>
                    <a:pt x="32" y="48"/>
                    <a:pt x="0" y="0"/>
                    <a:pt x="64" y="0"/>
                  </a:cubicBezTo>
                  <a:cubicBezTo>
                    <a:pt x="128" y="0"/>
                    <a:pt x="376" y="88"/>
                    <a:pt x="448" y="96"/>
                  </a:cubicBezTo>
                  <a:cubicBezTo>
                    <a:pt x="520" y="104"/>
                    <a:pt x="508" y="76"/>
                    <a:pt x="496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rot="20596800">
              <a:off x="6477120" y="4129920"/>
              <a:ext cx="76320" cy="30456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0" y="80"/>
                    <a:pt x="40" y="160"/>
                    <a:pt x="48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228600" y="47242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铁粉芯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 = 4.28pf           C = 3.48pf         19%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铁氧体（锰锌）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 = 51pf                C = 49pf            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14600" y="2666880"/>
            <a:ext cx="0" cy="3429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952880" y="2666880"/>
            <a:ext cx="0" cy="3429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391520" y="2666880"/>
            <a:ext cx="0" cy="3429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04920" y="4495680"/>
            <a:ext cx="8381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减小电感寄生电容的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9" name=""/>
          <p:cNvSpPr/>
          <p:nvPr/>
        </p:nvSpPr>
        <p:spPr>
          <a:xfrm>
            <a:off x="304920" y="3048120"/>
            <a:ext cx="7162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然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起始端与终止端远离（夹角大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尽量单层绕制，并增加匝间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多层绕制时， 采用“渐进”方式绕，不要来回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组绕制 （要求高时，用大电感和小电感串联起来使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90720" y="19810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如果磁芯是导体，首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用介电常数低的材料增加绕组导体与磁芯之间的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7010280" y="3352680"/>
            <a:ext cx="1371240" cy="1142640"/>
            <a:chOff x="7010280" y="3352680"/>
            <a:chExt cx="1371240" cy="1142640"/>
          </a:xfrm>
        </p:grpSpPr>
        <p:sp>
          <p:nvSpPr>
            <p:cNvPr id="1202" name=""/>
            <p:cNvSpPr/>
            <p:nvPr/>
          </p:nvSpPr>
          <p:spPr>
            <a:xfrm>
              <a:off x="7010280" y="3447720"/>
              <a:ext cx="1054800" cy="104724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75160" y="3632400"/>
              <a:ext cx="738360" cy="6667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7748640" y="3352680"/>
              <a:ext cx="421920" cy="3808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065080" y="4019400"/>
              <a:ext cx="316440" cy="9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43160" y="3447720"/>
              <a:ext cx="0" cy="190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326720" y="3447720"/>
              <a:ext cx="105480" cy="190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15760" y="3638160"/>
              <a:ext cx="105480" cy="190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10280" y="3924000"/>
              <a:ext cx="210960" cy="9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115760" y="4209840"/>
              <a:ext cx="210600" cy="9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432200" y="4305240"/>
              <a:ext cx="0" cy="190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 flipV="1">
              <a:off x="7642800" y="4305240"/>
              <a:ext cx="105480" cy="190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7748280" y="4209840"/>
              <a:ext cx="210600" cy="9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flipV="1">
              <a:off x="7854120" y="4019400"/>
              <a:ext cx="210600" cy="9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8077320" y="34290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0" y="0"/>
                </a:moveTo>
                <a:cubicBezTo>
                  <a:pt x="36" y="28"/>
                  <a:pt x="72" y="56"/>
                  <a:pt x="96" y="96"/>
                </a:cubicBezTo>
                <a:cubicBezTo>
                  <a:pt x="120" y="136"/>
                  <a:pt x="136" y="184"/>
                  <a:pt x="144" y="240"/>
                </a:cubicBezTo>
                <a:cubicBezTo>
                  <a:pt x="152" y="296"/>
                  <a:pt x="148" y="364"/>
                  <a:pt x="144" y="432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电源线滤波器的作用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电源线滤波器的作用1" descr=""/>
          <p:cNvPicPr/>
          <p:nvPr/>
        </p:nvPicPr>
        <p:blipFill>
          <a:blip r:embed="rId1"/>
          <a:srcRect l="50397" t="0" r="0" b="0"/>
          <a:stretch/>
        </p:blipFill>
        <p:spPr>
          <a:xfrm>
            <a:off x="6172200" y="3124080"/>
            <a:ext cx="22860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838080" y="2209680"/>
            <a:ext cx="6781320" cy="3504600"/>
            <a:chOff x="838080" y="2209680"/>
            <a:chExt cx="6781320" cy="3504600"/>
          </a:xfrm>
        </p:grpSpPr>
        <p:grpSp>
          <p:nvGrpSpPr>
            <p:cNvPr id="136" name=""/>
            <p:cNvGrpSpPr/>
            <p:nvPr/>
          </p:nvGrpSpPr>
          <p:grpSpPr>
            <a:xfrm>
              <a:off x="5625000" y="4550400"/>
              <a:ext cx="1994400" cy="1163880"/>
              <a:chOff x="5625000" y="4550400"/>
              <a:chExt cx="1994400" cy="1163880"/>
            </a:xfrm>
          </p:grpSpPr>
          <p:sp>
            <p:nvSpPr>
              <p:cNvPr id="137" name=""/>
              <p:cNvSpPr/>
              <p:nvPr/>
            </p:nvSpPr>
            <p:spPr>
              <a:xfrm>
                <a:off x="5625000" y="4550400"/>
                <a:ext cx="1809360" cy="990000"/>
              </a:xfrm>
              <a:custGeom>
                <a:avLst/>
                <a:gdLst/>
                <a:ahLst/>
                <a:rect l="l" t="t" r="r" b="b"/>
                <a:pathLst>
                  <a:path w="1872" h="568">
                    <a:moveTo>
                      <a:pt x="0" y="32"/>
                    </a:moveTo>
                    <a:cubicBezTo>
                      <a:pt x="56" y="16"/>
                      <a:pt x="112" y="0"/>
                      <a:pt x="144" y="32"/>
                    </a:cubicBezTo>
                    <a:cubicBezTo>
                      <a:pt x="176" y="64"/>
                      <a:pt x="80" y="144"/>
                      <a:pt x="192" y="224"/>
                    </a:cubicBezTo>
                    <a:cubicBezTo>
                      <a:pt x="304" y="304"/>
                      <a:pt x="536" y="456"/>
                      <a:pt x="816" y="512"/>
                    </a:cubicBezTo>
                    <a:cubicBezTo>
                      <a:pt x="1096" y="568"/>
                      <a:pt x="1484" y="564"/>
                      <a:pt x="1872" y="56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434360" y="5288400"/>
                <a:ext cx="92520" cy="425880"/>
              </a:xfrm>
              <a:custGeom>
                <a:avLst/>
                <a:gdLst>
                  <a:gd name="textAreaLeft" fmla="*/ 4320 w 92520"/>
                  <a:gd name="textAreaRight" fmla="*/ 88200 w 92520"/>
                  <a:gd name="textAreaTop" fmla="*/ 4320 h 425880"/>
                  <a:gd name="textAreaBottom" fmla="*/ 421560 h 425880"/>
                </a:gdLst>
                <a:ahLst/>
                <a:rect l="textAreaLeft" t="textAreaTop" r="textAreaRight" b="textAreaBottom"/>
                <a:pathLst>
                  <a:path w="21600" h="99126">
                    <a:moveTo>
                      <a:pt x="3600" y="0"/>
                    </a:moveTo>
                    <a:arcTo wR="3600" hR="3600" stAng="16200000" swAng="-5400000"/>
                    <a:lnTo>
                      <a:pt x="0" y="95526"/>
                    </a:lnTo>
                    <a:arcTo wR="3600" hR="3600" stAng="10800000" swAng="-5400000"/>
                    <a:lnTo>
                      <a:pt x="18000" y="9912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26880" y="5373720"/>
                <a:ext cx="92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26880" y="5543640"/>
                <a:ext cx="92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26880" y="5628960"/>
                <a:ext cx="92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838080" y="2209680"/>
              <a:ext cx="4786560" cy="2951280"/>
              <a:chOff x="838080" y="2209680"/>
              <a:chExt cx="4786560" cy="2951280"/>
            </a:xfrm>
          </p:grpSpPr>
          <p:sp>
            <p:nvSpPr>
              <p:cNvPr id="143" name=""/>
              <p:cNvSpPr/>
              <p:nvPr/>
            </p:nvSpPr>
            <p:spPr>
              <a:xfrm>
                <a:off x="838080" y="2209680"/>
                <a:ext cx="4786560" cy="2951280"/>
              </a:xfrm>
              <a:prstGeom prst="rect">
                <a:avLst/>
              </a:prstGeom>
              <a:solidFill>
                <a:srgbClr val="ffcf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41840" y="2420280"/>
                <a:ext cx="4378680" cy="2530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08080" y="4317840"/>
                <a:ext cx="916200" cy="63252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49000" y="4528440"/>
                <a:ext cx="2647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53120" y="4317840"/>
                <a:ext cx="305280" cy="21060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64040" y="4317840"/>
                <a:ext cx="305280" cy="21060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73080" y="4212360"/>
                <a:ext cx="305280" cy="31608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91520" y="4212360"/>
                <a:ext cx="203400" cy="31608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84000" y="4423320"/>
                <a:ext cx="1323720" cy="369000"/>
              </a:xfrm>
              <a:custGeom>
                <a:avLst/>
                <a:gdLst/>
                <a:ahLst/>
                <a:rect l="l" t="t" r="r" b="b"/>
                <a:pathLst>
                  <a:path w="624" h="168">
                    <a:moveTo>
                      <a:pt x="0" y="0"/>
                    </a:moveTo>
                    <a:cubicBezTo>
                      <a:pt x="16" y="60"/>
                      <a:pt x="32" y="120"/>
                      <a:pt x="96" y="144"/>
                    </a:cubicBezTo>
                    <a:cubicBezTo>
                      <a:pt x="160" y="168"/>
                      <a:pt x="296" y="152"/>
                      <a:pt x="384" y="144"/>
                    </a:cubicBezTo>
                    <a:cubicBezTo>
                      <a:pt x="472" y="136"/>
                      <a:pt x="548" y="116"/>
                      <a:pt x="624" y="9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2" name="电源线滤波器的作用1" descr=""/>
          <p:cNvPicPr/>
          <p:nvPr/>
        </p:nvPicPr>
        <p:blipFill>
          <a:blip r:embed="rId2"/>
          <a:srcRect l="0" t="0" r="50397" b="0"/>
          <a:stretch/>
        </p:blipFill>
        <p:spPr>
          <a:xfrm>
            <a:off x="3429000" y="2585880"/>
            <a:ext cx="1981080" cy="17575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7391520" y="5715000"/>
            <a:ext cx="1447560" cy="914400"/>
            <a:chOff x="7391520" y="5715000"/>
            <a:chExt cx="1447560" cy="914400"/>
          </a:xfrm>
        </p:grpSpPr>
        <p:pic>
          <p:nvPicPr>
            <p:cNvPr id="154" name="" descr=""/>
            <p:cNvPicPr/>
            <p:nvPr/>
          </p:nvPicPr>
          <p:blipFill>
            <a:blip r:embed="rId3"/>
            <a:srcRect l="4185" t="6232" r="4185" b="6232"/>
            <a:stretch/>
          </p:blipFill>
          <p:spPr>
            <a:xfrm>
              <a:off x="7391520" y="5715000"/>
              <a:ext cx="1447560" cy="7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395480" y="6035400"/>
              <a:ext cx="1399320" cy="594000"/>
            </a:xfrm>
            <a:custGeom>
              <a:avLst/>
              <a:gdLst/>
              <a:ahLst/>
              <a:rect l="l" t="t" r="r" b="b"/>
              <a:pathLst>
                <a:path w="960" h="480">
                  <a:moveTo>
                    <a:pt x="0" y="288"/>
                  </a:moveTo>
                  <a:lnTo>
                    <a:pt x="384" y="0"/>
                  </a:lnTo>
                  <a:lnTo>
                    <a:pt x="576" y="0"/>
                  </a:lnTo>
                  <a:lnTo>
                    <a:pt x="960" y="336"/>
                  </a:lnTo>
                  <a:lnTo>
                    <a:pt x="960" y="480"/>
                  </a:lnTo>
                  <a:lnTo>
                    <a:pt x="0" y="48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76520" y="3200400"/>
            <a:ext cx="1647720" cy="934920"/>
            <a:chOff x="1676520" y="3200400"/>
            <a:chExt cx="1647720" cy="934920"/>
          </a:xfrm>
        </p:grpSpPr>
        <p:pic>
          <p:nvPicPr>
            <p:cNvPr id="157" name="" descr=""/>
            <p:cNvPicPr/>
            <p:nvPr/>
          </p:nvPicPr>
          <p:blipFill>
            <a:blip r:embed="rId4"/>
            <a:srcRect l="4185" t="6232" r="4185" b="6232"/>
            <a:stretch/>
          </p:blipFill>
          <p:spPr>
            <a:xfrm>
              <a:off x="1747800" y="3200400"/>
              <a:ext cx="15764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676520" y="3204720"/>
              <a:ext cx="1600200" cy="77472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48" y="528"/>
                  </a:moveTo>
                  <a:lnTo>
                    <a:pt x="432" y="144"/>
                  </a:lnTo>
                  <a:lnTo>
                    <a:pt x="576" y="144"/>
                  </a:lnTo>
                  <a:lnTo>
                    <a:pt x="1008" y="528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48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809880" y="38862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cubicBezTo>
                  <a:pt x="128" y="92"/>
                  <a:pt x="256" y="184"/>
                  <a:pt x="336" y="240"/>
                </a:cubicBezTo>
                <a:cubicBezTo>
                  <a:pt x="416" y="296"/>
                  <a:pt x="384" y="320"/>
                  <a:pt x="480" y="336"/>
                </a:cubicBezTo>
                <a:cubicBezTo>
                  <a:pt x="576" y="352"/>
                  <a:pt x="792" y="336"/>
                  <a:pt x="912" y="336"/>
                </a:cubicBezTo>
                <a:cubicBezTo>
                  <a:pt x="1032" y="336"/>
                  <a:pt x="1112" y="320"/>
                  <a:pt x="1200" y="336"/>
                </a:cubicBezTo>
                <a:cubicBezTo>
                  <a:pt x="1288" y="352"/>
                  <a:pt x="1376" y="376"/>
                  <a:pt x="1440" y="432"/>
                </a:cubicBezTo>
                <a:cubicBezTo>
                  <a:pt x="1504" y="488"/>
                  <a:pt x="1488" y="616"/>
                  <a:pt x="1584" y="672"/>
                </a:cubicBezTo>
                <a:cubicBezTo>
                  <a:pt x="1680" y="728"/>
                  <a:pt x="1848" y="748"/>
                  <a:pt x="2016" y="76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4635360"/>
            <a:ext cx="3581640" cy="1384560"/>
          </a:xfrm>
          <a:custGeom>
            <a:avLst/>
            <a:gdLst/>
            <a:ahLst/>
            <a:rect l="l" t="t" r="r" b="b"/>
            <a:pathLst>
              <a:path w="2256" h="872">
                <a:moveTo>
                  <a:pt x="2256" y="872"/>
                </a:moveTo>
                <a:cubicBezTo>
                  <a:pt x="2052" y="792"/>
                  <a:pt x="1848" y="712"/>
                  <a:pt x="1728" y="632"/>
                </a:cubicBezTo>
                <a:cubicBezTo>
                  <a:pt x="1608" y="552"/>
                  <a:pt x="1608" y="488"/>
                  <a:pt x="1536" y="392"/>
                </a:cubicBezTo>
                <a:cubicBezTo>
                  <a:pt x="1464" y="296"/>
                  <a:pt x="1384" y="112"/>
                  <a:pt x="1296" y="56"/>
                </a:cubicBezTo>
                <a:cubicBezTo>
                  <a:pt x="1208" y="0"/>
                  <a:pt x="1112" y="48"/>
                  <a:pt x="1008" y="56"/>
                </a:cubicBezTo>
                <a:cubicBezTo>
                  <a:pt x="904" y="64"/>
                  <a:pt x="808" y="88"/>
                  <a:pt x="672" y="104"/>
                </a:cubicBezTo>
                <a:cubicBezTo>
                  <a:pt x="536" y="120"/>
                  <a:pt x="304" y="160"/>
                  <a:pt x="192" y="152"/>
                </a:cubicBezTo>
                <a:cubicBezTo>
                  <a:pt x="80" y="144"/>
                  <a:pt x="40" y="100"/>
                  <a:pt x="0" y="56"/>
                </a:cubicBezTo>
              </a:path>
            </a:pathLst>
          </a:custGeom>
          <a:noFill/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共模扼流圈防止饱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457200" y="2286000"/>
            <a:ext cx="5257800" cy="2285640"/>
            <a:chOff x="457200" y="2286000"/>
            <a:chExt cx="5257800" cy="2285640"/>
          </a:xfrm>
        </p:grpSpPr>
        <p:sp>
          <p:nvSpPr>
            <p:cNvPr id="1218" name=""/>
            <p:cNvSpPr/>
            <p:nvPr/>
          </p:nvSpPr>
          <p:spPr>
            <a:xfrm>
              <a:off x="1700280" y="2286000"/>
              <a:ext cx="2058120" cy="2204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144880" y="2775960"/>
              <a:ext cx="1168920" cy="1285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7200" y="2652840"/>
              <a:ext cx="2131920" cy="377640"/>
            </a:xfrm>
            <a:custGeom>
              <a:avLst/>
              <a:gdLst/>
              <a:ahLst/>
              <a:rect l="l" t="t" r="r" b="b"/>
              <a:pathLst>
                <a:path w="1840" h="296">
                  <a:moveTo>
                    <a:pt x="64" y="0"/>
                  </a:moveTo>
                  <a:cubicBezTo>
                    <a:pt x="32" y="24"/>
                    <a:pt x="0" y="48"/>
                    <a:pt x="256" y="96"/>
                  </a:cubicBezTo>
                  <a:cubicBezTo>
                    <a:pt x="512" y="144"/>
                    <a:pt x="1360" y="280"/>
                    <a:pt x="1600" y="288"/>
                  </a:cubicBezTo>
                  <a:cubicBezTo>
                    <a:pt x="1840" y="296"/>
                    <a:pt x="1768" y="220"/>
                    <a:pt x="1696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55760" y="2295000"/>
              <a:ext cx="446040" cy="55152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88"/>
                  </a:moveTo>
                  <a:cubicBezTo>
                    <a:pt x="0" y="44"/>
                    <a:pt x="0" y="0"/>
                    <a:pt x="48" y="40"/>
                  </a:cubicBezTo>
                  <a:cubicBezTo>
                    <a:pt x="96" y="80"/>
                    <a:pt x="240" y="264"/>
                    <a:pt x="288" y="328"/>
                  </a:cubicBezTo>
                  <a:cubicBezTo>
                    <a:pt x="336" y="392"/>
                    <a:pt x="320" y="416"/>
                    <a:pt x="336" y="424"/>
                  </a:cubicBezTo>
                  <a:cubicBezTo>
                    <a:pt x="352" y="432"/>
                    <a:pt x="368" y="404"/>
                    <a:pt x="384" y="3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6880" y="2286000"/>
              <a:ext cx="250200" cy="611280"/>
            </a:xfrm>
            <a:custGeom>
              <a:avLst/>
              <a:gdLst/>
              <a:ahLst/>
              <a:rect l="l" t="t" r="r" b="b"/>
              <a:pathLst>
                <a:path w="216" h="480">
                  <a:moveTo>
                    <a:pt x="0" y="0"/>
                  </a:moveTo>
                  <a:cubicBezTo>
                    <a:pt x="8" y="16"/>
                    <a:pt x="16" y="32"/>
                    <a:pt x="48" y="96"/>
                  </a:cubicBezTo>
                  <a:cubicBezTo>
                    <a:pt x="80" y="160"/>
                    <a:pt x="168" y="320"/>
                    <a:pt x="192" y="384"/>
                  </a:cubicBezTo>
                  <a:cubicBezTo>
                    <a:pt x="216" y="448"/>
                    <a:pt x="184" y="464"/>
                    <a:pt x="192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01480" y="2367360"/>
              <a:ext cx="65160" cy="898200"/>
            </a:xfrm>
            <a:custGeom>
              <a:avLst/>
              <a:gdLst/>
              <a:ahLst/>
              <a:rect l="l" t="t" r="r" b="b"/>
              <a:pathLst>
                <a:path w="56" h="704">
                  <a:moveTo>
                    <a:pt x="0" y="32"/>
                  </a:moveTo>
                  <a:cubicBezTo>
                    <a:pt x="20" y="16"/>
                    <a:pt x="40" y="0"/>
                    <a:pt x="48" y="80"/>
                  </a:cubicBezTo>
                  <a:cubicBezTo>
                    <a:pt x="56" y="160"/>
                    <a:pt x="56" y="424"/>
                    <a:pt x="48" y="512"/>
                  </a:cubicBezTo>
                  <a:cubicBezTo>
                    <a:pt x="40" y="600"/>
                    <a:pt x="0" y="576"/>
                    <a:pt x="0" y="608"/>
                  </a:cubicBezTo>
                  <a:cubicBezTo>
                    <a:pt x="0" y="640"/>
                    <a:pt x="24" y="672"/>
                    <a:pt x="48" y="7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58760" y="2857320"/>
              <a:ext cx="1613520" cy="468360"/>
            </a:xfrm>
            <a:custGeom>
              <a:avLst/>
              <a:gdLst/>
              <a:ahLst/>
              <a:rect l="l" t="t" r="r" b="b"/>
              <a:pathLst>
                <a:path w="1392" h="368">
                  <a:moveTo>
                    <a:pt x="0" y="320"/>
                  </a:moveTo>
                  <a:cubicBezTo>
                    <a:pt x="100" y="344"/>
                    <a:pt x="200" y="368"/>
                    <a:pt x="336" y="320"/>
                  </a:cubicBezTo>
                  <a:cubicBezTo>
                    <a:pt x="472" y="272"/>
                    <a:pt x="640" y="64"/>
                    <a:pt x="816" y="32"/>
                  </a:cubicBezTo>
                  <a:cubicBezTo>
                    <a:pt x="992" y="0"/>
                    <a:pt x="1192" y="64"/>
                    <a:pt x="1392" y="1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76280" y="3479400"/>
              <a:ext cx="1770840" cy="224280"/>
            </a:xfrm>
            <a:custGeom>
              <a:avLst/>
              <a:gdLst/>
              <a:ahLst/>
              <a:rect l="l" t="t" r="r" b="b"/>
              <a:pathLst>
                <a:path w="1528" h="176">
                  <a:moveTo>
                    <a:pt x="0" y="72"/>
                  </a:moveTo>
                  <a:cubicBezTo>
                    <a:pt x="68" y="64"/>
                    <a:pt x="136" y="56"/>
                    <a:pt x="288" y="72"/>
                  </a:cubicBezTo>
                  <a:cubicBezTo>
                    <a:pt x="440" y="88"/>
                    <a:pt x="752" y="176"/>
                    <a:pt x="912" y="168"/>
                  </a:cubicBezTo>
                  <a:cubicBezTo>
                    <a:pt x="1072" y="160"/>
                    <a:pt x="1152" y="48"/>
                    <a:pt x="1248" y="24"/>
                  </a:cubicBezTo>
                  <a:cubicBezTo>
                    <a:pt x="1344" y="0"/>
                    <a:pt x="1448" y="0"/>
                    <a:pt x="1488" y="24"/>
                  </a:cubicBezTo>
                  <a:cubicBezTo>
                    <a:pt x="1528" y="48"/>
                    <a:pt x="1508" y="108"/>
                    <a:pt x="1488" y="1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857240" y="3868200"/>
              <a:ext cx="621000" cy="347040"/>
            </a:xfrm>
            <a:custGeom>
              <a:avLst/>
              <a:gdLst/>
              <a:ahLst/>
              <a:rect l="l" t="t" r="r" b="b"/>
              <a:pathLst>
                <a:path w="536" h="272">
                  <a:moveTo>
                    <a:pt x="56" y="152"/>
                  </a:moveTo>
                  <a:cubicBezTo>
                    <a:pt x="28" y="168"/>
                    <a:pt x="0" y="184"/>
                    <a:pt x="8" y="200"/>
                  </a:cubicBezTo>
                  <a:cubicBezTo>
                    <a:pt x="16" y="216"/>
                    <a:pt x="32" y="272"/>
                    <a:pt x="104" y="248"/>
                  </a:cubicBezTo>
                  <a:cubicBezTo>
                    <a:pt x="176" y="224"/>
                    <a:pt x="376" y="96"/>
                    <a:pt x="440" y="56"/>
                  </a:cubicBezTo>
                  <a:cubicBezTo>
                    <a:pt x="504" y="16"/>
                    <a:pt x="472" y="0"/>
                    <a:pt x="488" y="8"/>
                  </a:cubicBezTo>
                  <a:cubicBezTo>
                    <a:pt x="504" y="16"/>
                    <a:pt x="520" y="60"/>
                    <a:pt x="536" y="1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367000" y="4000320"/>
              <a:ext cx="445680" cy="520560"/>
            </a:xfrm>
            <a:custGeom>
              <a:avLst/>
              <a:gdLst/>
              <a:ahLst/>
              <a:rect l="l" t="t" r="r" b="b"/>
              <a:pathLst>
                <a:path w="384" h="408">
                  <a:moveTo>
                    <a:pt x="0" y="336"/>
                  </a:moveTo>
                  <a:cubicBezTo>
                    <a:pt x="4" y="372"/>
                    <a:pt x="8" y="408"/>
                    <a:pt x="48" y="384"/>
                  </a:cubicBezTo>
                  <a:cubicBezTo>
                    <a:pt x="88" y="360"/>
                    <a:pt x="200" y="248"/>
                    <a:pt x="240" y="192"/>
                  </a:cubicBezTo>
                  <a:cubicBezTo>
                    <a:pt x="280" y="136"/>
                    <a:pt x="272" y="80"/>
                    <a:pt x="288" y="48"/>
                  </a:cubicBezTo>
                  <a:cubicBezTo>
                    <a:pt x="304" y="16"/>
                    <a:pt x="320" y="0"/>
                    <a:pt x="336" y="0"/>
                  </a:cubicBezTo>
                  <a:cubicBezTo>
                    <a:pt x="352" y="0"/>
                    <a:pt x="368" y="24"/>
                    <a:pt x="384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868120" y="3755880"/>
              <a:ext cx="333360" cy="815760"/>
            </a:xfrm>
            <a:custGeom>
              <a:avLst/>
              <a:gdLst/>
              <a:ahLst/>
              <a:rect l="l" t="t" r="r" b="b"/>
              <a:pathLst>
                <a:path w="288" h="640">
                  <a:moveTo>
                    <a:pt x="0" y="576"/>
                  </a:moveTo>
                  <a:cubicBezTo>
                    <a:pt x="36" y="608"/>
                    <a:pt x="72" y="640"/>
                    <a:pt x="96" y="624"/>
                  </a:cubicBezTo>
                  <a:cubicBezTo>
                    <a:pt x="120" y="608"/>
                    <a:pt x="128" y="560"/>
                    <a:pt x="144" y="480"/>
                  </a:cubicBezTo>
                  <a:cubicBezTo>
                    <a:pt x="160" y="400"/>
                    <a:pt x="192" y="216"/>
                    <a:pt x="192" y="144"/>
                  </a:cubicBezTo>
                  <a:cubicBezTo>
                    <a:pt x="192" y="72"/>
                    <a:pt x="128" y="72"/>
                    <a:pt x="144" y="48"/>
                  </a:cubicBezTo>
                  <a:cubicBezTo>
                    <a:pt x="160" y="24"/>
                    <a:pt x="224" y="12"/>
                    <a:pt x="28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702240" y="3694680"/>
              <a:ext cx="1948680" cy="489600"/>
            </a:xfrm>
            <a:custGeom>
              <a:avLst/>
              <a:gdLst/>
              <a:ahLst/>
              <a:rect l="l" t="t" r="r" b="b"/>
              <a:pathLst>
                <a:path w="1680" h="384">
                  <a:moveTo>
                    <a:pt x="0" y="48"/>
                  </a:moveTo>
                  <a:cubicBezTo>
                    <a:pt x="60" y="24"/>
                    <a:pt x="120" y="0"/>
                    <a:pt x="192" y="48"/>
                  </a:cubicBezTo>
                  <a:cubicBezTo>
                    <a:pt x="264" y="96"/>
                    <a:pt x="336" y="288"/>
                    <a:pt x="432" y="336"/>
                  </a:cubicBezTo>
                  <a:cubicBezTo>
                    <a:pt x="528" y="384"/>
                    <a:pt x="640" y="360"/>
                    <a:pt x="768" y="336"/>
                  </a:cubicBezTo>
                  <a:cubicBezTo>
                    <a:pt x="896" y="312"/>
                    <a:pt x="1048" y="200"/>
                    <a:pt x="1200" y="192"/>
                  </a:cubicBezTo>
                  <a:cubicBezTo>
                    <a:pt x="1352" y="184"/>
                    <a:pt x="1516" y="236"/>
                    <a:pt x="1680" y="2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32120" y="2837160"/>
              <a:ext cx="500400" cy="59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72280" y="3204360"/>
              <a:ext cx="165960" cy="551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372280" y="3020040"/>
              <a:ext cx="65160" cy="1839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0" y="0"/>
                  </a:moveTo>
                  <a:cubicBezTo>
                    <a:pt x="20" y="12"/>
                    <a:pt x="40" y="24"/>
                    <a:pt x="48" y="48"/>
                  </a:cubicBezTo>
                  <a:cubicBezTo>
                    <a:pt x="56" y="72"/>
                    <a:pt x="52" y="108"/>
                    <a:pt x="48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27360" y="3755880"/>
              <a:ext cx="287640" cy="32544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60" y="112"/>
                    <a:pt x="192" y="144"/>
                  </a:cubicBezTo>
                  <a:cubicBezTo>
                    <a:pt x="224" y="176"/>
                    <a:pt x="248" y="224"/>
                    <a:pt x="240" y="240"/>
                  </a:cubicBezTo>
                  <a:cubicBezTo>
                    <a:pt x="232" y="256"/>
                    <a:pt x="188" y="248"/>
                    <a:pt x="144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314240" y="3019680"/>
              <a:ext cx="167400" cy="122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4649400" y="3938760"/>
              <a:ext cx="389520" cy="18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920520" y="3571560"/>
              <a:ext cx="278280" cy="61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12280" y="2530080"/>
              <a:ext cx="1167480" cy="795600"/>
            </a:xfrm>
            <a:custGeom>
              <a:avLst/>
              <a:gdLst/>
              <a:ahLst/>
              <a:rect l="l" t="t" r="r" b="b"/>
              <a:pathLst>
                <a:path w="1008" h="624">
                  <a:moveTo>
                    <a:pt x="0" y="96"/>
                  </a:moveTo>
                  <a:cubicBezTo>
                    <a:pt x="84" y="48"/>
                    <a:pt x="168" y="0"/>
                    <a:pt x="288" y="0"/>
                  </a:cubicBezTo>
                  <a:cubicBezTo>
                    <a:pt x="408" y="0"/>
                    <a:pt x="608" y="24"/>
                    <a:pt x="720" y="96"/>
                  </a:cubicBezTo>
                  <a:cubicBezTo>
                    <a:pt x="832" y="168"/>
                    <a:pt x="912" y="344"/>
                    <a:pt x="960" y="432"/>
                  </a:cubicBezTo>
                  <a:cubicBezTo>
                    <a:pt x="1008" y="520"/>
                    <a:pt x="1008" y="572"/>
                    <a:pt x="1008" y="624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144880" y="3816000"/>
              <a:ext cx="1280160" cy="459360"/>
            </a:xfrm>
            <a:custGeom>
              <a:avLst/>
              <a:gdLst/>
              <a:ahLst/>
              <a:rect l="l" t="t" r="r" b="b"/>
              <a:pathLst>
                <a:path w="1104" h="360">
                  <a:moveTo>
                    <a:pt x="0" y="96"/>
                  </a:moveTo>
                  <a:cubicBezTo>
                    <a:pt x="28" y="128"/>
                    <a:pt x="56" y="160"/>
                    <a:pt x="96" y="192"/>
                  </a:cubicBezTo>
                  <a:cubicBezTo>
                    <a:pt x="136" y="224"/>
                    <a:pt x="160" y="264"/>
                    <a:pt x="240" y="288"/>
                  </a:cubicBezTo>
                  <a:cubicBezTo>
                    <a:pt x="320" y="312"/>
                    <a:pt x="496" y="328"/>
                    <a:pt x="576" y="336"/>
                  </a:cubicBezTo>
                  <a:cubicBezTo>
                    <a:pt x="656" y="344"/>
                    <a:pt x="656" y="360"/>
                    <a:pt x="720" y="336"/>
                  </a:cubicBezTo>
                  <a:cubicBezTo>
                    <a:pt x="784" y="312"/>
                    <a:pt x="896" y="248"/>
                    <a:pt x="960" y="192"/>
                  </a:cubicBezTo>
                  <a:cubicBezTo>
                    <a:pt x="1024" y="136"/>
                    <a:pt x="1064" y="68"/>
                    <a:pt x="1104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603360" y="5340240"/>
            <a:ext cx="7702560" cy="459720"/>
          </a:xfrm>
          <a:prstGeom prst="rect">
            <a:avLst/>
          </a:prstGeom>
          <a:solidFill>
            <a:srgbClr val="d0f4f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模扼流圈中的负载电流产生的磁场相互抵销，因此磁芯不会饱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095880" y="3733920"/>
            <a:ext cx="2210040" cy="1015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有意增加漏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利用差模电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562800">
            <a:off x="2131920" y="329400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352680" y="3505320"/>
            <a:ext cx="2743200" cy="1155600"/>
          </a:xfrm>
          <a:custGeom>
            <a:avLst/>
            <a:gdLst/>
            <a:ahLst/>
            <a:rect l="l" t="t" r="r" b="b"/>
            <a:pathLst>
              <a:path w="2304" h="536">
                <a:moveTo>
                  <a:pt x="2304" y="336"/>
                </a:moveTo>
                <a:cubicBezTo>
                  <a:pt x="1824" y="436"/>
                  <a:pt x="1344" y="536"/>
                  <a:pt x="960" y="480"/>
                </a:cubicBezTo>
                <a:cubicBezTo>
                  <a:pt x="576" y="424"/>
                  <a:pt x="288" y="212"/>
                  <a:pt x="0" y="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共模扼流圈的优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352680" cy="221940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3610080" cy="217152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1219320" y="5105520"/>
            <a:ext cx="3200400" cy="398880"/>
          </a:xfrm>
          <a:prstGeom prst="rect">
            <a:avLst/>
          </a:prstGeom>
          <a:solidFill>
            <a:srgbClr val="d0f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差模电感导致信号失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181480" y="5105520"/>
            <a:ext cx="3200400" cy="398880"/>
          </a:xfrm>
          <a:prstGeom prst="rect">
            <a:avLst/>
          </a:prstGeom>
          <a:solidFill>
            <a:srgbClr val="d0f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共模电感不影响信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感磁芯的选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22860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铁粉磁芯：不易饱和、导磁率低，作差模扼流圈的磁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0492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铁氧体：最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743200" y="304812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29000" y="29559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锰锌：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r = 500 ~ 10000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R = 0.1~100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429000" y="36417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镍锌：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r = 10 ~ 100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R = 1k ~ 1M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" y="4495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超微晶：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r  &gt; 100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做大电感量共模扼流圈的磁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33376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"/>
          <p:cNvGrpSpPr/>
          <p:nvPr/>
        </p:nvGrpSpPr>
        <p:grpSpPr>
          <a:xfrm>
            <a:off x="2133720" y="2895480"/>
            <a:ext cx="838080" cy="1676520"/>
            <a:chOff x="2133720" y="2895480"/>
            <a:chExt cx="838080" cy="1676520"/>
          </a:xfrm>
        </p:grpSpPr>
        <p:sp>
          <p:nvSpPr>
            <p:cNvPr id="1258" name=""/>
            <p:cNvSpPr/>
            <p:nvPr/>
          </p:nvSpPr>
          <p:spPr>
            <a:xfrm>
              <a:off x="2210040" y="2971800"/>
              <a:ext cx="761760" cy="1447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3720" y="2895480"/>
              <a:ext cx="53352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感量与饱和电流的计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1" name=""/>
          <p:cNvSpPr/>
          <p:nvPr/>
        </p:nvSpPr>
        <p:spPr>
          <a:xfrm>
            <a:off x="1676520" y="2971800"/>
            <a:ext cx="99036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47960" y="3257640"/>
            <a:ext cx="4572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209680" y="4419360"/>
            <a:ext cx="5335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05120" y="25909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362320" y="25146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981080" y="2666880"/>
            <a:ext cx="457200" cy="76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051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38080" y="29718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143000" y="320040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66680" y="419112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38080" y="44197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371600" y="320040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38080" y="29718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04920" y="3443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400" y="3443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9880" y="2133720"/>
            <a:ext cx="4267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饱和电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S (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/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276720" y="4191120"/>
            <a:ext cx="57909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电感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nH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= 0.2 N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S(mm)  ln (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/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315200" y="2666880"/>
            <a:ext cx="3049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543800" y="236232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28" y="136"/>
                  <a:pt x="56" y="80"/>
                  <a:pt x="96" y="48"/>
                </a:cubicBezTo>
                <a:cubicBezTo>
                  <a:pt x="136" y="16"/>
                  <a:pt x="188" y="8"/>
                  <a:pt x="240" y="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696080" y="1981080"/>
            <a:ext cx="838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电感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81480" y="2666880"/>
            <a:ext cx="609840" cy="6098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172200" y="4800600"/>
            <a:ext cx="3049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62920" y="3581280"/>
            <a:ext cx="1447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厂家手册给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715000" y="3200400"/>
            <a:ext cx="144792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0"/>
                </a:moveTo>
                <a:cubicBezTo>
                  <a:pt x="92" y="68"/>
                  <a:pt x="184" y="136"/>
                  <a:pt x="336" y="192"/>
                </a:cubicBezTo>
                <a:cubicBezTo>
                  <a:pt x="488" y="248"/>
                  <a:pt x="700" y="292"/>
                  <a:pt x="912" y="336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324480" y="3886200"/>
            <a:ext cx="838440" cy="91440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0"/>
                </a:moveTo>
                <a:cubicBezTo>
                  <a:pt x="648" y="20"/>
                  <a:pt x="432" y="40"/>
                  <a:pt x="288" y="96"/>
                </a:cubicBezTo>
                <a:cubicBezTo>
                  <a:pt x="144" y="152"/>
                  <a:pt x="72" y="244"/>
                  <a:pt x="0" y="336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57200" y="5486400"/>
            <a:ext cx="8305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厂家经常给出每匝的电感量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AL”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，则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nH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= AL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N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27440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干扰抑制用铁氧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20108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铁氧体电感高频成为电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3054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>
            <a:off x="914400" y="5486400"/>
            <a:ext cx="3429000" cy="459720"/>
          </a:xfrm>
          <a:prstGeom prst="rect">
            <a:avLst/>
          </a:prstGeom>
          <a:solidFill>
            <a:srgbClr val="d0f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ahoma"/>
              </a:rPr>
              <a:t>铁氧体电感（高损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81480" y="5486400"/>
            <a:ext cx="3429000" cy="459720"/>
          </a:xfrm>
          <a:prstGeom prst="rect">
            <a:avLst/>
          </a:prstGeom>
          <a:solidFill>
            <a:srgbClr val="d0f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ahoma"/>
              </a:rPr>
              <a:t>空心电感（高</a:t>
            </a:r>
            <a:r>
              <a:rPr b="1" lang="zh-CN" sz="2400" spc="-1" strike="noStrike">
                <a:solidFill>
                  <a:srgbClr val="cc0099"/>
                </a:solidFill>
                <a:latin typeface="Tahoma"/>
              </a:rPr>
              <a:t>Q</a:t>
            </a:r>
            <a:r>
              <a:rPr b="1" lang="zh-CN" sz="2400" spc="-1" strike="noStrike">
                <a:solidFill>
                  <a:srgbClr val="cc0099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不同磁导率的铁氧体阻抗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314680" cy="489600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6934320" y="2743200"/>
            <a:ext cx="1523880" cy="5101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=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4495680"/>
            <a:ext cx="1752480" cy="5101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= 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偏置电流对阻抗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762120" y="1903320"/>
            <a:ext cx="8076960" cy="48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偏置电流对阻抗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52560" y="1873080"/>
            <a:ext cx="9015120" cy="49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信号滤波器的作用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286000"/>
            <a:ext cx="22860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124080"/>
            <a:ext cx="1522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251160"/>
            <a:ext cx="3505320" cy="635040"/>
          </a:xfrm>
          <a:custGeom>
            <a:avLst/>
            <a:gdLst/>
            <a:ahLst/>
            <a:rect l="l" t="t" r="r" b="b"/>
            <a:pathLst>
              <a:path w="2208" h="400">
                <a:moveTo>
                  <a:pt x="0" y="16"/>
                </a:moveTo>
                <a:cubicBezTo>
                  <a:pt x="148" y="8"/>
                  <a:pt x="296" y="0"/>
                  <a:pt x="480" y="64"/>
                </a:cubicBezTo>
                <a:cubicBezTo>
                  <a:pt x="664" y="128"/>
                  <a:pt x="872" y="400"/>
                  <a:pt x="1104" y="400"/>
                </a:cubicBezTo>
                <a:cubicBezTo>
                  <a:pt x="1336" y="400"/>
                  <a:pt x="1688" y="128"/>
                  <a:pt x="1872" y="64"/>
                </a:cubicBezTo>
                <a:cubicBezTo>
                  <a:pt x="2056" y="0"/>
                  <a:pt x="2132" y="8"/>
                  <a:pt x="2208" y="16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782200">
            <a:off x="7009920" y="2285640"/>
            <a:ext cx="457200" cy="762120"/>
          </a:xfrm>
          <a:prstGeom prst="lightningBolt">
            <a:avLst/>
          </a:prstGeom>
          <a:solidFill>
            <a:srgbClr val="cc0066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553080" y="3429000"/>
            <a:ext cx="45720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403440"/>
            <a:ext cx="685800" cy="711360"/>
          </a:xfrm>
          <a:custGeom>
            <a:avLst/>
            <a:gdLst/>
            <a:ahLst/>
            <a:rect l="l" t="t" r="r" b="b"/>
            <a:pathLst>
              <a:path w="432" h="448">
                <a:moveTo>
                  <a:pt x="432" y="64"/>
                </a:moveTo>
                <a:cubicBezTo>
                  <a:pt x="360" y="32"/>
                  <a:pt x="288" y="0"/>
                  <a:pt x="240" y="16"/>
                </a:cubicBezTo>
                <a:cubicBezTo>
                  <a:pt x="192" y="32"/>
                  <a:pt x="160" y="104"/>
                  <a:pt x="144" y="160"/>
                </a:cubicBezTo>
                <a:cubicBezTo>
                  <a:pt x="128" y="216"/>
                  <a:pt x="168" y="304"/>
                  <a:pt x="144" y="352"/>
                </a:cubicBezTo>
                <a:cubicBezTo>
                  <a:pt x="120" y="400"/>
                  <a:pt x="60" y="424"/>
                  <a:pt x="0" y="448"/>
                </a:cubicBezTo>
              </a:path>
            </a:pathLst>
          </a:custGeom>
          <a:noFill/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4480" y="2362320"/>
            <a:ext cx="546120" cy="774720"/>
          </a:xfrm>
          <a:custGeom>
            <a:avLst/>
            <a:gdLst/>
            <a:ahLst/>
            <a:rect l="l" t="t" r="r" b="b"/>
            <a:pathLst>
              <a:path w="344" h="488">
                <a:moveTo>
                  <a:pt x="344" y="480"/>
                </a:moveTo>
                <a:cubicBezTo>
                  <a:pt x="272" y="484"/>
                  <a:pt x="200" y="488"/>
                  <a:pt x="152" y="480"/>
                </a:cubicBezTo>
                <a:cubicBezTo>
                  <a:pt x="104" y="472"/>
                  <a:pt x="80" y="488"/>
                  <a:pt x="56" y="432"/>
                </a:cubicBezTo>
                <a:cubicBezTo>
                  <a:pt x="32" y="376"/>
                  <a:pt x="16" y="216"/>
                  <a:pt x="8" y="144"/>
                </a:cubicBezTo>
                <a:cubicBezTo>
                  <a:pt x="0" y="72"/>
                  <a:pt x="4" y="36"/>
                  <a:pt x="8" y="0"/>
                </a:cubicBezTo>
              </a:path>
            </a:pathLst>
          </a:custGeom>
          <a:noFill/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733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276720"/>
            <a:ext cx="76212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432" y="0"/>
                </a:moveTo>
                <a:cubicBezTo>
                  <a:pt x="372" y="48"/>
                  <a:pt x="312" y="96"/>
                  <a:pt x="240" y="144"/>
                </a:cubicBezTo>
                <a:cubicBezTo>
                  <a:pt x="168" y="192"/>
                  <a:pt x="84" y="240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657600"/>
            <a:ext cx="228600" cy="763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657600"/>
            <a:ext cx="228600" cy="763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0880" y="4800600"/>
            <a:ext cx="22860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4600" y="5638680"/>
            <a:ext cx="1522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06880" y="5765760"/>
            <a:ext cx="3505320" cy="635040"/>
          </a:xfrm>
          <a:custGeom>
            <a:avLst/>
            <a:gdLst/>
            <a:ahLst/>
            <a:rect l="l" t="t" r="r" b="b"/>
            <a:pathLst>
              <a:path w="2208" h="400">
                <a:moveTo>
                  <a:pt x="0" y="16"/>
                </a:moveTo>
                <a:cubicBezTo>
                  <a:pt x="148" y="8"/>
                  <a:pt x="296" y="0"/>
                  <a:pt x="480" y="64"/>
                </a:cubicBezTo>
                <a:cubicBezTo>
                  <a:pt x="664" y="128"/>
                  <a:pt x="872" y="400"/>
                  <a:pt x="1104" y="400"/>
                </a:cubicBezTo>
                <a:cubicBezTo>
                  <a:pt x="1336" y="400"/>
                  <a:pt x="1688" y="128"/>
                  <a:pt x="1872" y="64"/>
                </a:cubicBezTo>
                <a:cubicBezTo>
                  <a:pt x="2056" y="0"/>
                  <a:pt x="2132" y="8"/>
                  <a:pt x="2208" y="16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4076600">
            <a:off x="5991120" y="4939920"/>
            <a:ext cx="457200" cy="1066680"/>
          </a:xfrm>
          <a:prstGeom prst="lightningBol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9480" y="6248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92480" y="5791320"/>
            <a:ext cx="76212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432" y="0"/>
                </a:moveTo>
                <a:cubicBezTo>
                  <a:pt x="372" y="48"/>
                  <a:pt x="312" y="96"/>
                  <a:pt x="240" y="144"/>
                </a:cubicBezTo>
                <a:cubicBezTo>
                  <a:pt x="168" y="192"/>
                  <a:pt x="84" y="240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5800" y="6172200"/>
            <a:ext cx="228600" cy="763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6680" y="6095880"/>
            <a:ext cx="304920" cy="15264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7560" y="6172200"/>
            <a:ext cx="228600" cy="763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5105520"/>
            <a:ext cx="38088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cubicBezTo>
                  <a:pt x="76" y="316"/>
                  <a:pt x="152" y="296"/>
                  <a:pt x="192" y="240"/>
                </a:cubicBezTo>
                <a:cubicBezTo>
                  <a:pt x="232" y="184"/>
                  <a:pt x="236" y="92"/>
                  <a:pt x="240" y="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5562720"/>
            <a:ext cx="381240" cy="457200"/>
          </a:xfrm>
          <a:prstGeom prst="lightningBolt">
            <a:avLst/>
          </a:prstGeom>
          <a:solidFill>
            <a:srgbClr val="009900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971800"/>
            <a:ext cx="83844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480" y="28"/>
                  <a:pt x="432" y="56"/>
                  <a:pt x="384" y="96"/>
                </a:cubicBezTo>
                <a:cubicBezTo>
                  <a:pt x="336" y="136"/>
                  <a:pt x="304" y="200"/>
                  <a:pt x="240" y="240"/>
                </a:cubicBezTo>
                <a:cubicBezTo>
                  <a:pt x="176" y="280"/>
                  <a:pt x="88" y="308"/>
                  <a:pt x="0" y="336"/>
                </a:cubicBezTo>
              </a:path>
            </a:pathLst>
          </a:custGeom>
          <a:noFill/>
          <a:ln w="38160">
            <a:solidFill>
              <a:srgbClr val="cc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0990200">
            <a:off x="2971800" y="2819160"/>
            <a:ext cx="457200" cy="457200"/>
          </a:xfrm>
          <a:prstGeom prst="lightningBol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556272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0"/>
                </a:moveTo>
                <a:cubicBezTo>
                  <a:pt x="144" y="8"/>
                  <a:pt x="288" y="16"/>
                  <a:pt x="384" y="48"/>
                </a:cubicBezTo>
                <a:cubicBezTo>
                  <a:pt x="480" y="80"/>
                  <a:pt x="504" y="144"/>
                  <a:pt x="576" y="192"/>
                </a:cubicBezTo>
                <a:cubicBezTo>
                  <a:pt x="648" y="240"/>
                  <a:pt x="720" y="312"/>
                  <a:pt x="816" y="336"/>
                </a:cubicBezTo>
                <a:cubicBezTo>
                  <a:pt x="912" y="360"/>
                  <a:pt x="1040" y="360"/>
                  <a:pt x="1152" y="336"/>
                </a:cubicBezTo>
                <a:cubicBezTo>
                  <a:pt x="1264" y="312"/>
                  <a:pt x="1376" y="252"/>
                  <a:pt x="1488" y="192"/>
                </a:cubicBezTo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3276720"/>
            <a:ext cx="7596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391520" y="3581280"/>
            <a:ext cx="2286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391520" y="3657600"/>
            <a:ext cx="2286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3733920"/>
            <a:ext cx="7632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0757600">
            <a:off x="7467120" y="3962160"/>
            <a:ext cx="4572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411480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144"/>
                </a:moveTo>
                <a:lnTo>
                  <a:pt x="96" y="144"/>
                </a:lnTo>
                <a:lnTo>
                  <a:pt x="144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981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信号线滤波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114440" y="2362320"/>
            <a:ext cx="76212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干扰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铁氧体磁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914400" y="2352600"/>
            <a:ext cx="7315200" cy="37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贴片电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rcRect l="0" t="21156" r="0" b="0"/>
          <a:stretch/>
        </p:blipFill>
        <p:spPr>
          <a:xfrm>
            <a:off x="3962520" y="1981080"/>
            <a:ext cx="4762440" cy="4543560"/>
          </a:xfrm>
          <a:prstGeom prst="rect">
            <a:avLst/>
          </a:prstGeom>
          <a:ln w="0">
            <a:noFill/>
          </a:ln>
        </p:spPr>
      </p:pic>
      <p:pic>
        <p:nvPicPr>
          <p:cNvPr id="1306" name="u97art12f01" descr="u97art12f01.JPG (45207 bytes)"/>
          <p:cNvPicPr/>
          <p:nvPr/>
        </p:nvPicPr>
        <p:blipFill>
          <a:blip r:embed="rId2"/>
          <a:stretch/>
        </p:blipFill>
        <p:spPr>
          <a:xfrm>
            <a:off x="533520" y="2362320"/>
            <a:ext cx="315576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贴片电感的阻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8" name="i98art26f03" descr="i98art26f03.jpg (21162 bytes)"/>
          <p:cNvPicPr/>
          <p:nvPr/>
        </p:nvPicPr>
        <p:blipFill>
          <a:blip r:embed="rId1"/>
          <a:stretch/>
        </p:blipFill>
        <p:spPr>
          <a:xfrm>
            <a:off x="1066680" y="1900080"/>
            <a:ext cx="7353360" cy="480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贴片电感的滤波效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rcRect l="0" t="3407" r="0" b="55737"/>
          <a:stretch/>
        </p:blipFill>
        <p:spPr>
          <a:xfrm>
            <a:off x="0" y="1978200"/>
            <a:ext cx="9067680" cy="457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贴片电感的滤波效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1"/>
          <a:srcRect l="0" t="44604" r="0" b="5243"/>
          <a:stretch/>
        </p:blipFill>
        <p:spPr>
          <a:xfrm>
            <a:off x="914400" y="1874880"/>
            <a:ext cx="7429680" cy="46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低通滤波器对脉冲信号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09480" y="4038480"/>
            <a:ext cx="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09480" y="556272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33520" y="2590920"/>
            <a:ext cx="213336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528"/>
                </a:moveTo>
                <a:lnTo>
                  <a:pt x="336" y="528"/>
                </a:lnTo>
                <a:lnTo>
                  <a:pt x="432" y="0"/>
                </a:lnTo>
                <a:lnTo>
                  <a:pt x="1008" y="0"/>
                </a:lnTo>
                <a:lnTo>
                  <a:pt x="1104" y="528"/>
                </a:lnTo>
                <a:lnTo>
                  <a:pt x="1344" y="528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429000" y="25909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528"/>
                </a:moveTo>
                <a:lnTo>
                  <a:pt x="336" y="528"/>
                </a:lnTo>
                <a:lnTo>
                  <a:pt x="432" y="0"/>
                </a:lnTo>
                <a:lnTo>
                  <a:pt x="1008" y="0"/>
                </a:lnTo>
                <a:lnTo>
                  <a:pt x="1104" y="528"/>
                </a:lnTo>
                <a:lnTo>
                  <a:pt x="1344" y="528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29000" y="2540160"/>
            <a:ext cx="2590920" cy="901440"/>
          </a:xfrm>
          <a:custGeom>
            <a:avLst/>
            <a:gdLst/>
            <a:ahLst/>
            <a:rect l="l" t="t" r="r" b="b"/>
            <a:pathLst>
              <a:path w="1632" h="568">
                <a:moveTo>
                  <a:pt x="0" y="560"/>
                </a:moveTo>
                <a:cubicBezTo>
                  <a:pt x="116" y="564"/>
                  <a:pt x="232" y="568"/>
                  <a:pt x="288" y="560"/>
                </a:cubicBezTo>
                <a:cubicBezTo>
                  <a:pt x="344" y="552"/>
                  <a:pt x="312" y="568"/>
                  <a:pt x="336" y="512"/>
                </a:cubicBezTo>
                <a:cubicBezTo>
                  <a:pt x="360" y="456"/>
                  <a:pt x="400" y="296"/>
                  <a:pt x="432" y="224"/>
                </a:cubicBezTo>
                <a:cubicBezTo>
                  <a:pt x="464" y="152"/>
                  <a:pt x="496" y="112"/>
                  <a:pt x="528" y="80"/>
                </a:cubicBezTo>
                <a:cubicBezTo>
                  <a:pt x="560" y="48"/>
                  <a:pt x="560" y="40"/>
                  <a:pt x="624" y="32"/>
                </a:cubicBezTo>
                <a:cubicBezTo>
                  <a:pt x="688" y="24"/>
                  <a:pt x="848" y="32"/>
                  <a:pt x="912" y="32"/>
                </a:cubicBezTo>
                <a:cubicBezTo>
                  <a:pt x="976" y="32"/>
                  <a:pt x="984" y="0"/>
                  <a:pt x="1008" y="32"/>
                </a:cubicBezTo>
                <a:cubicBezTo>
                  <a:pt x="1032" y="64"/>
                  <a:pt x="1032" y="160"/>
                  <a:pt x="1056" y="224"/>
                </a:cubicBezTo>
                <a:cubicBezTo>
                  <a:pt x="1080" y="288"/>
                  <a:pt x="1120" y="368"/>
                  <a:pt x="1152" y="416"/>
                </a:cubicBezTo>
                <a:cubicBezTo>
                  <a:pt x="1184" y="464"/>
                  <a:pt x="1208" y="488"/>
                  <a:pt x="1248" y="512"/>
                </a:cubicBezTo>
                <a:cubicBezTo>
                  <a:pt x="1288" y="536"/>
                  <a:pt x="1328" y="552"/>
                  <a:pt x="1392" y="560"/>
                </a:cubicBezTo>
                <a:cubicBezTo>
                  <a:pt x="1456" y="568"/>
                  <a:pt x="1544" y="564"/>
                  <a:pt x="1632" y="56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400800" y="25909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528"/>
                </a:moveTo>
                <a:lnTo>
                  <a:pt x="336" y="528"/>
                </a:lnTo>
                <a:lnTo>
                  <a:pt x="432" y="0"/>
                </a:lnTo>
                <a:lnTo>
                  <a:pt x="1008" y="0"/>
                </a:lnTo>
                <a:lnTo>
                  <a:pt x="1104" y="528"/>
                </a:lnTo>
                <a:lnTo>
                  <a:pt x="1344" y="528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3733920" y="4038480"/>
            <a:ext cx="2514600" cy="1524240"/>
            <a:chOff x="3733920" y="4038480"/>
            <a:chExt cx="2514600" cy="1524240"/>
          </a:xfrm>
        </p:grpSpPr>
        <p:sp>
          <p:nvSpPr>
            <p:cNvPr id="1321" name=""/>
            <p:cNvSpPr/>
            <p:nvPr/>
          </p:nvSpPr>
          <p:spPr>
            <a:xfrm flipV="1">
              <a:off x="3733920" y="4038480"/>
              <a:ext cx="0" cy="1524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33920" y="5562720"/>
              <a:ext cx="251460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5486400" y="4724280"/>
            <a:ext cx="380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9480" y="441972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0"/>
                </a:moveTo>
                <a:lnTo>
                  <a:pt x="384" y="0"/>
                </a:lnTo>
                <a:lnTo>
                  <a:pt x="960" y="336"/>
                </a:lnTo>
                <a:lnTo>
                  <a:pt x="1296" y="720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733920" y="441972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0"/>
                </a:moveTo>
                <a:lnTo>
                  <a:pt x="384" y="0"/>
                </a:lnTo>
                <a:lnTo>
                  <a:pt x="960" y="336"/>
                </a:lnTo>
                <a:lnTo>
                  <a:pt x="1296" y="720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733920" y="4419720"/>
            <a:ext cx="1676160" cy="106668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0"/>
                </a:moveTo>
                <a:lnTo>
                  <a:pt x="384" y="0"/>
                </a:lnTo>
                <a:lnTo>
                  <a:pt x="960" y="336"/>
                </a:lnTo>
                <a:lnTo>
                  <a:pt x="1104" y="720"/>
                </a:ln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6400800" y="4038480"/>
            <a:ext cx="2514600" cy="1524240"/>
            <a:chOff x="6400800" y="4038480"/>
            <a:chExt cx="2514600" cy="1524240"/>
          </a:xfrm>
        </p:grpSpPr>
        <p:sp>
          <p:nvSpPr>
            <p:cNvPr id="1328" name=""/>
            <p:cNvSpPr/>
            <p:nvPr/>
          </p:nvSpPr>
          <p:spPr>
            <a:xfrm flipV="1">
              <a:off x="6400800" y="4038480"/>
              <a:ext cx="0" cy="1524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00800" y="5562720"/>
              <a:ext cx="251460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6400800" y="441972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0"/>
                </a:moveTo>
                <a:lnTo>
                  <a:pt x="384" y="0"/>
                </a:lnTo>
                <a:lnTo>
                  <a:pt x="960" y="336"/>
                </a:lnTo>
                <a:lnTo>
                  <a:pt x="1296" y="720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00800" y="4419720"/>
            <a:ext cx="1523880" cy="1143000"/>
          </a:xfrm>
          <a:custGeom>
            <a:avLst/>
            <a:gdLst/>
            <a:ahLst/>
            <a:rect l="l" t="t" r="r" b="b"/>
            <a:pathLst>
              <a:path w="960" h="720">
                <a:moveTo>
                  <a:pt x="0" y="0"/>
                </a:moveTo>
                <a:lnTo>
                  <a:pt x="384" y="0"/>
                </a:lnTo>
                <a:lnTo>
                  <a:pt x="672" y="192"/>
                </a:lnTo>
                <a:lnTo>
                  <a:pt x="912" y="576"/>
                </a:lnTo>
                <a:lnTo>
                  <a:pt x="960" y="720"/>
                </a:ln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133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219320" y="4419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400800" y="2552760"/>
            <a:ext cx="2590920" cy="901800"/>
          </a:xfrm>
          <a:custGeom>
            <a:avLst/>
            <a:gdLst/>
            <a:ahLst/>
            <a:rect l="l" t="t" r="r" b="b"/>
            <a:pathLst>
              <a:path w="1632" h="568">
                <a:moveTo>
                  <a:pt x="0" y="552"/>
                </a:moveTo>
                <a:cubicBezTo>
                  <a:pt x="116" y="560"/>
                  <a:pt x="232" y="568"/>
                  <a:pt x="288" y="552"/>
                </a:cubicBezTo>
                <a:cubicBezTo>
                  <a:pt x="344" y="536"/>
                  <a:pt x="320" y="496"/>
                  <a:pt x="336" y="456"/>
                </a:cubicBezTo>
                <a:cubicBezTo>
                  <a:pt x="352" y="416"/>
                  <a:pt x="344" y="368"/>
                  <a:pt x="384" y="312"/>
                </a:cubicBezTo>
                <a:cubicBezTo>
                  <a:pt x="424" y="256"/>
                  <a:pt x="520" y="160"/>
                  <a:pt x="576" y="120"/>
                </a:cubicBezTo>
                <a:cubicBezTo>
                  <a:pt x="632" y="80"/>
                  <a:pt x="664" y="88"/>
                  <a:pt x="720" y="72"/>
                </a:cubicBezTo>
                <a:cubicBezTo>
                  <a:pt x="776" y="56"/>
                  <a:pt x="864" y="32"/>
                  <a:pt x="912" y="24"/>
                </a:cubicBezTo>
                <a:cubicBezTo>
                  <a:pt x="960" y="16"/>
                  <a:pt x="984" y="0"/>
                  <a:pt x="1008" y="24"/>
                </a:cubicBezTo>
                <a:cubicBezTo>
                  <a:pt x="1032" y="48"/>
                  <a:pt x="1024" y="112"/>
                  <a:pt x="1056" y="168"/>
                </a:cubicBezTo>
                <a:cubicBezTo>
                  <a:pt x="1088" y="224"/>
                  <a:pt x="1152" y="312"/>
                  <a:pt x="1200" y="360"/>
                </a:cubicBezTo>
                <a:cubicBezTo>
                  <a:pt x="1248" y="408"/>
                  <a:pt x="1288" y="424"/>
                  <a:pt x="1344" y="456"/>
                </a:cubicBezTo>
                <a:cubicBezTo>
                  <a:pt x="1400" y="488"/>
                  <a:pt x="1488" y="536"/>
                  <a:pt x="1536" y="552"/>
                </a:cubicBezTo>
                <a:cubicBezTo>
                  <a:pt x="1584" y="568"/>
                  <a:pt x="1608" y="560"/>
                  <a:pt x="1632" y="552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522440" y="693360"/>
            <a:ext cx="685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信号滤波器的安装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4343400" y="3961800"/>
            <a:ext cx="2009880" cy="7452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562720" y="3733920"/>
            <a:ext cx="269640" cy="2156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91120" y="3048120"/>
            <a:ext cx="148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板上滤波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3657600"/>
            <a:ext cx="1066680" cy="228600"/>
          </a:xfrm>
          <a:custGeom>
            <a:avLst/>
            <a:gdLst/>
            <a:ahLst/>
            <a:rect l="l" t="t" r="r" b="b"/>
            <a:pathLst>
              <a:path w="1584" h="336">
                <a:moveTo>
                  <a:pt x="0" y="336"/>
                </a:moveTo>
                <a:cubicBezTo>
                  <a:pt x="32" y="288"/>
                  <a:pt x="64" y="240"/>
                  <a:pt x="144" y="192"/>
                </a:cubicBezTo>
                <a:cubicBezTo>
                  <a:pt x="224" y="144"/>
                  <a:pt x="368" y="80"/>
                  <a:pt x="480" y="48"/>
                </a:cubicBezTo>
                <a:cubicBezTo>
                  <a:pt x="592" y="16"/>
                  <a:pt x="680" y="0"/>
                  <a:pt x="816" y="0"/>
                </a:cubicBezTo>
                <a:cubicBezTo>
                  <a:pt x="952" y="0"/>
                  <a:pt x="1168" y="24"/>
                  <a:pt x="1296" y="48"/>
                </a:cubicBezTo>
                <a:cubicBezTo>
                  <a:pt x="1424" y="72"/>
                  <a:pt x="1536" y="128"/>
                  <a:pt x="1584" y="14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7155200">
            <a:off x="8001000" y="3276000"/>
            <a:ext cx="609480" cy="4572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4038480" y="2819520"/>
            <a:ext cx="2895120" cy="1523880"/>
            <a:chOff x="4038480" y="2819520"/>
            <a:chExt cx="2895120" cy="1523880"/>
          </a:xfrm>
        </p:grpSpPr>
        <p:sp>
          <p:nvSpPr>
            <p:cNvPr id="1342" name=""/>
            <p:cNvSpPr/>
            <p:nvPr/>
          </p:nvSpPr>
          <p:spPr>
            <a:xfrm>
              <a:off x="4038480" y="2819520"/>
              <a:ext cx="273744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1872" y="720"/>
                  </a:moveTo>
                  <a:lnTo>
                    <a:pt x="1872" y="960"/>
                  </a:lnTo>
                  <a:lnTo>
                    <a:pt x="0" y="960"/>
                  </a:lnTo>
                  <a:lnTo>
                    <a:pt x="0" y="0"/>
                  </a:lnTo>
                  <a:lnTo>
                    <a:pt x="1872" y="0"/>
                  </a:lnTo>
                  <a:lnTo>
                    <a:pt x="1872" y="336"/>
                  </a:lnTo>
                  <a:lnTo>
                    <a:pt x="1776" y="336"/>
                  </a:lnTo>
                  <a:lnTo>
                    <a:pt x="1776" y="96"/>
                  </a:lnTo>
                  <a:lnTo>
                    <a:pt x="96" y="96"/>
                  </a:lnTo>
                  <a:lnTo>
                    <a:pt x="96" y="864"/>
                  </a:lnTo>
                  <a:lnTo>
                    <a:pt x="1776" y="864"/>
                  </a:lnTo>
                  <a:lnTo>
                    <a:pt x="1776" y="720"/>
                  </a:lnTo>
                  <a:lnTo>
                    <a:pt x="1872" y="720"/>
                  </a:lnTo>
                  <a:close/>
                </a:path>
              </a:pathLst>
            </a:custGeom>
            <a:solidFill>
              <a:srgbClr val="00e4a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6565320" y="3200400"/>
              <a:ext cx="368280" cy="838440"/>
              <a:chOff x="6565320" y="3200400"/>
              <a:chExt cx="368280" cy="838440"/>
            </a:xfrm>
          </p:grpSpPr>
          <p:sp>
            <p:nvSpPr>
              <p:cNvPr id="1344" name=""/>
              <p:cNvSpPr/>
              <p:nvPr/>
            </p:nvSpPr>
            <p:spPr>
              <a:xfrm>
                <a:off x="6565320" y="3353040"/>
                <a:ext cx="280800" cy="596880"/>
              </a:xfrm>
              <a:custGeom>
                <a:avLst/>
                <a:gdLst>
                  <a:gd name="textAreaLeft" fmla="*/ 10080 w 280800"/>
                  <a:gd name="textAreaRight" fmla="*/ 270720 w 280800"/>
                  <a:gd name="textAreaTop" fmla="*/ 10080 h 596880"/>
                  <a:gd name="textAreaBottom" fmla="*/ 586800 h 596880"/>
                </a:gdLst>
                <a:ahLst/>
                <a:rect l="textAreaLeft" t="textAreaTop" r="textAreaRight" b="textAreaBottom"/>
                <a:pathLst>
                  <a:path w="21600" h="45883">
                    <a:moveTo>
                      <a:pt x="2699" y="0"/>
                    </a:moveTo>
                    <a:arcTo wR="2699" hR="2699" stAng="16200000" swAng="-5400000"/>
                    <a:lnTo>
                      <a:pt x="0" y="43184"/>
                    </a:lnTo>
                    <a:arcTo wR="2699" hR="2699" stAng="10800000" swAng="-5400000"/>
                    <a:lnTo>
                      <a:pt x="18901" y="45883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832800" y="3429000"/>
                <a:ext cx="100800" cy="444600"/>
              </a:xfrm>
              <a:custGeom>
                <a:avLst/>
                <a:gdLst>
                  <a:gd name="textAreaLeft" fmla="*/ 3600 w 100800"/>
                  <a:gd name="textAreaRight" fmla="*/ 97200 w 100800"/>
                  <a:gd name="textAreaTop" fmla="*/ 3600 h 444600"/>
                  <a:gd name="textAreaBottom" fmla="*/ 441000 h 444600"/>
                </a:gdLst>
                <a:ahLst/>
                <a:rect l="textAreaLeft" t="textAreaTop" r="textAreaRight" b="textAreaBottom"/>
                <a:pathLst>
                  <a:path w="21600" h="95009">
                    <a:moveTo>
                      <a:pt x="2699" y="0"/>
                    </a:moveTo>
                    <a:arcTo wR="2699" hR="2699" stAng="16200000" swAng="-5400000"/>
                    <a:lnTo>
                      <a:pt x="0" y="92310"/>
                    </a:lnTo>
                    <a:arcTo wR="2699" hR="2699" stAng="10800000" swAng="-5400000"/>
                    <a:lnTo>
                      <a:pt x="18901" y="9500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565320" y="3200400"/>
                <a:ext cx="70200" cy="838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>
            <a:off x="533520" y="2438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无屏蔽的场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08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滤波器靠近被滤波导线的靠近器件或线路板一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24080" y="2057400"/>
            <a:ext cx="0" cy="4038480"/>
          </a:xfrm>
          <a:prstGeom prst="line">
            <a:avLst/>
          </a:prstGeom>
          <a:ln w="381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33920" y="2057400"/>
            <a:ext cx="4343400" cy="459720"/>
          </a:xfrm>
          <a:prstGeom prst="rect">
            <a:avLst/>
          </a:prstGeom>
          <a:noFill/>
          <a:ln w="9360">
            <a:solidFill>
              <a:srgbClr val="00c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28f"/>
                </a:solidFill>
                <a:latin typeface="Tahoma"/>
              </a:rPr>
              <a:t>有屏蔽的场合：在屏蔽界面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6934320" y="3556080"/>
            <a:ext cx="1523880" cy="482400"/>
            <a:chOff x="6934320" y="3556080"/>
            <a:chExt cx="1523880" cy="482400"/>
          </a:xfrm>
        </p:grpSpPr>
        <p:sp>
          <p:nvSpPr>
            <p:cNvPr id="1352" name=""/>
            <p:cNvSpPr/>
            <p:nvPr/>
          </p:nvSpPr>
          <p:spPr>
            <a:xfrm>
              <a:off x="6934320" y="3556080"/>
              <a:ext cx="1523880" cy="33012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16"/>
                  </a:moveTo>
                  <a:cubicBezTo>
                    <a:pt x="72" y="8"/>
                    <a:pt x="144" y="0"/>
                    <a:pt x="192" y="16"/>
                  </a:cubicBezTo>
                  <a:cubicBezTo>
                    <a:pt x="240" y="32"/>
                    <a:pt x="240" y="80"/>
                    <a:pt x="288" y="112"/>
                  </a:cubicBezTo>
                  <a:cubicBezTo>
                    <a:pt x="336" y="144"/>
                    <a:pt x="368" y="208"/>
                    <a:pt x="480" y="208"/>
                  </a:cubicBezTo>
                  <a:cubicBezTo>
                    <a:pt x="592" y="208"/>
                    <a:pt x="776" y="160"/>
                    <a:pt x="960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934320" y="3708360"/>
              <a:ext cx="1523880" cy="33012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16"/>
                  </a:moveTo>
                  <a:cubicBezTo>
                    <a:pt x="72" y="8"/>
                    <a:pt x="144" y="0"/>
                    <a:pt x="192" y="16"/>
                  </a:cubicBezTo>
                  <a:cubicBezTo>
                    <a:pt x="240" y="32"/>
                    <a:pt x="240" y="80"/>
                    <a:pt x="288" y="112"/>
                  </a:cubicBezTo>
                  <a:cubicBezTo>
                    <a:pt x="336" y="144"/>
                    <a:pt x="368" y="208"/>
                    <a:pt x="480" y="208"/>
                  </a:cubicBezTo>
                  <a:cubicBezTo>
                    <a:pt x="592" y="208"/>
                    <a:pt x="776" y="160"/>
                    <a:pt x="960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6159600" y="3505320"/>
            <a:ext cx="393480" cy="457200"/>
          </a:xfrm>
          <a:custGeom>
            <a:avLst/>
            <a:gdLst/>
            <a:ahLst/>
            <a:rect l="l" t="t" r="r" b="b"/>
            <a:pathLst>
              <a:path w="248" h="288">
                <a:moveTo>
                  <a:pt x="8" y="288"/>
                </a:moveTo>
                <a:cubicBezTo>
                  <a:pt x="4" y="236"/>
                  <a:pt x="0" y="184"/>
                  <a:pt x="8" y="144"/>
                </a:cubicBezTo>
                <a:cubicBezTo>
                  <a:pt x="16" y="104"/>
                  <a:pt x="16" y="72"/>
                  <a:pt x="56" y="48"/>
                </a:cubicBezTo>
                <a:cubicBezTo>
                  <a:pt x="96" y="24"/>
                  <a:pt x="172" y="12"/>
                  <a:pt x="24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311880" y="3809880"/>
            <a:ext cx="241200" cy="152640"/>
          </a:xfrm>
          <a:custGeom>
            <a:avLst/>
            <a:gdLst/>
            <a:ahLst/>
            <a:rect l="l" t="t" r="r" b="b"/>
            <a:pathLst>
              <a:path w="248" h="288">
                <a:moveTo>
                  <a:pt x="8" y="288"/>
                </a:moveTo>
                <a:cubicBezTo>
                  <a:pt x="4" y="236"/>
                  <a:pt x="0" y="184"/>
                  <a:pt x="8" y="144"/>
                </a:cubicBezTo>
                <a:cubicBezTo>
                  <a:pt x="16" y="104"/>
                  <a:pt x="16" y="72"/>
                  <a:pt x="56" y="48"/>
                </a:cubicBezTo>
                <a:cubicBezTo>
                  <a:pt x="96" y="24"/>
                  <a:pt x="172" y="12"/>
                  <a:pt x="24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5880" y="3124080"/>
            <a:ext cx="304920" cy="2286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rot="5424000">
            <a:off x="7238880" y="2971440"/>
            <a:ext cx="609840" cy="45720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rot="10861800">
            <a:off x="5866560" y="3276360"/>
            <a:ext cx="304920" cy="22860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24280" y="3416400"/>
            <a:ext cx="1295640" cy="393480"/>
          </a:xfrm>
          <a:custGeom>
            <a:avLst/>
            <a:gdLst/>
            <a:ahLst/>
            <a:rect l="l" t="t" r="r" b="b"/>
            <a:pathLst>
              <a:path w="816" h="248">
                <a:moveTo>
                  <a:pt x="816" y="104"/>
                </a:moveTo>
                <a:cubicBezTo>
                  <a:pt x="768" y="60"/>
                  <a:pt x="720" y="16"/>
                  <a:pt x="624" y="8"/>
                </a:cubicBezTo>
                <a:cubicBezTo>
                  <a:pt x="528" y="0"/>
                  <a:pt x="344" y="16"/>
                  <a:pt x="240" y="56"/>
                </a:cubicBezTo>
                <a:cubicBezTo>
                  <a:pt x="136" y="96"/>
                  <a:pt x="68" y="172"/>
                  <a:pt x="0" y="248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3962520" y="4648320"/>
            <a:ext cx="2894760" cy="1828440"/>
            <a:chOff x="3962520" y="4648320"/>
            <a:chExt cx="2894760" cy="1828440"/>
          </a:xfrm>
        </p:grpSpPr>
        <p:sp>
          <p:nvSpPr>
            <p:cNvPr id="1361" name=""/>
            <p:cNvSpPr/>
            <p:nvPr/>
          </p:nvSpPr>
          <p:spPr>
            <a:xfrm>
              <a:off x="3962520" y="4648320"/>
              <a:ext cx="2737080" cy="182844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1872" y="720"/>
                  </a:moveTo>
                  <a:lnTo>
                    <a:pt x="1872" y="960"/>
                  </a:lnTo>
                  <a:lnTo>
                    <a:pt x="0" y="960"/>
                  </a:lnTo>
                  <a:lnTo>
                    <a:pt x="0" y="0"/>
                  </a:lnTo>
                  <a:lnTo>
                    <a:pt x="1872" y="0"/>
                  </a:lnTo>
                  <a:lnTo>
                    <a:pt x="1872" y="336"/>
                  </a:lnTo>
                  <a:lnTo>
                    <a:pt x="1776" y="336"/>
                  </a:lnTo>
                  <a:lnTo>
                    <a:pt x="1776" y="96"/>
                  </a:lnTo>
                  <a:lnTo>
                    <a:pt x="96" y="96"/>
                  </a:lnTo>
                  <a:lnTo>
                    <a:pt x="96" y="864"/>
                  </a:lnTo>
                  <a:lnTo>
                    <a:pt x="1776" y="864"/>
                  </a:lnTo>
                  <a:lnTo>
                    <a:pt x="1776" y="720"/>
                  </a:lnTo>
                  <a:lnTo>
                    <a:pt x="1872" y="720"/>
                  </a:lnTo>
                  <a:close/>
                </a:path>
              </a:pathLst>
            </a:custGeom>
            <a:solidFill>
              <a:srgbClr val="00e4a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489000" y="5105160"/>
              <a:ext cx="368280" cy="1005480"/>
              <a:chOff x="6489000" y="5105160"/>
              <a:chExt cx="368280" cy="1005480"/>
            </a:xfrm>
          </p:grpSpPr>
          <p:sp>
            <p:nvSpPr>
              <p:cNvPr id="1363" name=""/>
              <p:cNvSpPr/>
              <p:nvPr/>
            </p:nvSpPr>
            <p:spPr>
              <a:xfrm>
                <a:off x="6489000" y="5288040"/>
                <a:ext cx="280800" cy="715680"/>
              </a:xfrm>
              <a:custGeom>
                <a:avLst/>
                <a:gdLst>
                  <a:gd name="textAreaLeft" fmla="*/ 10080 w 280800"/>
                  <a:gd name="textAreaRight" fmla="*/ 270720 w 280800"/>
                  <a:gd name="textAreaTop" fmla="*/ 10080 h 715680"/>
                  <a:gd name="textAreaBottom" fmla="*/ 705600 h 715680"/>
                </a:gdLst>
                <a:ahLst/>
                <a:rect l="textAreaLeft" t="textAreaTop" r="textAreaRight" b="textAreaBottom"/>
                <a:pathLst>
                  <a:path w="21600" h="55009">
                    <a:moveTo>
                      <a:pt x="2699" y="0"/>
                    </a:moveTo>
                    <a:arcTo wR="2699" hR="2699" stAng="16200000" swAng="-5400000"/>
                    <a:lnTo>
                      <a:pt x="0" y="52310"/>
                    </a:lnTo>
                    <a:arcTo wR="2699" hR="2699" stAng="10800000" swAng="-5400000"/>
                    <a:lnTo>
                      <a:pt x="18901" y="5500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56480" y="5379120"/>
                <a:ext cx="100800" cy="533160"/>
              </a:xfrm>
              <a:custGeom>
                <a:avLst/>
                <a:gdLst>
                  <a:gd name="textAreaLeft" fmla="*/ 3600 w 100800"/>
                  <a:gd name="textAreaRight" fmla="*/ 97200 w 100800"/>
                  <a:gd name="textAreaTop" fmla="*/ 3600 h 533160"/>
                  <a:gd name="textAreaBottom" fmla="*/ 529560 h 533160"/>
                </a:gdLst>
                <a:ahLst/>
                <a:rect l="textAreaLeft" t="textAreaTop" r="textAreaRight" b="textAreaBottom"/>
                <a:pathLst>
                  <a:path w="21600" h="113919">
                    <a:moveTo>
                      <a:pt x="2699" y="0"/>
                    </a:moveTo>
                    <a:arcTo wR="2699" hR="2699" stAng="16200000" swAng="-5400000"/>
                    <a:lnTo>
                      <a:pt x="0" y="111220"/>
                    </a:lnTo>
                    <a:arcTo wR="2699" hR="2699" stAng="10800000" swAng="-5400000"/>
                    <a:lnTo>
                      <a:pt x="18901" y="11391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489000" y="5105160"/>
                <a:ext cx="70200" cy="1005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6" name=""/>
          <p:cNvGrpSpPr/>
          <p:nvPr/>
        </p:nvGrpSpPr>
        <p:grpSpPr>
          <a:xfrm>
            <a:off x="6858000" y="5537160"/>
            <a:ext cx="1523880" cy="482400"/>
            <a:chOff x="6858000" y="5537160"/>
            <a:chExt cx="1523880" cy="482400"/>
          </a:xfrm>
        </p:grpSpPr>
        <p:sp>
          <p:nvSpPr>
            <p:cNvPr id="1367" name=""/>
            <p:cNvSpPr/>
            <p:nvPr/>
          </p:nvSpPr>
          <p:spPr>
            <a:xfrm>
              <a:off x="6858000" y="5537160"/>
              <a:ext cx="1523880" cy="33012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16"/>
                  </a:moveTo>
                  <a:cubicBezTo>
                    <a:pt x="72" y="8"/>
                    <a:pt x="144" y="0"/>
                    <a:pt x="192" y="16"/>
                  </a:cubicBezTo>
                  <a:cubicBezTo>
                    <a:pt x="240" y="32"/>
                    <a:pt x="240" y="80"/>
                    <a:pt x="288" y="112"/>
                  </a:cubicBezTo>
                  <a:cubicBezTo>
                    <a:pt x="336" y="144"/>
                    <a:pt x="368" y="208"/>
                    <a:pt x="480" y="208"/>
                  </a:cubicBezTo>
                  <a:cubicBezTo>
                    <a:pt x="592" y="208"/>
                    <a:pt x="776" y="160"/>
                    <a:pt x="960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58000" y="5689440"/>
              <a:ext cx="1523880" cy="33012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16"/>
                  </a:moveTo>
                  <a:cubicBezTo>
                    <a:pt x="72" y="8"/>
                    <a:pt x="144" y="0"/>
                    <a:pt x="192" y="16"/>
                  </a:cubicBezTo>
                  <a:cubicBezTo>
                    <a:pt x="240" y="32"/>
                    <a:pt x="240" y="80"/>
                    <a:pt x="288" y="112"/>
                  </a:cubicBezTo>
                  <a:cubicBezTo>
                    <a:pt x="336" y="144"/>
                    <a:pt x="368" y="208"/>
                    <a:pt x="480" y="208"/>
                  </a:cubicBezTo>
                  <a:cubicBezTo>
                    <a:pt x="592" y="208"/>
                    <a:pt x="776" y="160"/>
                    <a:pt x="960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5181480" y="3886200"/>
            <a:ext cx="152640" cy="763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876920" y="3886200"/>
            <a:ext cx="152280" cy="763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572000" y="3886200"/>
            <a:ext cx="152280" cy="763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4343400" y="5943600"/>
            <a:ext cx="1752480" cy="7632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72000" y="5867280"/>
            <a:ext cx="152280" cy="763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29200" y="5867280"/>
            <a:ext cx="152280" cy="763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410080" y="5867280"/>
            <a:ext cx="152640" cy="763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248520" y="5105520"/>
            <a:ext cx="304560" cy="10666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778360" y="5334120"/>
            <a:ext cx="470160" cy="609480"/>
          </a:xfrm>
          <a:custGeom>
            <a:avLst/>
            <a:gdLst/>
            <a:ahLst/>
            <a:rect l="l" t="t" r="r" b="b"/>
            <a:pathLst>
              <a:path w="248" h="288">
                <a:moveTo>
                  <a:pt x="8" y="288"/>
                </a:moveTo>
                <a:cubicBezTo>
                  <a:pt x="4" y="236"/>
                  <a:pt x="0" y="184"/>
                  <a:pt x="8" y="144"/>
                </a:cubicBezTo>
                <a:cubicBezTo>
                  <a:pt x="16" y="104"/>
                  <a:pt x="16" y="72"/>
                  <a:pt x="56" y="48"/>
                </a:cubicBezTo>
                <a:cubicBezTo>
                  <a:pt x="96" y="24"/>
                  <a:pt x="172" y="12"/>
                  <a:pt x="24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006960" y="5638680"/>
            <a:ext cx="241560" cy="304920"/>
          </a:xfrm>
          <a:custGeom>
            <a:avLst/>
            <a:gdLst/>
            <a:ahLst/>
            <a:rect l="l" t="t" r="r" b="b"/>
            <a:pathLst>
              <a:path w="248" h="288">
                <a:moveTo>
                  <a:pt x="8" y="288"/>
                </a:moveTo>
                <a:cubicBezTo>
                  <a:pt x="4" y="236"/>
                  <a:pt x="0" y="184"/>
                  <a:pt x="8" y="144"/>
                </a:cubicBezTo>
                <a:cubicBezTo>
                  <a:pt x="16" y="104"/>
                  <a:pt x="16" y="72"/>
                  <a:pt x="56" y="48"/>
                </a:cubicBezTo>
                <a:cubicBezTo>
                  <a:pt x="96" y="24"/>
                  <a:pt x="172" y="12"/>
                  <a:pt x="24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5424000">
            <a:off x="7315200" y="5105160"/>
            <a:ext cx="609480" cy="45720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10080" y="5181480"/>
            <a:ext cx="304920" cy="2286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172200" y="4876920"/>
            <a:ext cx="304920" cy="60948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0" y="288"/>
                </a:moveTo>
                <a:cubicBezTo>
                  <a:pt x="12" y="276"/>
                  <a:pt x="24" y="264"/>
                  <a:pt x="48" y="240"/>
                </a:cubicBezTo>
                <a:cubicBezTo>
                  <a:pt x="72" y="216"/>
                  <a:pt x="128" y="184"/>
                  <a:pt x="144" y="144"/>
                </a:cubicBezTo>
                <a:cubicBezTo>
                  <a:pt x="160" y="104"/>
                  <a:pt x="152" y="52"/>
                  <a:pt x="14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24480" y="5638680"/>
            <a:ext cx="457200" cy="6858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152" y="0"/>
                </a:moveTo>
                <a:cubicBezTo>
                  <a:pt x="116" y="8"/>
                  <a:pt x="80" y="16"/>
                  <a:pt x="56" y="48"/>
                </a:cubicBezTo>
                <a:cubicBezTo>
                  <a:pt x="32" y="80"/>
                  <a:pt x="16" y="152"/>
                  <a:pt x="8" y="192"/>
                </a:cubicBezTo>
                <a:cubicBezTo>
                  <a:pt x="0" y="232"/>
                  <a:pt x="4" y="260"/>
                  <a:pt x="8" y="288"/>
                </a:cubicBezTo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板上滤波器的注意事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2971800" cy="1752840"/>
          </a:xfrm>
          <a:custGeom>
            <a:avLst/>
            <a:gdLst/>
            <a:ahLst/>
            <a:rect l="l" t="t" r="r" b="b"/>
            <a:pathLst>
              <a:path w="2880" h="2160">
                <a:moveTo>
                  <a:pt x="0" y="0"/>
                </a:moveTo>
                <a:lnTo>
                  <a:pt x="1824" y="0"/>
                </a:lnTo>
                <a:lnTo>
                  <a:pt x="1824" y="864"/>
                </a:lnTo>
                <a:lnTo>
                  <a:pt x="2064" y="864"/>
                </a:lnTo>
                <a:lnTo>
                  <a:pt x="2064" y="0"/>
                </a:lnTo>
                <a:lnTo>
                  <a:pt x="2880" y="0"/>
                </a:lnTo>
                <a:lnTo>
                  <a:pt x="2880" y="2160"/>
                </a:lnTo>
                <a:lnTo>
                  <a:pt x="2064" y="2160"/>
                </a:lnTo>
                <a:lnTo>
                  <a:pt x="2064" y="1440"/>
                </a:lnTo>
                <a:lnTo>
                  <a:pt x="1824" y="1440"/>
                </a:lnTo>
                <a:lnTo>
                  <a:pt x="1824" y="2160"/>
                </a:lnTo>
                <a:lnTo>
                  <a:pt x="0" y="216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09880" y="2286000"/>
            <a:ext cx="71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733920" y="2362320"/>
            <a:ext cx="69840" cy="380880"/>
          </a:xfrm>
          <a:custGeom>
            <a:avLst/>
            <a:gdLst>
              <a:gd name="textAreaLeft" fmla="*/ 3240 w 69840"/>
              <a:gd name="textAreaRight" fmla="*/ 66600 w 69840"/>
              <a:gd name="textAreaTop" fmla="*/ 3240 h 380880"/>
              <a:gd name="textAreaBottom" fmla="*/ 377640 h 380880"/>
            </a:gdLst>
            <a:ahLst/>
            <a:rect l="textAreaLeft" t="textAreaTop" r="textAreaRight" b="textAreaBottom"/>
            <a:pathLst>
              <a:path w="21600" h="117305">
                <a:moveTo>
                  <a:pt x="3600" y="0"/>
                </a:moveTo>
                <a:arcTo wR="3600" hR="3600" stAng="16200000" swAng="-5400000"/>
                <a:lnTo>
                  <a:pt x="0" y="113705"/>
                </a:lnTo>
                <a:arcTo wR="3600" hR="3600" stAng="10800000" swAng="-5400000"/>
                <a:lnTo>
                  <a:pt x="18000" y="117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52680" y="2362320"/>
            <a:ext cx="14148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2438280"/>
            <a:ext cx="14148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352680" y="2514600"/>
            <a:ext cx="14148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52680" y="2286000"/>
            <a:ext cx="14148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352680" y="2590920"/>
            <a:ext cx="14148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3720" y="2362320"/>
            <a:ext cx="1336680" cy="609480"/>
          </a:xfrm>
          <a:custGeom>
            <a:avLst/>
            <a:gdLst/>
            <a:ahLst/>
            <a:rect l="l" t="t" r="r" b="b"/>
            <a:pathLst>
              <a:path w="912" h="480">
                <a:moveTo>
                  <a:pt x="0" y="480"/>
                </a:moveTo>
                <a:lnTo>
                  <a:pt x="672" y="480"/>
                </a:lnTo>
                <a:lnTo>
                  <a:pt x="672" y="0"/>
                </a:lnTo>
                <a:lnTo>
                  <a:pt x="91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244600" y="2438280"/>
            <a:ext cx="1260720" cy="609840"/>
          </a:xfrm>
          <a:custGeom>
            <a:avLst/>
            <a:gdLst/>
            <a:ahLst/>
            <a:rect l="l" t="t" r="r" b="b"/>
            <a:pathLst>
              <a:path w="912" h="480">
                <a:moveTo>
                  <a:pt x="0" y="480"/>
                </a:moveTo>
                <a:lnTo>
                  <a:pt x="672" y="480"/>
                </a:lnTo>
                <a:lnTo>
                  <a:pt x="672" y="0"/>
                </a:lnTo>
                <a:lnTo>
                  <a:pt x="91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209680" y="2666880"/>
            <a:ext cx="1336680" cy="609840"/>
          </a:xfrm>
          <a:custGeom>
            <a:avLst/>
            <a:gdLst/>
            <a:ahLst/>
            <a:rect l="l" t="t" r="r" b="b"/>
            <a:pathLst>
              <a:path w="912" h="432">
                <a:moveTo>
                  <a:pt x="0" y="432"/>
                </a:moveTo>
                <a:lnTo>
                  <a:pt x="768" y="432"/>
                </a:lnTo>
                <a:lnTo>
                  <a:pt x="768" y="0"/>
                </a:lnTo>
                <a:lnTo>
                  <a:pt x="91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57400" y="2514600"/>
            <a:ext cx="1413000" cy="609480"/>
          </a:xfrm>
          <a:custGeom>
            <a:avLst/>
            <a:gdLst/>
            <a:ahLst/>
            <a:rect l="l" t="t" r="r" b="b"/>
            <a:pathLst>
              <a:path w="912" h="432">
                <a:moveTo>
                  <a:pt x="0" y="432"/>
                </a:moveTo>
                <a:lnTo>
                  <a:pt x="768" y="432"/>
                </a:lnTo>
                <a:lnTo>
                  <a:pt x="768" y="0"/>
                </a:lnTo>
                <a:lnTo>
                  <a:pt x="91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21040" y="2590920"/>
            <a:ext cx="1407960" cy="609480"/>
          </a:xfrm>
          <a:custGeom>
            <a:avLst/>
            <a:gdLst/>
            <a:ahLst/>
            <a:rect l="l" t="t" r="r" b="b"/>
            <a:pathLst>
              <a:path w="960" h="384">
                <a:moveTo>
                  <a:pt x="0" y="384"/>
                </a:moveTo>
                <a:lnTo>
                  <a:pt x="864" y="384"/>
                </a:lnTo>
                <a:lnTo>
                  <a:pt x="864" y="0"/>
                </a:lnTo>
                <a:lnTo>
                  <a:pt x="96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2362320"/>
            <a:ext cx="28116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29000" y="2438280"/>
            <a:ext cx="28116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  <a:lnTo>
                  <a:pt x="192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05320" y="2514600"/>
            <a:ext cx="28080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505320" y="2590920"/>
            <a:ext cx="280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05320" y="2514600"/>
            <a:ext cx="28080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lnTo>
                  <a:pt x="144" y="96"/>
                </a:lnTo>
                <a:lnTo>
                  <a:pt x="19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505320" y="2209680"/>
            <a:ext cx="13968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505320" y="3809880"/>
            <a:ext cx="13968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66840" y="5410080"/>
            <a:ext cx="3938400" cy="76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03440" y="4710240"/>
            <a:ext cx="4554360" cy="1066680"/>
          </a:xfrm>
          <a:custGeom>
            <a:avLst/>
            <a:gdLst/>
            <a:ahLst/>
            <a:rect l="l" t="t" r="r" b="b"/>
            <a:pathLst>
              <a:path w="3456" h="672">
                <a:moveTo>
                  <a:pt x="0" y="48"/>
                </a:moveTo>
                <a:lnTo>
                  <a:pt x="0" y="672"/>
                </a:lnTo>
                <a:lnTo>
                  <a:pt x="3456" y="672"/>
                </a:lnTo>
                <a:lnTo>
                  <a:pt x="345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547640" y="5181480"/>
            <a:ext cx="5623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320920" y="5181480"/>
            <a:ext cx="6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673360" y="5334120"/>
            <a:ext cx="984240" cy="7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133960" y="5257800"/>
            <a:ext cx="14148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95680" y="5181480"/>
            <a:ext cx="287280" cy="228600"/>
          </a:xfrm>
          <a:prstGeom prst="rect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553080" y="3429000"/>
            <a:ext cx="2286000" cy="380880"/>
          </a:xfrm>
          <a:prstGeom prst="wedgeRoundRectCallout">
            <a:avLst>
              <a:gd name="adj1" fmla="val -10138"/>
              <a:gd name="adj2" fmla="val -173333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滤波器要并排安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086600" y="2666880"/>
            <a:ext cx="457200" cy="152640"/>
          </a:xfrm>
          <a:prstGeom prst="rect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867280" y="2209680"/>
            <a:ext cx="457200" cy="152640"/>
          </a:xfrm>
          <a:prstGeom prst="rect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029200" y="2286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324480" y="228600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029200" y="2743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54380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001000" y="220968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876920" y="1879560"/>
            <a:ext cx="838080" cy="35568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08"/>
                </a:moveTo>
                <a:cubicBezTo>
                  <a:pt x="36" y="200"/>
                  <a:pt x="72" y="192"/>
                  <a:pt x="96" y="160"/>
                </a:cubicBezTo>
                <a:cubicBezTo>
                  <a:pt x="120" y="128"/>
                  <a:pt x="128" y="32"/>
                  <a:pt x="144" y="16"/>
                </a:cubicBezTo>
                <a:cubicBezTo>
                  <a:pt x="160" y="0"/>
                  <a:pt x="176" y="32"/>
                  <a:pt x="192" y="64"/>
                </a:cubicBezTo>
                <a:cubicBezTo>
                  <a:pt x="208" y="96"/>
                  <a:pt x="216" y="192"/>
                  <a:pt x="240" y="208"/>
                </a:cubicBezTo>
                <a:cubicBezTo>
                  <a:pt x="264" y="224"/>
                  <a:pt x="304" y="176"/>
                  <a:pt x="336" y="160"/>
                </a:cubicBezTo>
                <a:cubicBezTo>
                  <a:pt x="368" y="144"/>
                  <a:pt x="400" y="104"/>
                  <a:pt x="432" y="112"/>
                </a:cubicBezTo>
                <a:cubicBezTo>
                  <a:pt x="464" y="120"/>
                  <a:pt x="496" y="164"/>
                  <a:pt x="528" y="20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29200" y="190512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334120" y="19810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638680" y="19810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400800" y="1828800"/>
            <a:ext cx="838080" cy="35568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08"/>
                </a:moveTo>
                <a:cubicBezTo>
                  <a:pt x="36" y="200"/>
                  <a:pt x="72" y="192"/>
                  <a:pt x="96" y="160"/>
                </a:cubicBezTo>
                <a:cubicBezTo>
                  <a:pt x="120" y="128"/>
                  <a:pt x="128" y="32"/>
                  <a:pt x="144" y="16"/>
                </a:cubicBezTo>
                <a:cubicBezTo>
                  <a:pt x="160" y="0"/>
                  <a:pt x="176" y="32"/>
                  <a:pt x="192" y="64"/>
                </a:cubicBezTo>
                <a:cubicBezTo>
                  <a:pt x="208" y="96"/>
                  <a:pt x="216" y="192"/>
                  <a:pt x="240" y="208"/>
                </a:cubicBezTo>
                <a:cubicBezTo>
                  <a:pt x="264" y="224"/>
                  <a:pt x="304" y="176"/>
                  <a:pt x="336" y="160"/>
                </a:cubicBezTo>
                <a:cubicBezTo>
                  <a:pt x="368" y="144"/>
                  <a:pt x="400" y="104"/>
                  <a:pt x="432" y="112"/>
                </a:cubicBezTo>
                <a:cubicBezTo>
                  <a:pt x="464" y="120"/>
                  <a:pt x="496" y="164"/>
                  <a:pt x="528" y="20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819520"/>
            <a:ext cx="990720" cy="380880"/>
          </a:xfrm>
          <a:custGeom>
            <a:avLst/>
            <a:gdLst/>
            <a:ahLst/>
            <a:rect l="l" t="t" r="r" b="b"/>
            <a:pathLst>
              <a:path w="624" h="240">
                <a:moveTo>
                  <a:pt x="0" y="192"/>
                </a:moveTo>
                <a:lnTo>
                  <a:pt x="144" y="192"/>
                </a:lnTo>
                <a:lnTo>
                  <a:pt x="192" y="0"/>
                </a:lnTo>
                <a:lnTo>
                  <a:pt x="240" y="240"/>
                </a:lnTo>
                <a:lnTo>
                  <a:pt x="240" y="144"/>
                </a:lnTo>
                <a:lnTo>
                  <a:pt x="336" y="144"/>
                </a:lnTo>
                <a:lnTo>
                  <a:pt x="384" y="240"/>
                </a:lnTo>
                <a:lnTo>
                  <a:pt x="384" y="96"/>
                </a:lnTo>
                <a:lnTo>
                  <a:pt x="432" y="144"/>
                </a:lnTo>
                <a:lnTo>
                  <a:pt x="480" y="192"/>
                </a:lnTo>
                <a:lnTo>
                  <a:pt x="624" y="192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53080" y="2286000"/>
            <a:ext cx="304920" cy="38088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84"/>
                  <a:pt x="72" y="176"/>
                  <a:pt x="96" y="144"/>
                </a:cubicBezTo>
                <a:cubicBezTo>
                  <a:pt x="120" y="112"/>
                  <a:pt x="136" y="24"/>
                  <a:pt x="144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553080" y="182880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705720" y="182880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934320" y="1981080"/>
            <a:ext cx="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162920" y="1981080"/>
            <a:ext cx="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19920" y="6019920"/>
            <a:ext cx="2971800" cy="685800"/>
          </a:xfrm>
          <a:prstGeom prst="wedgeRoundRectCallout">
            <a:avLst>
              <a:gd name="adj1" fmla="val -84083"/>
              <a:gd name="adj2" fmla="val -116898"/>
              <a:gd name="adj3" fmla="val 16667"/>
            </a:avLst>
          </a:prstGeom>
          <a:noFill/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12a05"/>
                </a:solidFill>
                <a:latin typeface="Times New Roman"/>
              </a:rPr>
              <a:t>线路板的干净地与金属机箱或大金属板紧密搭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6200" y="3886200"/>
            <a:ext cx="2209680" cy="380880"/>
          </a:xfrm>
          <a:prstGeom prst="wedgeRoundRectCallout">
            <a:avLst>
              <a:gd name="adj1" fmla="val -66018"/>
              <a:gd name="adj2" fmla="val -214583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为滤波设置干净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495288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288"/>
                </a:moveTo>
                <a:lnTo>
                  <a:pt x="0" y="96"/>
                </a:lnTo>
                <a:lnTo>
                  <a:pt x="192" y="0"/>
                </a:lnTo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553080" y="4572000"/>
            <a:ext cx="2286000" cy="457200"/>
          </a:xfrm>
          <a:prstGeom prst="wedgeRoundRectCallout">
            <a:avLst>
              <a:gd name="adj1" fmla="val -123125"/>
              <a:gd name="adj2" fmla="val 83680"/>
              <a:gd name="adj3" fmla="val 16667"/>
            </a:avLst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Times New Roman"/>
              </a:rPr>
              <a:t>在接口处设置档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788000" y="5486400"/>
            <a:ext cx="393480" cy="254160"/>
          </a:xfrm>
          <a:custGeom>
            <a:avLst/>
            <a:gdLst/>
            <a:ahLst/>
            <a:rect l="l" t="t" r="r" b="b"/>
            <a:pathLst>
              <a:path w="248" h="160">
                <a:moveTo>
                  <a:pt x="200" y="0"/>
                </a:moveTo>
                <a:cubicBezTo>
                  <a:pt x="108" y="12"/>
                  <a:pt x="16" y="24"/>
                  <a:pt x="8" y="48"/>
                </a:cubicBezTo>
                <a:cubicBezTo>
                  <a:pt x="0" y="72"/>
                  <a:pt x="112" y="128"/>
                  <a:pt x="152" y="144"/>
                </a:cubicBezTo>
                <a:cubicBezTo>
                  <a:pt x="192" y="160"/>
                  <a:pt x="220" y="152"/>
                  <a:pt x="248" y="144"/>
                </a:cubicBezTo>
              </a:path>
            </a:pathLst>
          </a:custGeom>
          <a:noFill/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752480" y="4495680"/>
            <a:ext cx="1981440" cy="381240"/>
          </a:xfrm>
          <a:prstGeom prst="wedgeRoundRectCallout">
            <a:avLst>
              <a:gd name="adj1" fmla="val 90064"/>
              <a:gd name="adj2" fmla="val 162500"/>
              <a:gd name="adj3" fmla="val 16667"/>
            </a:avLst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Times New Roman"/>
              </a:rPr>
              <a:t>滤波器靠近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"/>
          <p:cNvGrpSpPr/>
          <p:nvPr/>
        </p:nvGrpSpPr>
        <p:grpSpPr>
          <a:xfrm>
            <a:off x="5356080" y="2882880"/>
            <a:ext cx="1582920" cy="2187720"/>
            <a:chOff x="5356080" y="2882880"/>
            <a:chExt cx="1582920" cy="2187720"/>
          </a:xfrm>
        </p:grpSpPr>
        <p:sp>
          <p:nvSpPr>
            <p:cNvPr id="1437" name=""/>
            <p:cNvSpPr/>
            <p:nvPr/>
          </p:nvSpPr>
          <p:spPr>
            <a:xfrm rot="1112400">
              <a:off x="5584680" y="3086280"/>
              <a:ext cx="639720" cy="154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112400">
              <a:off x="5884920" y="2948040"/>
              <a:ext cx="746280" cy="20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7932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面板上滤波的简易（临时）方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0" name=""/>
          <p:cNvSpPr/>
          <p:nvPr/>
        </p:nvSpPr>
        <p:spPr>
          <a:xfrm>
            <a:off x="457200" y="2057400"/>
            <a:ext cx="2971800" cy="3505320"/>
          </a:xfrm>
          <a:custGeom>
            <a:avLst/>
            <a:gdLst/>
            <a:ahLst/>
            <a:rect l="l" t="t" r="r" b="b"/>
            <a:pathLst>
              <a:path w="1248" h="1632">
                <a:moveTo>
                  <a:pt x="1248" y="0"/>
                </a:moveTo>
                <a:lnTo>
                  <a:pt x="0" y="528"/>
                </a:lnTo>
                <a:lnTo>
                  <a:pt x="0" y="1440"/>
                </a:lnTo>
                <a:lnTo>
                  <a:pt x="432" y="1632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39960" y="3035160"/>
            <a:ext cx="1434960" cy="901800"/>
          </a:xfrm>
          <a:custGeom>
            <a:avLst/>
            <a:gdLst/>
            <a:ahLst/>
            <a:rect l="l" t="t" r="r" b="b"/>
            <a:pathLst>
              <a:path w="904" h="568">
                <a:moveTo>
                  <a:pt x="32" y="488"/>
                </a:moveTo>
                <a:cubicBezTo>
                  <a:pt x="24" y="456"/>
                  <a:pt x="24" y="384"/>
                  <a:pt x="32" y="344"/>
                </a:cubicBezTo>
                <a:cubicBezTo>
                  <a:pt x="40" y="304"/>
                  <a:pt x="0" y="288"/>
                  <a:pt x="80" y="248"/>
                </a:cubicBezTo>
                <a:cubicBezTo>
                  <a:pt x="160" y="208"/>
                  <a:pt x="392" y="144"/>
                  <a:pt x="512" y="104"/>
                </a:cubicBezTo>
                <a:cubicBezTo>
                  <a:pt x="632" y="64"/>
                  <a:pt x="736" y="16"/>
                  <a:pt x="800" y="8"/>
                </a:cubicBezTo>
                <a:cubicBezTo>
                  <a:pt x="864" y="0"/>
                  <a:pt x="888" y="8"/>
                  <a:pt x="896" y="56"/>
                </a:cubicBezTo>
                <a:cubicBezTo>
                  <a:pt x="904" y="104"/>
                  <a:pt x="872" y="248"/>
                  <a:pt x="848" y="296"/>
                </a:cubicBezTo>
                <a:cubicBezTo>
                  <a:pt x="824" y="344"/>
                  <a:pt x="856" y="304"/>
                  <a:pt x="752" y="344"/>
                </a:cubicBezTo>
                <a:cubicBezTo>
                  <a:pt x="648" y="384"/>
                  <a:pt x="336" y="504"/>
                  <a:pt x="224" y="536"/>
                </a:cubicBezTo>
                <a:cubicBezTo>
                  <a:pt x="112" y="568"/>
                  <a:pt x="112" y="544"/>
                  <a:pt x="80" y="536"/>
                </a:cubicBezTo>
                <a:cubicBezTo>
                  <a:pt x="48" y="528"/>
                  <a:pt x="40" y="520"/>
                  <a:pt x="32" y="488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63640" y="2959200"/>
            <a:ext cx="1498680" cy="952560"/>
          </a:xfrm>
          <a:custGeom>
            <a:avLst/>
            <a:gdLst/>
            <a:ahLst/>
            <a:rect l="l" t="t" r="r" b="b"/>
            <a:pathLst>
              <a:path w="944" h="600">
                <a:moveTo>
                  <a:pt x="176" y="584"/>
                </a:moveTo>
                <a:cubicBezTo>
                  <a:pt x="116" y="592"/>
                  <a:pt x="56" y="600"/>
                  <a:pt x="32" y="584"/>
                </a:cubicBezTo>
                <a:cubicBezTo>
                  <a:pt x="8" y="568"/>
                  <a:pt x="32" y="528"/>
                  <a:pt x="32" y="488"/>
                </a:cubicBezTo>
                <a:cubicBezTo>
                  <a:pt x="32" y="448"/>
                  <a:pt x="24" y="384"/>
                  <a:pt x="32" y="344"/>
                </a:cubicBezTo>
                <a:cubicBezTo>
                  <a:pt x="40" y="304"/>
                  <a:pt x="0" y="288"/>
                  <a:pt x="80" y="248"/>
                </a:cubicBezTo>
                <a:cubicBezTo>
                  <a:pt x="160" y="208"/>
                  <a:pt x="392" y="144"/>
                  <a:pt x="512" y="104"/>
                </a:cubicBezTo>
                <a:cubicBezTo>
                  <a:pt x="632" y="64"/>
                  <a:pt x="728" y="16"/>
                  <a:pt x="800" y="8"/>
                </a:cubicBezTo>
                <a:cubicBezTo>
                  <a:pt x="872" y="0"/>
                  <a:pt x="908" y="28"/>
                  <a:pt x="944" y="5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19320" y="35053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295280" y="3733920"/>
            <a:ext cx="1526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600200" y="365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28800" y="358128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981080" y="3505320"/>
            <a:ext cx="1526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133720" y="3429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447920" y="3429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752480" y="3352680"/>
            <a:ext cx="152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981080" y="3276720"/>
            <a:ext cx="1526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133720" y="32004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143000" y="3733920"/>
            <a:ext cx="1447920" cy="761760"/>
            <a:chOff x="1143000" y="3733920"/>
            <a:chExt cx="1447920" cy="761760"/>
          </a:xfrm>
        </p:grpSpPr>
        <p:sp>
          <p:nvSpPr>
            <p:cNvPr id="1454" name=""/>
            <p:cNvSpPr/>
            <p:nvPr/>
          </p:nvSpPr>
          <p:spPr>
            <a:xfrm>
              <a:off x="1143000" y="3733920"/>
              <a:ext cx="1447920" cy="685800"/>
            </a:xfrm>
            <a:custGeom>
              <a:avLst/>
              <a:gdLst/>
              <a:ahLst/>
              <a:rect l="l" t="t" r="r" b="b"/>
              <a:pathLst>
                <a:path w="912" h="432">
                  <a:moveTo>
                    <a:pt x="0" y="432"/>
                  </a:moveTo>
                  <a:lnTo>
                    <a:pt x="0" y="288"/>
                  </a:lnTo>
                  <a:lnTo>
                    <a:pt x="768" y="0"/>
                  </a:lnTo>
                  <a:lnTo>
                    <a:pt x="912" y="48"/>
                  </a:lnTo>
                  <a:lnTo>
                    <a:pt x="144" y="336"/>
                  </a:lnTo>
                  <a:lnTo>
                    <a:pt x="0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143000" y="38862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432">
                  <a:moveTo>
                    <a:pt x="0" y="336"/>
                  </a:moveTo>
                  <a:lnTo>
                    <a:pt x="0" y="432"/>
                  </a:lnTo>
                  <a:lnTo>
                    <a:pt x="816" y="96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1346040" y="3733920"/>
            <a:ext cx="254160" cy="457200"/>
            <a:chOff x="1346040" y="3733920"/>
            <a:chExt cx="254160" cy="457200"/>
          </a:xfrm>
        </p:grpSpPr>
        <p:sp>
          <p:nvSpPr>
            <p:cNvPr id="1457" name=""/>
            <p:cNvSpPr/>
            <p:nvPr/>
          </p:nvSpPr>
          <p:spPr>
            <a:xfrm>
              <a:off x="1447560" y="3810240"/>
              <a:ext cx="152640" cy="30492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346040" y="37339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0"/>
                  </a:moveTo>
                  <a:cubicBezTo>
                    <a:pt x="8" y="40"/>
                    <a:pt x="0" y="80"/>
                    <a:pt x="16" y="96"/>
                  </a:cubicBezTo>
                  <a:cubicBezTo>
                    <a:pt x="32" y="112"/>
                    <a:pt x="72" y="104"/>
                    <a:pt x="11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46040" y="401328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6"/>
                  </a:moveTo>
                  <a:cubicBezTo>
                    <a:pt x="72" y="8"/>
                    <a:pt x="32" y="0"/>
                    <a:pt x="16" y="16"/>
                  </a:cubicBezTo>
                  <a:cubicBezTo>
                    <a:pt x="0" y="32"/>
                    <a:pt x="8" y="72"/>
                    <a:pt x="16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1676520" y="3657600"/>
            <a:ext cx="253440" cy="457200"/>
            <a:chOff x="1676520" y="3657600"/>
            <a:chExt cx="253440" cy="457200"/>
          </a:xfrm>
        </p:grpSpPr>
        <p:sp>
          <p:nvSpPr>
            <p:cNvPr id="1461" name=""/>
            <p:cNvSpPr/>
            <p:nvPr/>
          </p:nvSpPr>
          <p:spPr>
            <a:xfrm>
              <a:off x="1777680" y="3733920"/>
              <a:ext cx="152280" cy="30492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676520" y="365760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0"/>
                  </a:moveTo>
                  <a:cubicBezTo>
                    <a:pt x="8" y="40"/>
                    <a:pt x="0" y="80"/>
                    <a:pt x="16" y="96"/>
                  </a:cubicBezTo>
                  <a:cubicBezTo>
                    <a:pt x="32" y="112"/>
                    <a:pt x="72" y="104"/>
                    <a:pt x="11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676520" y="39369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6"/>
                  </a:moveTo>
                  <a:cubicBezTo>
                    <a:pt x="72" y="8"/>
                    <a:pt x="32" y="0"/>
                    <a:pt x="16" y="16"/>
                  </a:cubicBezTo>
                  <a:cubicBezTo>
                    <a:pt x="0" y="32"/>
                    <a:pt x="8" y="72"/>
                    <a:pt x="16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1905120" y="3581280"/>
            <a:ext cx="253440" cy="457200"/>
            <a:chOff x="1905120" y="3581280"/>
            <a:chExt cx="253440" cy="457200"/>
          </a:xfrm>
        </p:grpSpPr>
        <p:sp>
          <p:nvSpPr>
            <p:cNvPr id="1465" name=""/>
            <p:cNvSpPr/>
            <p:nvPr/>
          </p:nvSpPr>
          <p:spPr>
            <a:xfrm>
              <a:off x="2006280" y="3657600"/>
              <a:ext cx="152280" cy="30492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05120" y="358128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0"/>
                  </a:moveTo>
                  <a:cubicBezTo>
                    <a:pt x="8" y="40"/>
                    <a:pt x="0" y="80"/>
                    <a:pt x="16" y="96"/>
                  </a:cubicBezTo>
                  <a:cubicBezTo>
                    <a:pt x="32" y="112"/>
                    <a:pt x="72" y="104"/>
                    <a:pt x="11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05120" y="386064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6"/>
                  </a:moveTo>
                  <a:cubicBezTo>
                    <a:pt x="72" y="8"/>
                    <a:pt x="32" y="0"/>
                    <a:pt x="16" y="16"/>
                  </a:cubicBezTo>
                  <a:cubicBezTo>
                    <a:pt x="0" y="32"/>
                    <a:pt x="8" y="72"/>
                    <a:pt x="16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108160" y="3505320"/>
            <a:ext cx="254160" cy="457200"/>
            <a:chOff x="2108160" y="3505320"/>
            <a:chExt cx="254160" cy="457200"/>
          </a:xfrm>
        </p:grpSpPr>
        <p:sp>
          <p:nvSpPr>
            <p:cNvPr id="1469" name=""/>
            <p:cNvSpPr/>
            <p:nvPr/>
          </p:nvSpPr>
          <p:spPr>
            <a:xfrm>
              <a:off x="2209680" y="3581640"/>
              <a:ext cx="152640" cy="30492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08160" y="35053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0"/>
                  </a:moveTo>
                  <a:cubicBezTo>
                    <a:pt x="8" y="40"/>
                    <a:pt x="0" y="80"/>
                    <a:pt x="16" y="96"/>
                  </a:cubicBezTo>
                  <a:cubicBezTo>
                    <a:pt x="32" y="112"/>
                    <a:pt x="72" y="104"/>
                    <a:pt x="11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08160" y="378468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6"/>
                  </a:moveTo>
                  <a:cubicBezTo>
                    <a:pt x="72" y="8"/>
                    <a:pt x="32" y="0"/>
                    <a:pt x="16" y="16"/>
                  </a:cubicBezTo>
                  <a:cubicBezTo>
                    <a:pt x="0" y="32"/>
                    <a:pt x="8" y="72"/>
                    <a:pt x="16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2260440" y="3429000"/>
            <a:ext cx="254160" cy="457200"/>
            <a:chOff x="2260440" y="3429000"/>
            <a:chExt cx="254160" cy="457200"/>
          </a:xfrm>
        </p:grpSpPr>
        <p:sp>
          <p:nvSpPr>
            <p:cNvPr id="1473" name=""/>
            <p:cNvSpPr/>
            <p:nvPr/>
          </p:nvSpPr>
          <p:spPr>
            <a:xfrm>
              <a:off x="2361960" y="3505320"/>
              <a:ext cx="152640" cy="30492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60440" y="34290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0"/>
                  </a:moveTo>
                  <a:cubicBezTo>
                    <a:pt x="8" y="40"/>
                    <a:pt x="0" y="80"/>
                    <a:pt x="16" y="96"/>
                  </a:cubicBezTo>
                  <a:cubicBezTo>
                    <a:pt x="32" y="112"/>
                    <a:pt x="72" y="104"/>
                    <a:pt x="11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60440" y="37083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6"/>
                  </a:moveTo>
                  <a:cubicBezTo>
                    <a:pt x="72" y="8"/>
                    <a:pt x="32" y="0"/>
                    <a:pt x="16" y="16"/>
                  </a:cubicBezTo>
                  <a:cubicBezTo>
                    <a:pt x="0" y="32"/>
                    <a:pt x="8" y="72"/>
                    <a:pt x="16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6" name=""/>
          <p:cNvSpPr/>
          <p:nvPr/>
        </p:nvSpPr>
        <p:spPr>
          <a:xfrm>
            <a:off x="3048120" y="2590920"/>
            <a:ext cx="30456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200400" y="274320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00400" y="30481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505320" y="2819520"/>
            <a:ext cx="152280" cy="304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124080" y="27432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32"/>
                  <a:pt x="0" y="64"/>
                  <a:pt x="0" y="96"/>
                </a:cubicBezTo>
                <a:cubicBezTo>
                  <a:pt x="0" y="128"/>
                  <a:pt x="24" y="160"/>
                  <a:pt x="48" y="19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200400" y="27432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32"/>
                  <a:pt x="0" y="64"/>
                  <a:pt x="0" y="96"/>
                </a:cubicBezTo>
                <a:cubicBezTo>
                  <a:pt x="0" y="128"/>
                  <a:pt x="24" y="160"/>
                  <a:pt x="48" y="19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276720" y="2743200"/>
            <a:ext cx="7596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32"/>
                  <a:pt x="0" y="64"/>
                  <a:pt x="0" y="96"/>
                </a:cubicBezTo>
                <a:cubicBezTo>
                  <a:pt x="0" y="128"/>
                  <a:pt x="24" y="160"/>
                  <a:pt x="48" y="19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352680" y="2819520"/>
            <a:ext cx="7632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32"/>
                  <a:pt x="0" y="64"/>
                  <a:pt x="0" y="96"/>
                </a:cubicBezTo>
                <a:cubicBezTo>
                  <a:pt x="0" y="128"/>
                  <a:pt x="24" y="160"/>
                  <a:pt x="48" y="19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429000" y="2819520"/>
            <a:ext cx="7632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32"/>
                  <a:pt x="0" y="64"/>
                  <a:pt x="0" y="96"/>
                </a:cubicBezTo>
                <a:cubicBezTo>
                  <a:pt x="0" y="128"/>
                  <a:pt x="24" y="160"/>
                  <a:pt x="48" y="19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959200" y="2565360"/>
            <a:ext cx="241200" cy="660600"/>
          </a:xfrm>
          <a:custGeom>
            <a:avLst/>
            <a:gdLst/>
            <a:ahLst/>
            <a:rect l="l" t="t" r="r" b="b"/>
            <a:pathLst>
              <a:path w="152" h="416">
                <a:moveTo>
                  <a:pt x="152" y="16"/>
                </a:moveTo>
                <a:cubicBezTo>
                  <a:pt x="116" y="8"/>
                  <a:pt x="80" y="0"/>
                  <a:pt x="56" y="16"/>
                </a:cubicBezTo>
                <a:cubicBezTo>
                  <a:pt x="32" y="32"/>
                  <a:pt x="16" y="64"/>
                  <a:pt x="8" y="112"/>
                </a:cubicBezTo>
                <a:cubicBezTo>
                  <a:pt x="0" y="160"/>
                  <a:pt x="0" y="256"/>
                  <a:pt x="8" y="304"/>
                </a:cubicBezTo>
                <a:cubicBezTo>
                  <a:pt x="16" y="352"/>
                  <a:pt x="32" y="384"/>
                  <a:pt x="56" y="400"/>
                </a:cubicBezTo>
                <a:cubicBezTo>
                  <a:pt x="80" y="416"/>
                  <a:pt x="116" y="408"/>
                  <a:pt x="152" y="4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581280" y="29718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733920" y="2895480"/>
            <a:ext cx="533160" cy="60984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cubicBezTo>
                  <a:pt x="96" y="28"/>
                  <a:pt x="192" y="56"/>
                  <a:pt x="240" y="96"/>
                </a:cubicBezTo>
                <a:cubicBezTo>
                  <a:pt x="288" y="136"/>
                  <a:pt x="272" y="192"/>
                  <a:pt x="288" y="240"/>
                </a:cubicBezTo>
                <a:cubicBezTo>
                  <a:pt x="304" y="288"/>
                  <a:pt x="320" y="336"/>
                  <a:pt x="336" y="38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733920" y="3200400"/>
            <a:ext cx="533160" cy="60948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cubicBezTo>
                  <a:pt x="96" y="28"/>
                  <a:pt x="192" y="56"/>
                  <a:pt x="240" y="96"/>
                </a:cubicBezTo>
                <a:cubicBezTo>
                  <a:pt x="288" y="136"/>
                  <a:pt x="272" y="192"/>
                  <a:pt x="288" y="240"/>
                </a:cubicBezTo>
                <a:cubicBezTo>
                  <a:pt x="304" y="288"/>
                  <a:pt x="320" y="336"/>
                  <a:pt x="336" y="38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733920" y="2895480"/>
            <a:ext cx="144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cubicBezTo>
                  <a:pt x="0" y="32"/>
                  <a:pt x="0" y="64"/>
                  <a:pt x="0" y="96"/>
                </a:cubicBezTo>
                <a:cubicBezTo>
                  <a:pt x="0" y="128"/>
                  <a:pt x="0" y="160"/>
                  <a:pt x="0" y="19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276720" y="25909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96"/>
                </a:moveTo>
                <a:lnTo>
                  <a:pt x="96" y="0"/>
                </a:lnTo>
                <a:lnTo>
                  <a:pt x="144" y="48"/>
                </a:lnTo>
                <a:lnTo>
                  <a:pt x="48" y="144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429000" y="2590920"/>
            <a:ext cx="457200" cy="406440"/>
          </a:xfrm>
          <a:custGeom>
            <a:avLst/>
            <a:gdLst/>
            <a:ahLst/>
            <a:rect l="l" t="t" r="r" b="b"/>
            <a:pathLst>
              <a:path w="288" h="320">
                <a:moveTo>
                  <a:pt x="288" y="304"/>
                </a:moveTo>
                <a:cubicBezTo>
                  <a:pt x="272" y="280"/>
                  <a:pt x="256" y="256"/>
                  <a:pt x="240" y="256"/>
                </a:cubicBezTo>
                <a:cubicBezTo>
                  <a:pt x="224" y="256"/>
                  <a:pt x="200" y="320"/>
                  <a:pt x="192" y="304"/>
                </a:cubicBezTo>
                <a:cubicBezTo>
                  <a:pt x="184" y="288"/>
                  <a:pt x="200" y="208"/>
                  <a:pt x="192" y="160"/>
                </a:cubicBezTo>
                <a:cubicBezTo>
                  <a:pt x="184" y="112"/>
                  <a:pt x="176" y="32"/>
                  <a:pt x="144" y="16"/>
                </a:cubicBezTo>
                <a:cubicBezTo>
                  <a:pt x="112" y="0"/>
                  <a:pt x="56" y="32"/>
                  <a:pt x="0" y="64"/>
                </a:cubicBezTo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09880" y="30481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cubicBezTo>
                  <a:pt x="12" y="80"/>
                  <a:pt x="24" y="64"/>
                  <a:pt x="48" y="48"/>
                </a:cubicBezTo>
                <a:cubicBezTo>
                  <a:pt x="72" y="32"/>
                  <a:pt x="108" y="16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886200" y="31240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cubicBezTo>
                  <a:pt x="12" y="80"/>
                  <a:pt x="24" y="64"/>
                  <a:pt x="48" y="48"/>
                </a:cubicBezTo>
                <a:cubicBezTo>
                  <a:pt x="72" y="32"/>
                  <a:pt x="108" y="16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962520" y="320040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cubicBezTo>
                  <a:pt x="12" y="80"/>
                  <a:pt x="24" y="64"/>
                  <a:pt x="48" y="48"/>
                </a:cubicBezTo>
                <a:cubicBezTo>
                  <a:pt x="72" y="32"/>
                  <a:pt x="108" y="16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3124080"/>
            <a:ext cx="15264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cubicBezTo>
                  <a:pt x="16" y="16"/>
                  <a:pt x="32" y="32"/>
                  <a:pt x="48" y="48"/>
                </a:cubicBezTo>
                <a:cubicBezTo>
                  <a:pt x="64" y="64"/>
                  <a:pt x="80" y="80"/>
                  <a:pt x="96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86200" y="304812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cubicBezTo>
                  <a:pt x="16" y="16"/>
                  <a:pt x="32" y="32"/>
                  <a:pt x="48" y="48"/>
                </a:cubicBezTo>
                <a:cubicBezTo>
                  <a:pt x="64" y="64"/>
                  <a:pt x="80" y="80"/>
                  <a:pt x="96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038480" y="304812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cubicBezTo>
                  <a:pt x="16" y="16"/>
                  <a:pt x="32" y="32"/>
                  <a:pt x="48" y="48"/>
                </a:cubicBezTo>
                <a:cubicBezTo>
                  <a:pt x="64" y="64"/>
                  <a:pt x="80" y="80"/>
                  <a:pt x="96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962520" y="327672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cubicBezTo>
                  <a:pt x="16" y="16"/>
                  <a:pt x="32" y="32"/>
                  <a:pt x="48" y="48"/>
                </a:cubicBezTo>
                <a:cubicBezTo>
                  <a:pt x="64" y="64"/>
                  <a:pt x="80" y="80"/>
                  <a:pt x="96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352680" y="198108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56" y="48"/>
                  <a:pt x="112" y="96"/>
                  <a:pt x="144" y="144"/>
                </a:cubicBezTo>
                <a:cubicBezTo>
                  <a:pt x="176" y="192"/>
                  <a:pt x="152" y="240"/>
                  <a:pt x="192" y="288"/>
                </a:cubicBezTo>
                <a:cubicBezTo>
                  <a:pt x="232" y="336"/>
                  <a:pt x="352" y="392"/>
                  <a:pt x="384" y="432"/>
                </a:cubicBezTo>
                <a:cubicBezTo>
                  <a:pt x="416" y="472"/>
                  <a:pt x="376" y="496"/>
                  <a:pt x="384" y="528"/>
                </a:cubicBezTo>
                <a:cubicBezTo>
                  <a:pt x="392" y="560"/>
                  <a:pt x="412" y="592"/>
                  <a:pt x="432" y="6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457200" y="3580920"/>
            <a:ext cx="37339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276720" y="3276720"/>
            <a:ext cx="228600" cy="30456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429000" y="30481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192" y="0"/>
                </a:moveTo>
                <a:cubicBezTo>
                  <a:pt x="160" y="36"/>
                  <a:pt x="128" y="72"/>
                  <a:pt x="96" y="96"/>
                </a:cubicBezTo>
                <a:cubicBezTo>
                  <a:pt x="64" y="120"/>
                  <a:pt x="32" y="132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124080" y="3327480"/>
            <a:ext cx="152640" cy="10152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971800" y="3429000"/>
            <a:ext cx="1522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2971440" y="35053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048120" y="3505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895480" y="335268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104" y="288"/>
                </a:moveTo>
                <a:cubicBezTo>
                  <a:pt x="88" y="276"/>
                  <a:pt x="72" y="264"/>
                  <a:pt x="56" y="240"/>
                </a:cubicBezTo>
                <a:cubicBezTo>
                  <a:pt x="40" y="216"/>
                  <a:pt x="0" y="176"/>
                  <a:pt x="8" y="144"/>
                </a:cubicBezTo>
                <a:cubicBezTo>
                  <a:pt x="16" y="112"/>
                  <a:pt x="80" y="72"/>
                  <a:pt x="104" y="48"/>
                </a:cubicBezTo>
                <a:cubicBezTo>
                  <a:pt x="128" y="24"/>
                  <a:pt x="136" y="0"/>
                  <a:pt x="152" y="0"/>
                </a:cubicBezTo>
                <a:cubicBezTo>
                  <a:pt x="168" y="0"/>
                  <a:pt x="200" y="32"/>
                  <a:pt x="200" y="48"/>
                </a:cubicBezTo>
                <a:cubicBezTo>
                  <a:pt x="200" y="64"/>
                  <a:pt x="160" y="72"/>
                  <a:pt x="152" y="96"/>
                </a:cubicBezTo>
                <a:cubicBezTo>
                  <a:pt x="144" y="120"/>
                  <a:pt x="148" y="156"/>
                  <a:pt x="152" y="19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728400">
            <a:off x="6019560" y="3276360"/>
            <a:ext cx="60948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728400">
            <a:off x="6100920" y="3352680"/>
            <a:ext cx="457200" cy="1357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 flipV="1">
            <a:off x="617184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562720" y="457200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029200" y="2666880"/>
            <a:ext cx="1523880" cy="2286000"/>
          </a:xfrm>
          <a:custGeom>
            <a:avLst/>
            <a:gdLst/>
            <a:ahLst/>
            <a:rect l="l" t="t" r="r" b="b"/>
            <a:pathLst>
              <a:path w="768" h="1584">
                <a:moveTo>
                  <a:pt x="384" y="1344"/>
                </a:moveTo>
                <a:lnTo>
                  <a:pt x="144" y="1584"/>
                </a:lnTo>
                <a:lnTo>
                  <a:pt x="0" y="1536"/>
                </a:lnTo>
                <a:lnTo>
                  <a:pt x="0" y="528"/>
                </a:lnTo>
                <a:lnTo>
                  <a:pt x="48" y="432"/>
                </a:lnTo>
                <a:lnTo>
                  <a:pt x="624" y="0"/>
                </a:lnTo>
                <a:lnTo>
                  <a:pt x="768" y="48"/>
                </a:lnTo>
                <a:lnTo>
                  <a:pt x="768" y="48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876920" y="2590920"/>
            <a:ext cx="1447560" cy="2438280"/>
          </a:xfrm>
          <a:custGeom>
            <a:avLst/>
            <a:gdLst/>
            <a:ahLst/>
            <a:rect l="l" t="t" r="r" b="b"/>
            <a:pathLst>
              <a:path w="912" h="1536">
                <a:moveTo>
                  <a:pt x="912" y="48"/>
                </a:moveTo>
                <a:lnTo>
                  <a:pt x="816" y="0"/>
                </a:lnTo>
                <a:lnTo>
                  <a:pt x="96" y="384"/>
                </a:lnTo>
                <a:lnTo>
                  <a:pt x="0" y="528"/>
                </a:lnTo>
                <a:lnTo>
                  <a:pt x="0" y="1488"/>
                </a:lnTo>
                <a:lnTo>
                  <a:pt x="144" y="1536"/>
                </a:lnTo>
                <a:lnTo>
                  <a:pt x="288" y="1488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4876560" y="4876920"/>
            <a:ext cx="15228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81480" y="335268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248520" y="28195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181480" y="449568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419720" y="1905120"/>
            <a:ext cx="1904760" cy="3429000"/>
          </a:xfrm>
          <a:custGeom>
            <a:avLst/>
            <a:gdLst/>
            <a:ahLst/>
            <a:rect l="l" t="t" r="r" b="b"/>
            <a:pathLst>
              <a:path w="1152" h="2160">
                <a:moveTo>
                  <a:pt x="0" y="2160"/>
                </a:moveTo>
                <a:lnTo>
                  <a:pt x="0" y="672"/>
                </a:lnTo>
                <a:lnTo>
                  <a:pt x="1152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248520" y="29718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257800" y="3429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257800" y="46483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934320" y="5334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010280" y="4114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924680" y="36576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781680" y="3429000"/>
            <a:ext cx="1524240" cy="2286000"/>
          </a:xfrm>
          <a:custGeom>
            <a:avLst/>
            <a:gdLst/>
            <a:ahLst/>
            <a:rect l="l" t="t" r="r" b="b"/>
            <a:pathLst>
              <a:path w="768" h="1584">
                <a:moveTo>
                  <a:pt x="384" y="1344"/>
                </a:moveTo>
                <a:lnTo>
                  <a:pt x="144" y="1584"/>
                </a:lnTo>
                <a:lnTo>
                  <a:pt x="0" y="1536"/>
                </a:lnTo>
                <a:lnTo>
                  <a:pt x="0" y="528"/>
                </a:lnTo>
                <a:lnTo>
                  <a:pt x="48" y="432"/>
                </a:lnTo>
                <a:lnTo>
                  <a:pt x="624" y="0"/>
                </a:lnTo>
                <a:lnTo>
                  <a:pt x="768" y="48"/>
                </a:lnTo>
                <a:lnTo>
                  <a:pt x="768" y="48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rot="728400">
            <a:off x="7238880" y="3894120"/>
            <a:ext cx="682920" cy="13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4038480"/>
            <a:ext cx="762120" cy="129564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432" y="480"/>
                </a:lnTo>
                <a:lnTo>
                  <a:pt x="480" y="33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162920" y="449568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772400" y="388620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4495680"/>
            <a:ext cx="177840" cy="330480"/>
          </a:xfrm>
          <a:custGeom>
            <a:avLst/>
            <a:gdLst/>
            <a:ahLst/>
            <a:rect l="l" t="t" r="r" b="b"/>
            <a:pathLst>
              <a:path w="112" h="208">
                <a:moveTo>
                  <a:pt x="0" y="0"/>
                </a:moveTo>
                <a:cubicBezTo>
                  <a:pt x="40" y="32"/>
                  <a:pt x="80" y="64"/>
                  <a:pt x="96" y="96"/>
                </a:cubicBezTo>
                <a:cubicBezTo>
                  <a:pt x="112" y="128"/>
                  <a:pt x="112" y="176"/>
                  <a:pt x="96" y="192"/>
                </a:cubicBezTo>
                <a:cubicBezTo>
                  <a:pt x="80" y="208"/>
                  <a:pt x="16" y="184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759800" y="3886200"/>
            <a:ext cx="164880" cy="39384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8" y="0"/>
                </a:moveTo>
                <a:cubicBezTo>
                  <a:pt x="4" y="28"/>
                  <a:pt x="0" y="56"/>
                  <a:pt x="8" y="96"/>
                </a:cubicBezTo>
                <a:cubicBezTo>
                  <a:pt x="16" y="136"/>
                  <a:pt x="40" y="232"/>
                  <a:pt x="56" y="240"/>
                </a:cubicBezTo>
                <a:cubicBezTo>
                  <a:pt x="72" y="248"/>
                  <a:pt x="88" y="196"/>
                  <a:pt x="104" y="14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924680" y="4495680"/>
            <a:ext cx="330480" cy="304920"/>
          </a:xfrm>
          <a:custGeom>
            <a:avLst/>
            <a:gdLst/>
            <a:ahLst/>
            <a:rect l="l" t="t" r="r" b="b"/>
            <a:pathLst>
              <a:path w="208" h="192">
                <a:moveTo>
                  <a:pt x="0" y="0"/>
                </a:moveTo>
                <a:cubicBezTo>
                  <a:pt x="32" y="20"/>
                  <a:pt x="64" y="40"/>
                  <a:pt x="96" y="48"/>
                </a:cubicBezTo>
                <a:cubicBezTo>
                  <a:pt x="128" y="56"/>
                  <a:pt x="176" y="32"/>
                  <a:pt x="192" y="48"/>
                </a:cubicBezTo>
                <a:cubicBezTo>
                  <a:pt x="208" y="64"/>
                  <a:pt x="200" y="120"/>
                  <a:pt x="192" y="144"/>
                </a:cubicBezTo>
                <a:cubicBezTo>
                  <a:pt x="184" y="168"/>
                  <a:pt x="176" y="192"/>
                  <a:pt x="144" y="192"/>
                </a:cubicBezTo>
                <a:cubicBezTo>
                  <a:pt x="112" y="192"/>
                  <a:pt x="32" y="15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7467480" y="3657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7162560" y="38098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6857640" y="4038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6857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685800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7238880" y="45720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700992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7772400" y="35812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7724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772400" y="3962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92468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8076960" y="35053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8076960" y="4038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807696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8000640" y="4572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7924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467480" y="5153040"/>
            <a:ext cx="38124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48"/>
                </a:moveTo>
                <a:lnTo>
                  <a:pt x="96" y="144"/>
                </a:lnTo>
                <a:lnTo>
                  <a:pt x="240" y="96"/>
                </a:lnTo>
                <a:lnTo>
                  <a:pt x="144" y="0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7543440" y="5257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7543440" y="51814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7162560" y="52578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79246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7848360" y="38862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477120" y="3733920"/>
            <a:ext cx="304560" cy="15228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400800" y="4114800"/>
            <a:ext cx="304920" cy="15228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172200" y="4267080"/>
            <a:ext cx="304920" cy="15264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248520" y="3733920"/>
            <a:ext cx="304560" cy="15228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rot="1472400">
            <a:off x="7848360" y="5410080"/>
            <a:ext cx="228600" cy="3812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20120" y="53341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cubicBezTo>
                  <a:pt x="36" y="32"/>
                  <a:pt x="72" y="64"/>
                  <a:pt x="96" y="96"/>
                </a:cubicBezTo>
                <a:cubicBezTo>
                  <a:pt x="120" y="128"/>
                  <a:pt x="132" y="160"/>
                  <a:pt x="144" y="19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912080" y="5181480"/>
            <a:ext cx="88920" cy="304920"/>
          </a:xfrm>
          <a:custGeom>
            <a:avLst/>
            <a:gdLst/>
            <a:ahLst/>
            <a:rect l="l" t="t" r="r" b="b"/>
            <a:pathLst>
              <a:path w="56" h="192">
                <a:moveTo>
                  <a:pt x="8" y="192"/>
                </a:moveTo>
                <a:cubicBezTo>
                  <a:pt x="4" y="160"/>
                  <a:pt x="0" y="128"/>
                  <a:pt x="8" y="96"/>
                </a:cubicBezTo>
                <a:cubicBezTo>
                  <a:pt x="16" y="64"/>
                  <a:pt x="36" y="32"/>
                  <a:pt x="56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rot="1472400">
            <a:off x="8305560" y="4724280"/>
            <a:ext cx="228600" cy="3812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rot="1472400">
            <a:off x="8076960" y="3809880"/>
            <a:ext cx="228600" cy="3812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rot="1472400">
            <a:off x="7391160" y="4191120"/>
            <a:ext cx="228600" cy="380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302600" y="4419720"/>
            <a:ext cx="88920" cy="304560"/>
          </a:xfrm>
          <a:custGeom>
            <a:avLst/>
            <a:gdLst/>
            <a:ahLst/>
            <a:rect l="l" t="t" r="r" b="b"/>
            <a:pathLst>
              <a:path w="56" h="192">
                <a:moveTo>
                  <a:pt x="56" y="0"/>
                </a:moveTo>
                <a:cubicBezTo>
                  <a:pt x="36" y="8"/>
                  <a:pt x="16" y="16"/>
                  <a:pt x="8" y="48"/>
                </a:cubicBezTo>
                <a:cubicBezTo>
                  <a:pt x="0" y="80"/>
                  <a:pt x="4" y="136"/>
                  <a:pt x="8" y="19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454880" y="411480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8" y="96"/>
                </a:moveTo>
                <a:cubicBezTo>
                  <a:pt x="4" y="56"/>
                  <a:pt x="0" y="16"/>
                  <a:pt x="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772400" y="4038480"/>
            <a:ext cx="30492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192" y="48"/>
                </a:moveTo>
                <a:cubicBezTo>
                  <a:pt x="160" y="24"/>
                  <a:pt x="128" y="0"/>
                  <a:pt x="96" y="0"/>
                </a:cubicBezTo>
                <a:cubicBezTo>
                  <a:pt x="64" y="0"/>
                  <a:pt x="32" y="24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128080" y="37083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6" y="112"/>
                </a:moveTo>
                <a:cubicBezTo>
                  <a:pt x="8" y="72"/>
                  <a:pt x="0" y="32"/>
                  <a:pt x="16" y="16"/>
                </a:cubicBezTo>
                <a:cubicBezTo>
                  <a:pt x="32" y="0"/>
                  <a:pt x="72" y="8"/>
                  <a:pt x="112" y="16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8077320" y="4724280"/>
            <a:ext cx="228600" cy="266760"/>
          </a:xfrm>
          <a:custGeom>
            <a:avLst/>
            <a:gdLst/>
            <a:ahLst/>
            <a:rect l="l" t="t" r="r" b="b"/>
            <a:pathLst>
              <a:path w="144" h="168">
                <a:moveTo>
                  <a:pt x="144" y="144"/>
                </a:moveTo>
                <a:cubicBezTo>
                  <a:pt x="108" y="156"/>
                  <a:pt x="72" y="168"/>
                  <a:pt x="48" y="144"/>
                </a:cubicBezTo>
                <a:cubicBezTo>
                  <a:pt x="24" y="120"/>
                  <a:pt x="12" y="6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8356680" y="4572000"/>
            <a:ext cx="177840" cy="22860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16" y="144"/>
                </a:moveTo>
                <a:cubicBezTo>
                  <a:pt x="8" y="108"/>
                  <a:pt x="0" y="72"/>
                  <a:pt x="16" y="48"/>
                </a:cubicBezTo>
                <a:cubicBezTo>
                  <a:pt x="32" y="24"/>
                  <a:pt x="72" y="12"/>
                  <a:pt x="11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066680" y="5943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容量适当的瓷片电容或独石电容，引线尽量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缆滤波的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4648320"/>
            <a:ext cx="228600" cy="53316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533160"/>
              <a:gd name="textAreaBottom" fmla="*/ 522000 h 533160"/>
            </a:gdLst>
            <a:ahLst/>
            <a:rect l="textAreaLeft" t="textAreaTop" r="textAreaRight" b="textAreaBottom"/>
            <a:pathLst>
              <a:path w="21600" h="50332">
                <a:moveTo>
                  <a:pt x="3600" y="0"/>
                </a:moveTo>
                <a:arcTo wR="3600" hR="3600" stAng="16200000" swAng="-5400000"/>
                <a:lnTo>
                  <a:pt x="0" y="46732"/>
                </a:lnTo>
                <a:arcTo wR="3600" hR="3600" stAng="10800000" swAng="-5400000"/>
                <a:lnTo>
                  <a:pt x="18000" y="50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86600" y="4419720"/>
            <a:ext cx="228600" cy="99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162920" y="3581280"/>
            <a:ext cx="152280" cy="533520"/>
          </a:xfrm>
          <a:prstGeom prst="ellipse">
            <a:avLst/>
          </a:prstGeom>
          <a:solidFill>
            <a:srgbClr val="b12a05"/>
          </a:solidFill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162920" y="5410080"/>
            <a:ext cx="152280" cy="533520"/>
          </a:xfrm>
          <a:prstGeom prst="ellipse">
            <a:avLst/>
          </a:prstGeom>
          <a:solidFill>
            <a:srgbClr val="b12a05"/>
          </a:solidFill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324480" y="3809880"/>
            <a:ext cx="838440" cy="2133720"/>
          </a:xfrm>
          <a:custGeom>
            <a:avLst/>
            <a:gdLst/>
            <a:ahLst/>
            <a:rect l="l" t="t" r="r" b="b"/>
            <a:pathLst>
              <a:path w="528" h="1248">
                <a:moveTo>
                  <a:pt x="528" y="0"/>
                </a:moveTo>
                <a:lnTo>
                  <a:pt x="528" y="144"/>
                </a:lnTo>
                <a:lnTo>
                  <a:pt x="0" y="144"/>
                </a:lnTo>
                <a:lnTo>
                  <a:pt x="0" y="1056"/>
                </a:lnTo>
                <a:lnTo>
                  <a:pt x="528" y="1056"/>
                </a:lnTo>
                <a:lnTo>
                  <a:pt x="528" y="1248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324480" y="4191120"/>
            <a:ext cx="763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248520" y="4267080"/>
            <a:ext cx="7596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324480" y="4495680"/>
            <a:ext cx="763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324480" y="4876920"/>
            <a:ext cx="763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324480" y="5257800"/>
            <a:ext cx="763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248520" y="4572000"/>
            <a:ext cx="7596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248520" y="4952880"/>
            <a:ext cx="7596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48520" y="5334120"/>
            <a:ext cx="7596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019920" y="46101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362640" y="4629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076800" y="4305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324480" y="4305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039000" y="4991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400800" y="4991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076800" y="5372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62640" y="5372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477120" y="4267080"/>
            <a:ext cx="685800" cy="419400"/>
          </a:xfrm>
          <a:custGeom>
            <a:avLst/>
            <a:gdLst/>
            <a:ahLst/>
            <a:rect l="l" t="t" r="r" b="b"/>
            <a:pathLst>
              <a:path w="432" h="264">
                <a:moveTo>
                  <a:pt x="0" y="0"/>
                </a:moveTo>
                <a:cubicBezTo>
                  <a:pt x="76" y="28"/>
                  <a:pt x="152" y="56"/>
                  <a:pt x="192" y="96"/>
                </a:cubicBezTo>
                <a:cubicBezTo>
                  <a:pt x="232" y="136"/>
                  <a:pt x="200" y="216"/>
                  <a:pt x="240" y="240"/>
                </a:cubicBezTo>
                <a:cubicBezTo>
                  <a:pt x="280" y="264"/>
                  <a:pt x="356" y="252"/>
                  <a:pt x="432" y="24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553080" y="4648320"/>
            <a:ext cx="53352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0" y="0"/>
                </a:moveTo>
                <a:cubicBezTo>
                  <a:pt x="44" y="60"/>
                  <a:pt x="88" y="120"/>
                  <a:pt x="144" y="144"/>
                </a:cubicBezTo>
                <a:cubicBezTo>
                  <a:pt x="200" y="168"/>
                  <a:pt x="268" y="156"/>
                  <a:pt x="336" y="14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29400" y="4952880"/>
            <a:ext cx="457200" cy="241560"/>
          </a:xfrm>
          <a:custGeom>
            <a:avLst/>
            <a:gdLst/>
            <a:ahLst/>
            <a:rect l="l" t="t" r="r" b="b"/>
            <a:pathLst>
              <a:path w="288" h="152">
                <a:moveTo>
                  <a:pt x="0" y="0"/>
                </a:moveTo>
                <a:cubicBezTo>
                  <a:pt x="24" y="68"/>
                  <a:pt x="48" y="136"/>
                  <a:pt x="96" y="144"/>
                </a:cubicBezTo>
                <a:cubicBezTo>
                  <a:pt x="144" y="152"/>
                  <a:pt x="216" y="100"/>
                  <a:pt x="288" y="4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553080" y="5181480"/>
            <a:ext cx="533520" cy="254160"/>
          </a:xfrm>
          <a:custGeom>
            <a:avLst/>
            <a:gdLst/>
            <a:ahLst/>
            <a:rect l="l" t="t" r="r" b="b"/>
            <a:pathLst>
              <a:path w="336" h="160">
                <a:moveTo>
                  <a:pt x="0" y="96"/>
                </a:moveTo>
                <a:cubicBezTo>
                  <a:pt x="44" y="128"/>
                  <a:pt x="88" y="160"/>
                  <a:pt x="144" y="144"/>
                </a:cubicBezTo>
                <a:cubicBezTo>
                  <a:pt x="200" y="128"/>
                  <a:pt x="268" y="64"/>
                  <a:pt x="336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320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屏蔽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715000" y="3429000"/>
            <a:ext cx="6858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0532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馈通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5181480" y="472392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77240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连接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7467120" y="3809880"/>
            <a:ext cx="7621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5320" y="3352680"/>
            <a:ext cx="3809880" cy="2971800"/>
          </a:xfrm>
          <a:custGeom>
            <a:avLst/>
            <a:gdLst/>
            <a:ahLst/>
            <a:rect l="l" t="t" r="r" b="b"/>
            <a:pathLst>
              <a:path w="2400" h="1872">
                <a:moveTo>
                  <a:pt x="2400" y="0"/>
                </a:moveTo>
                <a:lnTo>
                  <a:pt x="2400" y="1872"/>
                </a:lnTo>
                <a:lnTo>
                  <a:pt x="0" y="1872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38080" y="2514600"/>
            <a:ext cx="17528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滤波连接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虽然是最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选择，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当空间允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时，也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这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缆是主要辐射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200400" cy="2235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800600" y="4106880"/>
            <a:ext cx="3352680" cy="2293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752480" y="1981080"/>
            <a:ext cx="5715000" cy="19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522440" y="693360"/>
            <a:ext cx="685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面板安装滤波器注意事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"/>
          <p:cNvSpPr/>
          <p:nvPr/>
        </p:nvSpPr>
        <p:spPr>
          <a:xfrm>
            <a:off x="5791320" y="5410080"/>
            <a:ext cx="2286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791320" y="3657600"/>
            <a:ext cx="228600" cy="533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638680" y="4267080"/>
            <a:ext cx="114300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876920" y="3657600"/>
            <a:ext cx="91440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6071600">
            <a:off x="6514920" y="3542760"/>
            <a:ext cx="60948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9480" y="2743200"/>
            <a:ext cx="281952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滤波器与面板之间必须使用电磁密封衬垫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6019920" y="2590920"/>
            <a:ext cx="380880" cy="1600200"/>
            <a:chOff x="6019920" y="2590920"/>
            <a:chExt cx="380880" cy="1600200"/>
          </a:xfrm>
        </p:grpSpPr>
        <p:sp>
          <p:nvSpPr>
            <p:cNvPr id="1614" name=""/>
            <p:cNvSpPr/>
            <p:nvPr/>
          </p:nvSpPr>
          <p:spPr>
            <a:xfrm>
              <a:off x="6019920" y="2667240"/>
              <a:ext cx="380880" cy="1523880"/>
            </a:xfrm>
            <a:custGeom>
              <a:avLst/>
              <a:gdLst/>
              <a:ahLst/>
              <a:rect l="l" t="t" r="r" b="b"/>
              <a:pathLst>
                <a:path w="96" h="528">
                  <a:moveTo>
                    <a:pt x="0" y="48"/>
                  </a:moveTo>
                  <a:lnTo>
                    <a:pt x="0" y="528"/>
                  </a:lnTo>
                  <a:lnTo>
                    <a:pt x="96" y="528"/>
                  </a:lnTo>
                  <a:lnTo>
                    <a:pt x="9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19920" y="2590920"/>
              <a:ext cx="380880" cy="24156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0" y="152"/>
                  </a:moveTo>
                  <a:cubicBezTo>
                    <a:pt x="12" y="132"/>
                    <a:pt x="24" y="112"/>
                    <a:pt x="48" y="104"/>
                  </a:cubicBezTo>
                  <a:cubicBezTo>
                    <a:pt x="72" y="96"/>
                    <a:pt x="120" y="120"/>
                    <a:pt x="144" y="104"/>
                  </a:cubicBezTo>
                  <a:cubicBezTo>
                    <a:pt x="168" y="88"/>
                    <a:pt x="176" y="16"/>
                    <a:pt x="192" y="8"/>
                  </a:cubicBezTo>
                  <a:cubicBezTo>
                    <a:pt x="208" y="0"/>
                    <a:pt x="224" y="28"/>
                    <a:pt x="240" y="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6019920" y="5384880"/>
            <a:ext cx="380880" cy="863640"/>
            <a:chOff x="6019920" y="5384880"/>
            <a:chExt cx="380880" cy="863640"/>
          </a:xfrm>
        </p:grpSpPr>
        <p:sp>
          <p:nvSpPr>
            <p:cNvPr id="1617" name=""/>
            <p:cNvSpPr/>
            <p:nvPr/>
          </p:nvSpPr>
          <p:spPr>
            <a:xfrm flipV="1">
              <a:off x="6019920" y="5384880"/>
              <a:ext cx="380880" cy="838080"/>
            </a:xfrm>
            <a:custGeom>
              <a:avLst/>
              <a:gdLst/>
              <a:ahLst/>
              <a:rect l="l" t="t" r="r" b="b"/>
              <a:pathLst>
                <a:path w="96" h="528">
                  <a:moveTo>
                    <a:pt x="0" y="48"/>
                  </a:moveTo>
                  <a:lnTo>
                    <a:pt x="0" y="528"/>
                  </a:lnTo>
                  <a:lnTo>
                    <a:pt x="96" y="528"/>
                  </a:lnTo>
                  <a:lnTo>
                    <a:pt x="9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19920" y="6057720"/>
              <a:ext cx="380880" cy="190800"/>
            </a:xfrm>
            <a:custGeom>
              <a:avLst/>
              <a:gdLst/>
              <a:ahLst/>
              <a:rect l="l" t="t" r="r" b="b"/>
              <a:pathLst>
                <a:path w="240" h="120">
                  <a:moveTo>
                    <a:pt x="0" y="56"/>
                  </a:moveTo>
                  <a:cubicBezTo>
                    <a:pt x="36" y="28"/>
                    <a:pt x="72" y="0"/>
                    <a:pt x="96" y="8"/>
                  </a:cubicBezTo>
                  <a:cubicBezTo>
                    <a:pt x="120" y="16"/>
                    <a:pt x="120" y="88"/>
                    <a:pt x="144" y="104"/>
                  </a:cubicBezTo>
                  <a:cubicBezTo>
                    <a:pt x="168" y="120"/>
                    <a:pt x="204" y="112"/>
                    <a:pt x="240" y="1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457200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5720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572000" y="4876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5720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72000" y="5486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257800" y="41148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257800" y="41911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876920" y="4572000"/>
            <a:ext cx="1752480" cy="0"/>
          </a:xfrm>
          <a:prstGeom prst="line">
            <a:avLst/>
          </a:prstGeom>
          <a:ln w="28440">
            <a:solidFill>
              <a:srgbClr val="b12a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34120" y="3657600"/>
            <a:ext cx="0" cy="4572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334120" y="419112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952880" y="3124080"/>
            <a:ext cx="1003320" cy="1397160"/>
          </a:xfrm>
          <a:custGeom>
            <a:avLst/>
            <a:gdLst/>
            <a:ahLst/>
            <a:rect l="l" t="t" r="r" b="b"/>
            <a:pathLst>
              <a:path w="632" h="880">
                <a:moveTo>
                  <a:pt x="0" y="864"/>
                </a:moveTo>
                <a:cubicBezTo>
                  <a:pt x="92" y="872"/>
                  <a:pt x="184" y="880"/>
                  <a:pt x="240" y="864"/>
                </a:cubicBezTo>
                <a:cubicBezTo>
                  <a:pt x="296" y="848"/>
                  <a:pt x="320" y="824"/>
                  <a:pt x="336" y="768"/>
                </a:cubicBezTo>
                <a:cubicBezTo>
                  <a:pt x="352" y="712"/>
                  <a:pt x="328" y="584"/>
                  <a:pt x="336" y="528"/>
                </a:cubicBezTo>
                <a:cubicBezTo>
                  <a:pt x="344" y="472"/>
                  <a:pt x="360" y="440"/>
                  <a:pt x="384" y="432"/>
                </a:cubicBezTo>
                <a:cubicBezTo>
                  <a:pt x="408" y="424"/>
                  <a:pt x="448" y="464"/>
                  <a:pt x="480" y="480"/>
                </a:cubicBezTo>
                <a:cubicBezTo>
                  <a:pt x="512" y="496"/>
                  <a:pt x="552" y="552"/>
                  <a:pt x="576" y="528"/>
                </a:cubicBezTo>
                <a:cubicBezTo>
                  <a:pt x="600" y="504"/>
                  <a:pt x="616" y="424"/>
                  <a:pt x="624" y="336"/>
                </a:cubicBezTo>
                <a:cubicBezTo>
                  <a:pt x="632" y="248"/>
                  <a:pt x="628" y="124"/>
                  <a:pt x="62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19520" y="4533840"/>
            <a:ext cx="1828800" cy="723960"/>
          </a:xfrm>
          <a:custGeom>
            <a:avLst/>
            <a:gdLst/>
            <a:ahLst/>
            <a:rect l="l" t="t" r="r" b="b"/>
            <a:pathLst>
              <a:path w="1152" h="456">
                <a:moveTo>
                  <a:pt x="0" y="456"/>
                </a:moveTo>
                <a:cubicBezTo>
                  <a:pt x="124" y="336"/>
                  <a:pt x="248" y="216"/>
                  <a:pt x="384" y="168"/>
                </a:cubicBezTo>
                <a:cubicBezTo>
                  <a:pt x="520" y="120"/>
                  <a:pt x="704" y="192"/>
                  <a:pt x="816" y="168"/>
                </a:cubicBezTo>
                <a:cubicBezTo>
                  <a:pt x="928" y="144"/>
                  <a:pt x="1000" y="48"/>
                  <a:pt x="1056" y="24"/>
                </a:cubicBezTo>
                <a:cubicBezTo>
                  <a:pt x="1112" y="0"/>
                  <a:pt x="1132" y="12"/>
                  <a:pt x="1152" y="2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505320" y="4343400"/>
            <a:ext cx="457200" cy="30492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lnTo>
                  <a:pt x="96" y="192"/>
                </a:lnTo>
                <a:lnTo>
                  <a:pt x="144" y="0"/>
                </a:lnTo>
                <a:lnTo>
                  <a:pt x="192" y="192"/>
                </a:lnTo>
                <a:lnTo>
                  <a:pt x="240" y="144"/>
                </a:lnTo>
                <a:lnTo>
                  <a:pt x="288" y="192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81280" y="48006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1221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</a:t>
            </a:r>
            <a:r>
              <a:rPr b="0" lang="zh-CN" sz="4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形滤波器的注意事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4" name=""/>
          <p:cNvSpPr/>
          <p:nvPr/>
        </p:nvSpPr>
        <p:spPr>
          <a:xfrm>
            <a:off x="1752480" y="3124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371600" y="5181480"/>
            <a:ext cx="5410080" cy="76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2743200"/>
            <a:ext cx="304812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276720" y="2971800"/>
            <a:ext cx="15228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429000" y="2971800"/>
            <a:ext cx="15228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581280" y="2971800"/>
            <a:ext cx="15264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733920" y="2971800"/>
            <a:ext cx="15228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886200" y="2971800"/>
            <a:ext cx="15228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048120" y="3200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038480" y="31240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514600" y="3429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51460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666880" y="3124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666880" y="3505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34340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495680" y="3505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05320" y="4267080"/>
            <a:ext cx="152280" cy="609840"/>
          </a:xfrm>
          <a:prstGeom prst="rect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581280" y="4876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76520" y="3162240"/>
            <a:ext cx="3276360" cy="838440"/>
          </a:xfrm>
          <a:custGeom>
            <a:avLst/>
            <a:gdLst/>
            <a:ahLst/>
            <a:rect l="l" t="t" r="r" b="b"/>
            <a:pathLst>
              <a:path w="2064" h="528">
                <a:moveTo>
                  <a:pt x="0" y="24"/>
                </a:moveTo>
                <a:cubicBezTo>
                  <a:pt x="248" y="20"/>
                  <a:pt x="496" y="16"/>
                  <a:pt x="624" y="24"/>
                </a:cubicBezTo>
                <a:cubicBezTo>
                  <a:pt x="752" y="32"/>
                  <a:pt x="744" y="8"/>
                  <a:pt x="768" y="72"/>
                </a:cubicBezTo>
                <a:cubicBezTo>
                  <a:pt x="792" y="136"/>
                  <a:pt x="752" y="336"/>
                  <a:pt x="768" y="408"/>
                </a:cubicBezTo>
                <a:cubicBezTo>
                  <a:pt x="784" y="480"/>
                  <a:pt x="744" y="488"/>
                  <a:pt x="864" y="504"/>
                </a:cubicBezTo>
                <a:cubicBezTo>
                  <a:pt x="984" y="520"/>
                  <a:pt x="1360" y="512"/>
                  <a:pt x="1488" y="504"/>
                </a:cubicBezTo>
                <a:cubicBezTo>
                  <a:pt x="1616" y="496"/>
                  <a:pt x="1608" y="528"/>
                  <a:pt x="1632" y="456"/>
                </a:cubicBezTo>
                <a:cubicBezTo>
                  <a:pt x="1656" y="384"/>
                  <a:pt x="1624" y="144"/>
                  <a:pt x="1632" y="72"/>
                </a:cubicBezTo>
                <a:cubicBezTo>
                  <a:pt x="1640" y="0"/>
                  <a:pt x="1608" y="32"/>
                  <a:pt x="1680" y="24"/>
                </a:cubicBezTo>
                <a:cubicBezTo>
                  <a:pt x="1752" y="16"/>
                  <a:pt x="1908" y="20"/>
                  <a:pt x="2064" y="24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191120" y="4467240"/>
            <a:ext cx="2057400" cy="39888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滤波器接地阻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752480" y="3314880"/>
            <a:ext cx="1600200" cy="1485720"/>
          </a:xfrm>
          <a:custGeom>
            <a:avLst/>
            <a:gdLst/>
            <a:ahLst/>
            <a:rect l="l" t="t" r="r" b="b"/>
            <a:pathLst>
              <a:path w="1008" h="936">
                <a:moveTo>
                  <a:pt x="0" y="24"/>
                </a:moveTo>
                <a:cubicBezTo>
                  <a:pt x="132" y="12"/>
                  <a:pt x="264" y="0"/>
                  <a:pt x="336" y="24"/>
                </a:cubicBezTo>
                <a:cubicBezTo>
                  <a:pt x="408" y="48"/>
                  <a:pt x="408" y="96"/>
                  <a:pt x="432" y="168"/>
                </a:cubicBezTo>
                <a:cubicBezTo>
                  <a:pt x="456" y="240"/>
                  <a:pt x="456" y="392"/>
                  <a:pt x="480" y="456"/>
                </a:cubicBezTo>
                <a:cubicBezTo>
                  <a:pt x="504" y="520"/>
                  <a:pt x="504" y="528"/>
                  <a:pt x="576" y="552"/>
                </a:cubicBezTo>
                <a:cubicBezTo>
                  <a:pt x="648" y="576"/>
                  <a:pt x="840" y="536"/>
                  <a:pt x="912" y="600"/>
                </a:cubicBezTo>
                <a:cubicBezTo>
                  <a:pt x="984" y="664"/>
                  <a:pt x="996" y="800"/>
                  <a:pt x="1008" y="936"/>
                </a:cubicBezTo>
              </a:path>
            </a:pathLst>
          </a:custGeom>
          <a:noFill/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09880" y="3263760"/>
            <a:ext cx="1752840" cy="1613160"/>
          </a:xfrm>
          <a:custGeom>
            <a:avLst/>
            <a:gdLst/>
            <a:ahLst/>
            <a:rect l="l" t="t" r="r" b="b"/>
            <a:pathLst>
              <a:path w="1104" h="1016">
                <a:moveTo>
                  <a:pt x="1104" y="8"/>
                </a:moveTo>
                <a:cubicBezTo>
                  <a:pt x="976" y="4"/>
                  <a:pt x="848" y="0"/>
                  <a:pt x="768" y="56"/>
                </a:cubicBezTo>
                <a:cubicBezTo>
                  <a:pt x="688" y="112"/>
                  <a:pt x="672" y="256"/>
                  <a:pt x="624" y="344"/>
                </a:cubicBezTo>
                <a:cubicBezTo>
                  <a:pt x="576" y="432"/>
                  <a:pt x="560" y="536"/>
                  <a:pt x="480" y="584"/>
                </a:cubicBezTo>
                <a:cubicBezTo>
                  <a:pt x="400" y="632"/>
                  <a:pt x="224" y="560"/>
                  <a:pt x="144" y="632"/>
                </a:cubicBezTo>
                <a:cubicBezTo>
                  <a:pt x="64" y="704"/>
                  <a:pt x="32" y="860"/>
                  <a:pt x="0" y="1016"/>
                </a:cubicBezTo>
              </a:path>
            </a:pathLst>
          </a:custGeom>
          <a:noFill/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2280" y="4546440"/>
            <a:ext cx="2286000" cy="398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ahoma"/>
              </a:rPr>
              <a:t>预期干扰电流路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133720" y="4266720"/>
            <a:ext cx="609480" cy="2286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09480" y="2209680"/>
            <a:ext cx="2438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实际干扰电流路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666880" y="2590920"/>
            <a:ext cx="1447920" cy="1218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477120" y="2666880"/>
            <a:ext cx="2361960" cy="825480"/>
          </a:xfrm>
          <a:prstGeom prst="rect">
            <a:avLst/>
          </a:prstGeom>
          <a:noFill/>
          <a:ln w="93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a05"/>
                </a:solidFill>
                <a:latin typeface="Tahoma"/>
              </a:rPr>
              <a:t>对接地没有把握时，避免使用</a:t>
            </a:r>
            <a:r>
              <a:rPr b="1" lang="zh-CN" sz="2400" spc="-1" strike="noStrike">
                <a:solidFill>
                  <a:srgbClr val="b12a05"/>
                </a:solidFill>
                <a:latin typeface="Symbol"/>
                <a:ea typeface="Symbol"/>
              </a:rPr>
              <a:t></a:t>
            </a:r>
            <a:r>
              <a:rPr b="1" lang="zh-CN" sz="2400" spc="-1" strike="noStrike">
                <a:solidFill>
                  <a:srgbClr val="b12a05"/>
                </a:solidFill>
                <a:latin typeface="Tahoma"/>
              </a:rPr>
              <a:t>形滤波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19280" y="921960"/>
            <a:ext cx="685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源线滤波器的基本电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5" name=""/>
          <p:cNvSpPr/>
          <p:nvPr/>
        </p:nvSpPr>
        <p:spPr>
          <a:xfrm>
            <a:off x="1523880" y="34290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743200" y="327672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895480" y="3276720"/>
            <a:ext cx="1526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8120" y="327672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27672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352680" y="3276720"/>
            <a:ext cx="1526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505320" y="327672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657600" y="327672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590920" y="350532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09880" y="3429000"/>
            <a:ext cx="33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715000" y="3429000"/>
            <a:ext cx="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562720" y="3733920"/>
            <a:ext cx="304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562720" y="3809880"/>
            <a:ext cx="304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715000" y="3809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562720" y="4419720"/>
            <a:ext cx="304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562720" y="4495680"/>
            <a:ext cx="304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523880" y="4800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809880" y="48006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743200" y="457200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895480" y="4572000"/>
            <a:ext cx="1526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048120" y="457200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200400" y="457200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352680" y="4572000"/>
            <a:ext cx="1526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05320" y="457200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657600" y="457200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590920" y="426708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895480" y="3733920"/>
            <a:ext cx="685800" cy="761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828800" y="403848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828800" y="411480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981080" y="3429000"/>
            <a:ext cx="0" cy="60948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17220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24852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324480" y="44956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514600" y="2971800"/>
            <a:ext cx="1523880" cy="2209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2057400"/>
            <a:ext cx="1600200" cy="457200"/>
          </a:xfrm>
          <a:prstGeom prst="wedgeRoundRectCallout">
            <a:avLst>
              <a:gd name="adj1" fmla="val -41962"/>
              <a:gd name="adj2" fmla="val 150000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共模扼流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04920" y="2209680"/>
            <a:ext cx="1447560" cy="457200"/>
          </a:xfrm>
          <a:prstGeom prst="wedgeRoundRectCallout">
            <a:avLst>
              <a:gd name="adj1" fmla="val 55481"/>
              <a:gd name="adj2" fmla="val 334375"/>
              <a:gd name="adj3" fmla="val 16667"/>
            </a:avLst>
          </a:prstGeom>
          <a:noFill/>
          <a:ln w="2844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12a05"/>
                </a:solidFill>
                <a:latin typeface="Times New Roman"/>
              </a:rPr>
              <a:t>差模电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6553080" y="2743200"/>
            <a:ext cx="1295640" cy="380880"/>
          </a:xfrm>
          <a:prstGeom prst="wedgeRoundRectCallout">
            <a:avLst>
              <a:gd name="adj1" fmla="val -88606"/>
              <a:gd name="adj2" fmla="val -216666"/>
              <a:gd name="adj3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共模电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715000" y="4038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876920" y="3429000"/>
            <a:ext cx="0" cy="53352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724280" y="396252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724280" y="403848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876920" y="4038480"/>
            <a:ext cx="0" cy="76212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334120" y="3505320"/>
            <a:ext cx="838080" cy="114300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5486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共模滤波电容受到漏电流的限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注意滤波器的高频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1714" name="" descr=""/>
          <p:cNvPicPr/>
          <p:nvPr/>
        </p:nvPicPr>
        <p:blipFill>
          <a:blip r:embed="rId2"/>
          <a:srcRect l="0" t="2699" r="0" b="0"/>
          <a:stretch/>
        </p:blipFill>
        <p:spPr>
          <a:xfrm>
            <a:off x="762120" y="3962520"/>
            <a:ext cx="678168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高频滤波性能的重要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6" name="高频滤波性能的重要性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1717" name=""/>
          <p:cNvSpPr/>
          <p:nvPr/>
        </p:nvSpPr>
        <p:spPr>
          <a:xfrm>
            <a:off x="5181480" y="3962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滤波器高频性能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181480" y="64008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滤波器高频性能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914400" y="52578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无滤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37124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改善滤波器高频特性的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1" name=""/>
          <p:cNvSpPr/>
          <p:nvPr/>
        </p:nvSpPr>
        <p:spPr>
          <a:xfrm>
            <a:off x="3171960" y="34290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390920" y="3276720"/>
            <a:ext cx="1526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543560" y="327672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695840" y="3276720"/>
            <a:ext cx="1522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238640" y="350532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848120" y="34290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43760" y="342900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991120" y="35812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991120" y="365760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143760" y="3657600"/>
            <a:ext cx="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991120" y="396252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991120" y="40384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143760" y="40384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7196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848120" y="42670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390920" y="4038480"/>
            <a:ext cx="1526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43560" y="4038480"/>
            <a:ext cx="1522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95840" y="4038480"/>
            <a:ext cx="1522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238640" y="396252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314960" y="3581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76520" y="373392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476520" y="380988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629160" y="3429000"/>
            <a:ext cx="0" cy="30492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629160" y="3809880"/>
            <a:ext cx="0" cy="38124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524640" y="3809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29604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372360" y="4495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48320" y="45720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162320" y="3048120"/>
            <a:ext cx="838440" cy="152388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14376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533920" y="3429000"/>
            <a:ext cx="0" cy="38088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381640" y="380988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381640" y="3886200"/>
            <a:ext cx="304920" cy="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533920" y="3886200"/>
            <a:ext cx="0" cy="380880"/>
          </a:xfrm>
          <a:prstGeom prst="line">
            <a:avLst/>
          </a:prstGeom>
          <a:ln w="3816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838840" y="3200400"/>
            <a:ext cx="533520" cy="129528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40080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4572000" y="5181480"/>
            <a:ext cx="3733920" cy="1295640"/>
            <a:chOff x="4572000" y="5181480"/>
            <a:chExt cx="3733920" cy="1295640"/>
          </a:xfrm>
        </p:grpSpPr>
        <p:sp>
          <p:nvSpPr>
            <p:cNvPr id="1758" name=""/>
            <p:cNvSpPr/>
            <p:nvPr/>
          </p:nvSpPr>
          <p:spPr>
            <a:xfrm>
              <a:off x="5700600" y="559044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00600" y="565884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00600" y="606780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00600" y="599940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361120" y="5385960"/>
              <a:ext cx="474840" cy="2044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lnTo>
                    <a:pt x="240" y="0"/>
                  </a:lnTo>
                  <a:lnTo>
                    <a:pt x="336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836320" y="5385960"/>
              <a:ext cx="475200" cy="2044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lnTo>
                    <a:pt x="240" y="0"/>
                  </a:lnTo>
                  <a:lnTo>
                    <a:pt x="336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361120" y="6067800"/>
              <a:ext cx="474840" cy="2044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lnTo>
                    <a:pt x="240" y="0"/>
                  </a:lnTo>
                  <a:lnTo>
                    <a:pt x="336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5836320" y="6067800"/>
              <a:ext cx="475200" cy="2044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lnTo>
                    <a:pt x="240" y="0"/>
                  </a:lnTo>
                  <a:lnTo>
                    <a:pt x="336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836320" y="5658840"/>
              <a:ext cx="0" cy="340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836320" y="5794920"/>
              <a:ext cx="407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329960" y="572688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126200" y="5658840"/>
              <a:ext cx="814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126200" y="6067800"/>
              <a:ext cx="814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465320" y="5726880"/>
              <a:ext cx="0" cy="272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329960" y="559044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329960" y="599940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329960" y="6136200"/>
              <a:ext cx="27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465320" y="5863320"/>
              <a:ext cx="407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572000" y="5181480"/>
              <a:ext cx="3733920" cy="12956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7" name=""/>
          <p:cNvSpPr/>
          <p:nvPr/>
        </p:nvSpPr>
        <p:spPr>
          <a:xfrm flipH="1" flipV="1">
            <a:off x="6143400" y="4495320"/>
            <a:ext cx="15228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162320" y="2057400"/>
            <a:ext cx="3152880" cy="3988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精心绕制或多个电感串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4695840" y="2590920"/>
            <a:ext cx="866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1828800" y="5029200"/>
            <a:ext cx="2362320" cy="1371600"/>
            <a:chOff x="1828800" y="5029200"/>
            <a:chExt cx="2362320" cy="1371600"/>
          </a:xfrm>
        </p:grpSpPr>
        <p:sp>
          <p:nvSpPr>
            <p:cNvPr id="1781" name=""/>
            <p:cNvSpPr/>
            <p:nvPr/>
          </p:nvSpPr>
          <p:spPr>
            <a:xfrm>
              <a:off x="2895480" y="5638680"/>
              <a:ext cx="304920" cy="0"/>
            </a:xfrm>
            <a:prstGeom prst="line">
              <a:avLst/>
            </a:prstGeom>
            <a:ln w="28440">
              <a:solidFill>
                <a:srgbClr val="b12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895480" y="5715000"/>
              <a:ext cx="304920" cy="0"/>
            </a:xfrm>
            <a:prstGeom prst="line">
              <a:avLst/>
            </a:prstGeom>
            <a:ln w="28440">
              <a:solidFill>
                <a:srgbClr val="b12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286000" y="5257800"/>
              <a:ext cx="762120" cy="3808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0" y="0"/>
                  </a:moveTo>
                  <a:lnTo>
                    <a:pt x="384" y="0"/>
                  </a:lnTo>
                  <a:lnTo>
                    <a:pt x="480" y="240"/>
                  </a:lnTo>
                </a:path>
              </a:pathLst>
            </a:custGeom>
            <a:noFill/>
            <a:ln w="28440">
              <a:solidFill>
                <a:srgbClr val="b12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3123360" y="5257800"/>
              <a:ext cx="762120" cy="3808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0" y="0"/>
                  </a:moveTo>
                  <a:lnTo>
                    <a:pt x="384" y="0"/>
                  </a:lnTo>
                  <a:lnTo>
                    <a:pt x="480" y="240"/>
                  </a:lnTo>
                </a:path>
              </a:pathLst>
            </a:custGeom>
            <a:noFill/>
            <a:ln w="28440">
              <a:solidFill>
                <a:srgbClr val="b12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2286000" y="5715000"/>
              <a:ext cx="762120" cy="3808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0" y="0"/>
                  </a:moveTo>
                  <a:lnTo>
                    <a:pt x="384" y="0"/>
                  </a:lnTo>
                  <a:lnTo>
                    <a:pt x="480" y="240"/>
                  </a:lnTo>
                </a:path>
              </a:pathLst>
            </a:custGeom>
            <a:noFill/>
            <a:ln w="28440">
              <a:solidFill>
                <a:srgbClr val="b12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 flipV="1">
              <a:off x="3123360" y="5715000"/>
              <a:ext cx="762120" cy="3808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0" y="0"/>
                  </a:moveTo>
                  <a:lnTo>
                    <a:pt x="384" y="0"/>
                  </a:lnTo>
                  <a:lnTo>
                    <a:pt x="480" y="240"/>
                  </a:lnTo>
                </a:path>
              </a:pathLst>
            </a:custGeom>
            <a:noFill/>
            <a:ln w="28440">
              <a:solidFill>
                <a:srgbClr val="b12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828800" y="5029200"/>
              <a:ext cx="2362320" cy="1371600"/>
            </a:xfrm>
            <a:prstGeom prst="ellipse">
              <a:avLst/>
            </a:prstGeom>
            <a:noFill/>
            <a:ln w="28440">
              <a:solidFill>
                <a:srgbClr val="b12a0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>
            <a:off x="3400560" y="3200400"/>
            <a:ext cx="457200" cy="1219320"/>
          </a:xfrm>
          <a:prstGeom prst="ellipse">
            <a:avLst/>
          </a:prstGeom>
          <a:noFill/>
          <a:ln w="28440">
            <a:solidFill>
              <a:srgbClr val="b12a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305320" y="3200400"/>
            <a:ext cx="457200" cy="1219320"/>
          </a:xfrm>
          <a:prstGeom prst="ellipse">
            <a:avLst/>
          </a:prstGeom>
          <a:noFill/>
          <a:ln w="28440">
            <a:solidFill>
              <a:srgbClr val="b12a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2819520" y="4343040"/>
            <a:ext cx="809640" cy="685800"/>
          </a:xfrm>
          <a:prstGeom prst="line">
            <a:avLst/>
          </a:prstGeom>
          <a:ln w="28440">
            <a:solidFill>
              <a:srgbClr val="b12a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4114800" y="4419720"/>
            <a:ext cx="1343160" cy="914400"/>
          </a:xfrm>
          <a:prstGeom prst="line">
            <a:avLst/>
          </a:prstGeom>
          <a:ln w="28440">
            <a:solidFill>
              <a:srgbClr val="b12a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762120" y="3429000"/>
            <a:ext cx="1218600" cy="761760"/>
            <a:chOff x="762120" y="3429000"/>
            <a:chExt cx="1218600" cy="761760"/>
          </a:xfrm>
        </p:grpSpPr>
        <p:sp>
          <p:nvSpPr>
            <p:cNvPr id="1793" name=""/>
            <p:cNvSpPr/>
            <p:nvPr/>
          </p:nvSpPr>
          <p:spPr>
            <a:xfrm>
              <a:off x="762120" y="3429000"/>
              <a:ext cx="1218600" cy="169200"/>
            </a:xfrm>
            <a:prstGeom prst="parallelogram">
              <a:avLst>
                <a:gd name="adj" fmla="val 180053"/>
              </a:avLst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120" y="3598200"/>
              <a:ext cx="957600" cy="59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719720" y="3429000"/>
              <a:ext cx="261000" cy="76176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lnTo>
                    <a:pt x="144" y="336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825480" y="2743200"/>
            <a:ext cx="317520" cy="76212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192" y="480"/>
                </a:moveTo>
                <a:cubicBezTo>
                  <a:pt x="196" y="416"/>
                  <a:pt x="200" y="352"/>
                  <a:pt x="192" y="288"/>
                </a:cubicBezTo>
                <a:cubicBezTo>
                  <a:pt x="184" y="224"/>
                  <a:pt x="176" y="144"/>
                  <a:pt x="144" y="96"/>
                </a:cubicBezTo>
                <a:cubicBezTo>
                  <a:pt x="112" y="48"/>
                  <a:pt x="56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rot="20477400">
            <a:off x="228600" y="2590560"/>
            <a:ext cx="1828800" cy="88920"/>
          </a:xfrm>
          <a:custGeom>
            <a:avLst/>
            <a:gdLst/>
            <a:ahLst/>
            <a:rect l="l" t="t" r="r" b="b"/>
            <a:pathLst>
              <a:path w="1152" h="56">
                <a:moveTo>
                  <a:pt x="0" y="0"/>
                </a:moveTo>
                <a:cubicBezTo>
                  <a:pt x="100" y="20"/>
                  <a:pt x="200" y="40"/>
                  <a:pt x="336" y="48"/>
                </a:cubicBezTo>
                <a:cubicBezTo>
                  <a:pt x="472" y="56"/>
                  <a:pt x="680" y="56"/>
                  <a:pt x="816" y="48"/>
                </a:cubicBezTo>
                <a:cubicBezTo>
                  <a:pt x="952" y="40"/>
                  <a:pt x="1052" y="20"/>
                  <a:pt x="115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57200" y="2514600"/>
            <a:ext cx="1828800" cy="838080"/>
          </a:xfrm>
          <a:custGeom>
            <a:avLst/>
            <a:gdLst/>
            <a:ahLst/>
            <a:rect l="l" t="t" r="r" b="b"/>
            <a:pathLst>
              <a:path w="1152" h="528">
                <a:moveTo>
                  <a:pt x="1152" y="0"/>
                </a:moveTo>
                <a:cubicBezTo>
                  <a:pt x="1076" y="60"/>
                  <a:pt x="1000" y="120"/>
                  <a:pt x="864" y="192"/>
                </a:cubicBezTo>
                <a:cubicBezTo>
                  <a:pt x="728" y="264"/>
                  <a:pt x="480" y="376"/>
                  <a:pt x="336" y="432"/>
                </a:cubicBezTo>
                <a:cubicBezTo>
                  <a:pt x="192" y="488"/>
                  <a:pt x="96" y="508"/>
                  <a:pt x="0" y="52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523880" y="2666880"/>
            <a:ext cx="457200" cy="83844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0" y="528"/>
                </a:moveTo>
                <a:cubicBezTo>
                  <a:pt x="24" y="452"/>
                  <a:pt x="48" y="376"/>
                  <a:pt x="96" y="288"/>
                </a:cubicBezTo>
                <a:cubicBezTo>
                  <a:pt x="144" y="200"/>
                  <a:pt x="216" y="10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762120" y="5029200"/>
            <a:ext cx="1066680" cy="685800"/>
            <a:chOff x="762120" y="5029200"/>
            <a:chExt cx="1066680" cy="685800"/>
          </a:xfrm>
        </p:grpSpPr>
        <p:sp>
          <p:nvSpPr>
            <p:cNvPr id="1801" name=""/>
            <p:cNvSpPr/>
            <p:nvPr/>
          </p:nvSpPr>
          <p:spPr>
            <a:xfrm>
              <a:off x="762120" y="5029200"/>
              <a:ext cx="1066680" cy="152280"/>
            </a:xfrm>
            <a:prstGeom prst="parallelogram">
              <a:avLst>
                <a:gd name="adj" fmla="val 175118"/>
              </a:avLst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120" y="5181480"/>
              <a:ext cx="83808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00200" y="50292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lnTo>
                    <a:pt x="144" y="336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457200" y="4102200"/>
            <a:ext cx="1905120" cy="927000"/>
          </a:xfrm>
          <a:custGeom>
            <a:avLst/>
            <a:gdLst/>
            <a:ahLst/>
            <a:rect l="l" t="t" r="r" b="b"/>
            <a:pathLst>
              <a:path w="1200" h="584">
                <a:moveTo>
                  <a:pt x="0" y="576"/>
                </a:moveTo>
                <a:cubicBezTo>
                  <a:pt x="188" y="512"/>
                  <a:pt x="376" y="448"/>
                  <a:pt x="480" y="432"/>
                </a:cubicBezTo>
                <a:cubicBezTo>
                  <a:pt x="584" y="416"/>
                  <a:pt x="592" y="456"/>
                  <a:pt x="624" y="480"/>
                </a:cubicBezTo>
                <a:cubicBezTo>
                  <a:pt x="656" y="504"/>
                  <a:pt x="648" y="568"/>
                  <a:pt x="672" y="576"/>
                </a:cubicBezTo>
                <a:cubicBezTo>
                  <a:pt x="696" y="584"/>
                  <a:pt x="720" y="576"/>
                  <a:pt x="768" y="528"/>
                </a:cubicBezTo>
                <a:cubicBezTo>
                  <a:pt x="816" y="480"/>
                  <a:pt x="904" y="360"/>
                  <a:pt x="960" y="288"/>
                </a:cubicBezTo>
                <a:cubicBezTo>
                  <a:pt x="1016" y="216"/>
                  <a:pt x="1064" y="144"/>
                  <a:pt x="1104" y="96"/>
                </a:cubicBezTo>
                <a:cubicBezTo>
                  <a:pt x="1144" y="48"/>
                  <a:pt x="1172" y="24"/>
                  <a:pt x="1200" y="0"/>
                </a:cubicBezTo>
              </a:path>
            </a:pathLst>
          </a:custGeom>
          <a:noFill/>
          <a:ln w="2844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52280" y="4089240"/>
            <a:ext cx="1676520" cy="939960"/>
          </a:xfrm>
          <a:custGeom>
            <a:avLst/>
            <a:gdLst/>
            <a:ahLst/>
            <a:rect l="l" t="t" r="r" b="b"/>
            <a:pathLst>
              <a:path w="1056" h="592">
                <a:moveTo>
                  <a:pt x="0" y="288"/>
                </a:moveTo>
                <a:cubicBezTo>
                  <a:pt x="84" y="276"/>
                  <a:pt x="168" y="264"/>
                  <a:pt x="240" y="288"/>
                </a:cubicBezTo>
                <a:cubicBezTo>
                  <a:pt x="312" y="312"/>
                  <a:pt x="376" y="384"/>
                  <a:pt x="432" y="432"/>
                </a:cubicBezTo>
                <a:cubicBezTo>
                  <a:pt x="488" y="480"/>
                  <a:pt x="536" y="560"/>
                  <a:pt x="576" y="576"/>
                </a:cubicBezTo>
                <a:cubicBezTo>
                  <a:pt x="616" y="592"/>
                  <a:pt x="640" y="576"/>
                  <a:pt x="672" y="528"/>
                </a:cubicBezTo>
                <a:cubicBezTo>
                  <a:pt x="704" y="480"/>
                  <a:pt x="736" y="360"/>
                  <a:pt x="768" y="288"/>
                </a:cubicBezTo>
                <a:cubicBezTo>
                  <a:pt x="800" y="216"/>
                  <a:pt x="816" y="144"/>
                  <a:pt x="864" y="96"/>
                </a:cubicBezTo>
                <a:cubicBezTo>
                  <a:pt x="912" y="48"/>
                  <a:pt x="984" y="24"/>
                  <a:pt x="1056" y="0"/>
                </a:cubicBezTo>
              </a:path>
            </a:pathLst>
          </a:custGeom>
          <a:noFill/>
          <a:ln w="28440">
            <a:solidFill>
              <a:srgbClr val="b12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06668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52388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注意插入增益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2286000" y="22860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286000" y="426708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286000" y="2590920"/>
            <a:ext cx="2590920" cy="1676160"/>
          </a:xfrm>
          <a:custGeom>
            <a:avLst/>
            <a:gdLst/>
            <a:ahLst/>
            <a:rect l="l" t="t" r="r" b="b"/>
            <a:pathLst>
              <a:path w="1632" h="1056">
                <a:moveTo>
                  <a:pt x="0" y="1056"/>
                </a:moveTo>
                <a:cubicBezTo>
                  <a:pt x="164" y="1056"/>
                  <a:pt x="328" y="1056"/>
                  <a:pt x="480" y="1008"/>
                </a:cubicBezTo>
                <a:cubicBezTo>
                  <a:pt x="632" y="960"/>
                  <a:pt x="776" y="888"/>
                  <a:pt x="912" y="768"/>
                </a:cubicBezTo>
                <a:cubicBezTo>
                  <a:pt x="1048" y="648"/>
                  <a:pt x="1176" y="416"/>
                  <a:pt x="1296" y="288"/>
                </a:cubicBezTo>
                <a:cubicBezTo>
                  <a:pt x="1416" y="160"/>
                  <a:pt x="1524" y="80"/>
                  <a:pt x="1632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286000" y="3048120"/>
            <a:ext cx="2666880" cy="1828800"/>
          </a:xfrm>
          <a:custGeom>
            <a:avLst/>
            <a:gdLst/>
            <a:ahLst/>
            <a:rect l="l" t="t" r="r" b="b"/>
            <a:pathLst>
              <a:path w="1680" h="1104">
                <a:moveTo>
                  <a:pt x="0" y="720"/>
                </a:moveTo>
                <a:cubicBezTo>
                  <a:pt x="128" y="716"/>
                  <a:pt x="256" y="712"/>
                  <a:pt x="336" y="720"/>
                </a:cubicBezTo>
                <a:cubicBezTo>
                  <a:pt x="416" y="728"/>
                  <a:pt x="424" y="728"/>
                  <a:pt x="480" y="768"/>
                </a:cubicBezTo>
                <a:cubicBezTo>
                  <a:pt x="536" y="808"/>
                  <a:pt x="624" y="912"/>
                  <a:pt x="672" y="960"/>
                </a:cubicBezTo>
                <a:cubicBezTo>
                  <a:pt x="720" y="1008"/>
                  <a:pt x="728" y="1048"/>
                  <a:pt x="768" y="1056"/>
                </a:cubicBezTo>
                <a:cubicBezTo>
                  <a:pt x="808" y="1064"/>
                  <a:pt x="840" y="1104"/>
                  <a:pt x="912" y="1008"/>
                </a:cubicBezTo>
                <a:cubicBezTo>
                  <a:pt x="984" y="912"/>
                  <a:pt x="1112" y="624"/>
                  <a:pt x="1200" y="480"/>
                </a:cubicBezTo>
                <a:cubicBezTo>
                  <a:pt x="1288" y="336"/>
                  <a:pt x="1360" y="224"/>
                  <a:pt x="1440" y="144"/>
                </a:cubicBezTo>
                <a:cubicBezTo>
                  <a:pt x="1520" y="64"/>
                  <a:pt x="1600" y="32"/>
                  <a:pt x="1680" y="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1337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905120" y="4038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523880" y="4419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029200" y="2209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1" lang="zh-CN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 / 50</a:t>
            </a:r>
            <a:r>
              <a:rPr b="1" lang="zh-CN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952880" y="295596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100</a:t>
            </a:r>
            <a:r>
              <a:rPr b="1" lang="zh-CN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 / 0.1</a:t>
            </a:r>
            <a:r>
              <a:rPr b="1" lang="zh-CN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0.1</a:t>
            </a:r>
            <a:r>
              <a:rPr b="1" lang="zh-CN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 / 100</a:t>
            </a:r>
            <a:r>
              <a:rPr b="1" lang="zh-CN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78168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频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914400" y="22701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插入损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09480" y="541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解决办法：差模电感上并联电阻（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50 ~ 1k)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，差模电容上串联电阻（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0.5 ~ 10</a:t>
            </a:r>
            <a:r>
              <a:rPr b="1" lang="zh-CN" sz="2400" spc="-1" strike="noStrike">
                <a:solidFill>
                  <a:srgbClr val="0066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选择滤波器的保险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3" name=""/>
          <p:cNvSpPr/>
          <p:nvPr/>
        </p:nvSpPr>
        <p:spPr>
          <a:xfrm>
            <a:off x="1143000" y="2514600"/>
            <a:ext cx="53352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799640" y="2438280"/>
            <a:ext cx="91188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676520" y="2590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09480" y="2895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094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62120" y="259092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62120" y="327672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0" y="0"/>
                </a:moveTo>
                <a:lnTo>
                  <a:pt x="0" y="192"/>
                </a:lnTo>
                <a:lnTo>
                  <a:pt x="864" y="192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429000" y="2819520"/>
            <a:ext cx="15228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74320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480" y="0"/>
                </a:lnTo>
                <a:lnTo>
                  <a:pt x="480" y="144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743200" y="33526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144"/>
                </a:move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066680" y="2133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81280" y="2833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381640" y="2506680"/>
            <a:ext cx="53352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038280" y="2430360"/>
            <a:ext cx="911880" cy="12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915160" y="2583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848120" y="288756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848120" y="281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000760" y="258300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000760" y="326880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0" y="0"/>
                </a:moveTo>
                <a:lnTo>
                  <a:pt x="0" y="192"/>
                </a:lnTo>
                <a:lnTo>
                  <a:pt x="864" y="192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591320" y="2811600"/>
            <a:ext cx="15264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934320" y="258300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480" y="0"/>
                </a:lnTo>
                <a:lnTo>
                  <a:pt x="480" y="144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934320" y="334476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144"/>
                </a:move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772400" y="2833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33412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1295280" y="396216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295280" y="5562720"/>
            <a:ext cx="3353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95280" y="4254480"/>
            <a:ext cx="2819520" cy="1320840"/>
          </a:xfrm>
          <a:custGeom>
            <a:avLst/>
            <a:gdLst/>
            <a:ahLst/>
            <a:rect l="l" t="t" r="r" b="b"/>
            <a:pathLst>
              <a:path w="1584" h="832">
                <a:moveTo>
                  <a:pt x="0" y="824"/>
                </a:moveTo>
                <a:cubicBezTo>
                  <a:pt x="84" y="828"/>
                  <a:pt x="168" y="832"/>
                  <a:pt x="288" y="776"/>
                </a:cubicBezTo>
                <a:cubicBezTo>
                  <a:pt x="408" y="720"/>
                  <a:pt x="616" y="576"/>
                  <a:pt x="720" y="488"/>
                </a:cubicBezTo>
                <a:cubicBezTo>
                  <a:pt x="824" y="400"/>
                  <a:pt x="872" y="304"/>
                  <a:pt x="912" y="248"/>
                </a:cubicBezTo>
                <a:cubicBezTo>
                  <a:pt x="952" y="192"/>
                  <a:pt x="936" y="184"/>
                  <a:pt x="960" y="152"/>
                </a:cubicBezTo>
                <a:cubicBezTo>
                  <a:pt x="984" y="120"/>
                  <a:pt x="992" y="80"/>
                  <a:pt x="1056" y="56"/>
                </a:cubicBezTo>
                <a:cubicBezTo>
                  <a:pt x="1120" y="32"/>
                  <a:pt x="1256" y="16"/>
                  <a:pt x="1344" y="8"/>
                </a:cubicBezTo>
                <a:cubicBezTo>
                  <a:pt x="1432" y="0"/>
                  <a:pt x="1508" y="4"/>
                  <a:pt x="1584" y="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295280" y="4559400"/>
            <a:ext cx="2819520" cy="1320840"/>
          </a:xfrm>
          <a:custGeom>
            <a:avLst/>
            <a:gdLst/>
            <a:ahLst/>
            <a:rect l="l" t="t" r="r" b="b"/>
            <a:pathLst>
              <a:path w="1776" h="832">
                <a:moveTo>
                  <a:pt x="0" y="632"/>
                </a:moveTo>
                <a:cubicBezTo>
                  <a:pt x="32" y="624"/>
                  <a:pt x="64" y="616"/>
                  <a:pt x="96" y="632"/>
                </a:cubicBezTo>
                <a:cubicBezTo>
                  <a:pt x="128" y="648"/>
                  <a:pt x="168" y="696"/>
                  <a:pt x="192" y="728"/>
                </a:cubicBezTo>
                <a:cubicBezTo>
                  <a:pt x="216" y="760"/>
                  <a:pt x="216" y="816"/>
                  <a:pt x="240" y="824"/>
                </a:cubicBezTo>
                <a:cubicBezTo>
                  <a:pt x="264" y="832"/>
                  <a:pt x="280" y="824"/>
                  <a:pt x="336" y="776"/>
                </a:cubicBezTo>
                <a:cubicBezTo>
                  <a:pt x="392" y="728"/>
                  <a:pt x="480" y="632"/>
                  <a:pt x="576" y="536"/>
                </a:cubicBezTo>
                <a:cubicBezTo>
                  <a:pt x="672" y="440"/>
                  <a:pt x="808" y="280"/>
                  <a:pt x="912" y="200"/>
                </a:cubicBezTo>
                <a:cubicBezTo>
                  <a:pt x="1016" y="120"/>
                  <a:pt x="1088" y="88"/>
                  <a:pt x="1200" y="56"/>
                </a:cubicBezTo>
                <a:cubicBezTo>
                  <a:pt x="1312" y="24"/>
                  <a:pt x="1488" y="16"/>
                  <a:pt x="1584" y="8"/>
                </a:cubicBezTo>
                <a:cubicBezTo>
                  <a:pt x="1680" y="0"/>
                  <a:pt x="1728" y="4"/>
                  <a:pt x="1776" y="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335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衰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0" lang="zh-CN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条件下的插入损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4419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0.1/100</a:t>
            </a:r>
            <a:r>
              <a:rPr b="0" lang="zh-CN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条件下的插入损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971800" y="5958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插入损耗增益会暴露出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 flipV="1">
            <a:off x="1981080" y="579096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器件距离对高频性能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滤波器安装在线路板的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0" name=""/>
          <p:cNvSpPr/>
          <p:nvPr/>
        </p:nvSpPr>
        <p:spPr>
          <a:xfrm>
            <a:off x="4038480" y="4716360"/>
            <a:ext cx="457200" cy="838440"/>
          </a:xfrm>
          <a:prstGeom prst="rect">
            <a:avLst/>
          </a:prstGeom>
          <a:solidFill>
            <a:srgbClr val="1f62c5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477120" y="3200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70572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477120" y="3124080"/>
            <a:ext cx="228600" cy="7632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48"/>
                </a:moveTo>
                <a:cubicBezTo>
                  <a:pt x="36" y="32"/>
                  <a:pt x="72" y="1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57200" y="4944960"/>
            <a:ext cx="6019920" cy="914400"/>
          </a:xfrm>
          <a:custGeom>
            <a:avLst/>
            <a:gdLst/>
            <a:ahLst/>
            <a:rect l="l" t="t" r="r" b="b"/>
            <a:pathLst>
              <a:path w="3792" h="576">
                <a:moveTo>
                  <a:pt x="0" y="576"/>
                </a:moveTo>
                <a:lnTo>
                  <a:pt x="3792" y="576"/>
                </a:lnTo>
                <a:lnTo>
                  <a:pt x="3792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28600" y="4944960"/>
            <a:ext cx="6477120" cy="1219320"/>
          </a:xfrm>
          <a:custGeom>
            <a:avLst/>
            <a:gdLst/>
            <a:ahLst/>
            <a:rect l="l" t="t" r="r" b="b"/>
            <a:pathLst>
              <a:path w="4080" h="768">
                <a:moveTo>
                  <a:pt x="0" y="768"/>
                </a:moveTo>
                <a:lnTo>
                  <a:pt x="4080" y="768"/>
                </a:lnTo>
                <a:lnTo>
                  <a:pt x="408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52280" y="5859360"/>
            <a:ext cx="304920" cy="266760"/>
          </a:xfrm>
          <a:custGeom>
            <a:avLst/>
            <a:gdLst/>
            <a:ahLst/>
            <a:rect l="l" t="t" r="r" b="b"/>
            <a:pathLst>
              <a:path w="192" h="168">
                <a:moveTo>
                  <a:pt x="0" y="144"/>
                </a:moveTo>
                <a:cubicBezTo>
                  <a:pt x="56" y="156"/>
                  <a:pt x="112" y="168"/>
                  <a:pt x="144" y="144"/>
                </a:cubicBezTo>
                <a:cubicBezTo>
                  <a:pt x="176" y="120"/>
                  <a:pt x="176" y="32"/>
                  <a:pt x="192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057400" y="4716360"/>
            <a:ext cx="457200" cy="838440"/>
          </a:xfrm>
          <a:prstGeom prst="rect">
            <a:avLst/>
          </a:prstGeom>
          <a:solidFill>
            <a:srgbClr val="1f62c5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666880" y="5173560"/>
            <a:ext cx="1219320" cy="3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74320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81952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89548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42900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58128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73392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219320" y="3192480"/>
            <a:ext cx="990360" cy="1371600"/>
          </a:xfrm>
          <a:custGeom>
            <a:avLst/>
            <a:gdLst/>
            <a:ahLst/>
            <a:rect l="l" t="t" r="r" b="b"/>
            <a:pathLst>
              <a:path w="624" h="864">
                <a:moveTo>
                  <a:pt x="0" y="0"/>
                </a:moveTo>
                <a:cubicBezTo>
                  <a:pt x="164" y="168"/>
                  <a:pt x="328" y="336"/>
                  <a:pt x="432" y="480"/>
                </a:cubicBezTo>
                <a:cubicBezTo>
                  <a:pt x="536" y="624"/>
                  <a:pt x="580" y="744"/>
                  <a:pt x="624" y="864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438280" y="3649680"/>
            <a:ext cx="1143000" cy="1219320"/>
          </a:xfrm>
          <a:custGeom>
            <a:avLst/>
            <a:gdLst/>
            <a:ahLst/>
            <a:rect l="l" t="t" r="r" b="b"/>
            <a:pathLst>
              <a:path w="720" h="768">
                <a:moveTo>
                  <a:pt x="0" y="0"/>
                </a:moveTo>
                <a:cubicBezTo>
                  <a:pt x="8" y="200"/>
                  <a:pt x="16" y="400"/>
                  <a:pt x="96" y="480"/>
                </a:cubicBezTo>
                <a:cubicBezTo>
                  <a:pt x="176" y="560"/>
                  <a:pt x="376" y="432"/>
                  <a:pt x="480" y="480"/>
                </a:cubicBezTo>
                <a:cubicBezTo>
                  <a:pt x="584" y="528"/>
                  <a:pt x="652" y="648"/>
                  <a:pt x="720" y="76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819520" y="3192480"/>
            <a:ext cx="2057400" cy="1447920"/>
          </a:xfrm>
          <a:custGeom>
            <a:avLst/>
            <a:gdLst/>
            <a:ahLst/>
            <a:rect l="l" t="t" r="r" b="b"/>
            <a:pathLst>
              <a:path w="1296" h="912">
                <a:moveTo>
                  <a:pt x="0" y="0"/>
                </a:moveTo>
                <a:cubicBezTo>
                  <a:pt x="228" y="116"/>
                  <a:pt x="456" y="232"/>
                  <a:pt x="672" y="384"/>
                </a:cubicBezTo>
                <a:cubicBezTo>
                  <a:pt x="888" y="536"/>
                  <a:pt x="1092" y="724"/>
                  <a:pt x="1296" y="912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250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机箱内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0" y="5410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电源线泄漏严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04812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80988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65760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50532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971800" y="517356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143000" y="555480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05520" y="4508640"/>
            <a:ext cx="3886200" cy="977760"/>
          </a:xfrm>
          <a:custGeom>
            <a:avLst/>
            <a:gdLst/>
            <a:ahLst/>
            <a:rect l="l" t="t" r="r" b="b"/>
            <a:pathLst>
              <a:path w="2448" h="616">
                <a:moveTo>
                  <a:pt x="0" y="616"/>
                </a:moveTo>
                <a:cubicBezTo>
                  <a:pt x="32" y="448"/>
                  <a:pt x="64" y="280"/>
                  <a:pt x="240" y="184"/>
                </a:cubicBezTo>
                <a:cubicBezTo>
                  <a:pt x="416" y="88"/>
                  <a:pt x="856" y="0"/>
                  <a:pt x="1056" y="40"/>
                </a:cubicBezTo>
                <a:cubicBezTo>
                  <a:pt x="1256" y="80"/>
                  <a:pt x="1256" y="360"/>
                  <a:pt x="1440" y="424"/>
                </a:cubicBezTo>
                <a:cubicBezTo>
                  <a:pt x="1624" y="488"/>
                  <a:pt x="1992" y="424"/>
                  <a:pt x="2160" y="424"/>
                </a:cubicBezTo>
                <a:cubicBezTo>
                  <a:pt x="2328" y="424"/>
                  <a:pt x="2388" y="424"/>
                  <a:pt x="2448" y="424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47712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477120" y="4343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934320" y="4343400"/>
            <a:ext cx="1523880" cy="647640"/>
          </a:xfrm>
          <a:custGeom>
            <a:avLst/>
            <a:gdLst/>
            <a:ahLst/>
            <a:rect l="l" t="t" r="r" b="b"/>
            <a:pathLst>
              <a:path w="960" h="408">
                <a:moveTo>
                  <a:pt x="0" y="0"/>
                </a:moveTo>
                <a:cubicBezTo>
                  <a:pt x="76" y="88"/>
                  <a:pt x="152" y="176"/>
                  <a:pt x="240" y="240"/>
                </a:cubicBezTo>
                <a:cubicBezTo>
                  <a:pt x="328" y="304"/>
                  <a:pt x="408" y="360"/>
                  <a:pt x="528" y="384"/>
                </a:cubicBezTo>
                <a:cubicBezTo>
                  <a:pt x="648" y="408"/>
                  <a:pt x="804" y="396"/>
                  <a:pt x="960" y="384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rot="14588400">
            <a:off x="7772040" y="3733560"/>
            <a:ext cx="685800" cy="9903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用滤波消除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0200" y="1898640"/>
            <a:ext cx="5767560" cy="206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4073400"/>
            <a:ext cx="3733920" cy="2403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48320" y="4038480"/>
            <a:ext cx="3809880" cy="2479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24280" y="2819520"/>
            <a:ext cx="1067040" cy="533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线路板上滤波的改进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2" name=""/>
          <p:cNvSpPr/>
          <p:nvPr/>
        </p:nvSpPr>
        <p:spPr>
          <a:xfrm>
            <a:off x="5257800" y="4343400"/>
            <a:ext cx="990720" cy="609480"/>
          </a:xfrm>
          <a:prstGeom prst="rect">
            <a:avLst/>
          </a:prstGeom>
          <a:solidFill>
            <a:srgbClr val="cc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038480" y="4952880"/>
            <a:ext cx="457200" cy="838440"/>
          </a:xfrm>
          <a:prstGeom prst="rect">
            <a:avLst/>
          </a:prstGeom>
          <a:solidFill>
            <a:srgbClr val="1f62c5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477120" y="4191120"/>
            <a:ext cx="380880" cy="9903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90360"/>
              <a:gd name="textAreaBottom" fmla="*/ 972000 h 990360"/>
            </a:gdLst>
            <a:ahLst/>
            <a:rect l="textAreaLeft" t="textAreaTop" r="textAreaRight" b="textAreaBottom"/>
            <a:pathLst>
              <a:path w="21600" h="56131">
                <a:moveTo>
                  <a:pt x="3600" y="0"/>
                </a:moveTo>
                <a:arcTo wR="3600" hR="3600" stAng="16200000" swAng="-5400000"/>
                <a:lnTo>
                  <a:pt x="0" y="52531"/>
                </a:lnTo>
                <a:arcTo wR="3600" hR="3600" stAng="10800000" swAng="-5400000"/>
                <a:lnTo>
                  <a:pt x="18000" y="56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248520" y="3962520"/>
            <a:ext cx="228600" cy="1447560"/>
          </a:xfrm>
          <a:prstGeom prst="rect">
            <a:avLst/>
          </a:prstGeom>
          <a:solidFill>
            <a:srgbClr val="cc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477120" y="2971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05720" y="28195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477120" y="2895480"/>
            <a:ext cx="152280" cy="7632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48"/>
                </a:moveTo>
                <a:cubicBezTo>
                  <a:pt x="36" y="32"/>
                  <a:pt x="72" y="16"/>
                  <a:pt x="96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57200" y="5181480"/>
            <a:ext cx="6019920" cy="914400"/>
          </a:xfrm>
          <a:custGeom>
            <a:avLst/>
            <a:gdLst/>
            <a:ahLst/>
            <a:rect l="l" t="t" r="r" b="b"/>
            <a:pathLst>
              <a:path w="3792" h="576">
                <a:moveTo>
                  <a:pt x="0" y="576"/>
                </a:moveTo>
                <a:lnTo>
                  <a:pt x="3792" y="576"/>
                </a:lnTo>
                <a:lnTo>
                  <a:pt x="3792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28600" y="5181480"/>
            <a:ext cx="6477120" cy="1219320"/>
          </a:xfrm>
          <a:custGeom>
            <a:avLst/>
            <a:gdLst/>
            <a:ahLst/>
            <a:rect l="l" t="t" r="r" b="b"/>
            <a:pathLst>
              <a:path w="4080" h="768">
                <a:moveTo>
                  <a:pt x="0" y="768"/>
                </a:moveTo>
                <a:lnTo>
                  <a:pt x="4080" y="768"/>
                </a:lnTo>
                <a:lnTo>
                  <a:pt x="408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52280" y="6095880"/>
            <a:ext cx="304920" cy="266760"/>
          </a:xfrm>
          <a:custGeom>
            <a:avLst/>
            <a:gdLst/>
            <a:ahLst/>
            <a:rect l="l" t="t" r="r" b="b"/>
            <a:pathLst>
              <a:path w="192" h="168">
                <a:moveTo>
                  <a:pt x="0" y="144"/>
                </a:moveTo>
                <a:cubicBezTo>
                  <a:pt x="56" y="156"/>
                  <a:pt x="112" y="168"/>
                  <a:pt x="144" y="144"/>
                </a:cubicBezTo>
                <a:cubicBezTo>
                  <a:pt x="176" y="120"/>
                  <a:pt x="176" y="32"/>
                  <a:pt x="192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057400" y="4952880"/>
            <a:ext cx="457200" cy="838440"/>
          </a:xfrm>
          <a:prstGeom prst="rect">
            <a:avLst/>
          </a:prstGeom>
          <a:solidFill>
            <a:srgbClr val="1f62c5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66880" y="5410080"/>
            <a:ext cx="1219320" cy="3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74320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42900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58128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73392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219320" y="3429000"/>
            <a:ext cx="990360" cy="1371600"/>
          </a:xfrm>
          <a:custGeom>
            <a:avLst/>
            <a:gdLst/>
            <a:ahLst/>
            <a:rect l="l" t="t" r="r" b="b"/>
            <a:pathLst>
              <a:path w="624" h="864">
                <a:moveTo>
                  <a:pt x="0" y="0"/>
                </a:moveTo>
                <a:cubicBezTo>
                  <a:pt x="164" y="168"/>
                  <a:pt x="328" y="336"/>
                  <a:pt x="432" y="480"/>
                </a:cubicBezTo>
                <a:cubicBezTo>
                  <a:pt x="536" y="624"/>
                  <a:pt x="580" y="744"/>
                  <a:pt x="624" y="864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438280" y="3886200"/>
            <a:ext cx="1143000" cy="1219320"/>
          </a:xfrm>
          <a:custGeom>
            <a:avLst/>
            <a:gdLst/>
            <a:ahLst/>
            <a:rect l="l" t="t" r="r" b="b"/>
            <a:pathLst>
              <a:path w="720" h="768">
                <a:moveTo>
                  <a:pt x="0" y="0"/>
                </a:moveTo>
                <a:cubicBezTo>
                  <a:pt x="8" y="200"/>
                  <a:pt x="16" y="400"/>
                  <a:pt x="96" y="480"/>
                </a:cubicBezTo>
                <a:cubicBezTo>
                  <a:pt x="176" y="560"/>
                  <a:pt x="376" y="432"/>
                  <a:pt x="480" y="480"/>
                </a:cubicBezTo>
                <a:cubicBezTo>
                  <a:pt x="584" y="528"/>
                  <a:pt x="652" y="648"/>
                  <a:pt x="720" y="76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19520" y="3429000"/>
            <a:ext cx="2057400" cy="1447920"/>
          </a:xfrm>
          <a:custGeom>
            <a:avLst/>
            <a:gdLst/>
            <a:ahLst/>
            <a:rect l="l" t="t" r="r" b="b"/>
            <a:pathLst>
              <a:path w="1296" h="912">
                <a:moveTo>
                  <a:pt x="0" y="0"/>
                </a:moveTo>
                <a:cubicBezTo>
                  <a:pt x="228" y="116"/>
                  <a:pt x="456" y="232"/>
                  <a:pt x="672" y="384"/>
                </a:cubicBezTo>
                <a:cubicBezTo>
                  <a:pt x="888" y="536"/>
                  <a:pt x="1092" y="724"/>
                  <a:pt x="1296" y="912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495680" y="2666880"/>
            <a:ext cx="673200" cy="175284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336" y="1104"/>
                </a:moveTo>
                <a:cubicBezTo>
                  <a:pt x="284" y="1028"/>
                  <a:pt x="232" y="952"/>
                  <a:pt x="240" y="864"/>
                </a:cubicBezTo>
                <a:cubicBezTo>
                  <a:pt x="248" y="776"/>
                  <a:pt x="424" y="720"/>
                  <a:pt x="384" y="576"/>
                </a:cubicBezTo>
                <a:cubicBezTo>
                  <a:pt x="344" y="432"/>
                  <a:pt x="172" y="216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638680" y="3124080"/>
            <a:ext cx="723960" cy="952560"/>
          </a:xfrm>
          <a:custGeom>
            <a:avLst/>
            <a:gdLst/>
            <a:ahLst/>
            <a:rect l="l" t="t" r="r" b="b"/>
            <a:pathLst>
              <a:path w="456" h="600">
                <a:moveTo>
                  <a:pt x="0" y="576"/>
                </a:moveTo>
                <a:cubicBezTo>
                  <a:pt x="108" y="588"/>
                  <a:pt x="216" y="600"/>
                  <a:pt x="288" y="528"/>
                </a:cubicBezTo>
                <a:cubicBezTo>
                  <a:pt x="360" y="456"/>
                  <a:pt x="408" y="232"/>
                  <a:pt x="432" y="144"/>
                </a:cubicBezTo>
                <a:cubicBezTo>
                  <a:pt x="456" y="56"/>
                  <a:pt x="444" y="28"/>
                  <a:pt x="432" y="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8580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机箱内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89548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被滤波器挡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952880" y="2362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被滤波器旁路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7816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面板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ahoma"/>
              </a:rPr>
              <a:t>电源线无泄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04812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80988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65760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50532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971800" y="5410080"/>
            <a:ext cx="0" cy="304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143000" y="57913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724280" y="4572000"/>
            <a:ext cx="53352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336" y="0"/>
                </a:moveTo>
                <a:cubicBezTo>
                  <a:pt x="280" y="68"/>
                  <a:pt x="224" y="136"/>
                  <a:pt x="192" y="240"/>
                </a:cubicBezTo>
                <a:cubicBezTo>
                  <a:pt x="160" y="344"/>
                  <a:pt x="176" y="536"/>
                  <a:pt x="144" y="624"/>
                </a:cubicBezTo>
                <a:cubicBezTo>
                  <a:pt x="112" y="712"/>
                  <a:pt x="56" y="740"/>
                  <a:pt x="0" y="768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0" y="4267080"/>
            <a:ext cx="1066680" cy="83844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336" y="0"/>
                </a:lnTo>
                <a:lnTo>
                  <a:pt x="672" y="288"/>
                </a:lnTo>
                <a:lnTo>
                  <a:pt x="672" y="480"/>
                </a:lnTo>
                <a:lnTo>
                  <a:pt x="288" y="720"/>
                </a:lnTo>
                <a:lnTo>
                  <a:pt x="0" y="720"/>
                </a:ln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924680" y="4724280"/>
            <a:ext cx="762120" cy="129564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0"/>
                </a:moveTo>
                <a:cubicBezTo>
                  <a:pt x="80" y="20"/>
                  <a:pt x="160" y="40"/>
                  <a:pt x="192" y="144"/>
                </a:cubicBezTo>
                <a:cubicBezTo>
                  <a:pt x="224" y="248"/>
                  <a:pt x="144" y="512"/>
                  <a:pt x="192" y="624"/>
                </a:cubicBezTo>
                <a:cubicBezTo>
                  <a:pt x="240" y="736"/>
                  <a:pt x="360" y="776"/>
                  <a:pt x="480" y="816"/>
                </a:cubicBezTo>
              </a:path>
            </a:pathLst>
          </a:cu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315200" y="4267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6934320" y="3657600"/>
            <a:ext cx="380880" cy="45720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619280" y="693360"/>
            <a:ext cx="685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源线滤波器的错误安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2" name=""/>
          <p:cNvSpPr/>
          <p:nvPr/>
        </p:nvSpPr>
        <p:spPr>
          <a:xfrm>
            <a:off x="1676520" y="1981080"/>
            <a:ext cx="4114800" cy="1757520"/>
          </a:xfrm>
          <a:custGeom>
            <a:avLst/>
            <a:gdLst/>
            <a:ahLst/>
            <a:rect l="l" t="t" r="r" b="b"/>
            <a:pathLst>
              <a:path w="2592" h="1248">
                <a:moveTo>
                  <a:pt x="2496" y="624"/>
                </a:moveTo>
                <a:lnTo>
                  <a:pt x="2592" y="624"/>
                </a:lnTo>
                <a:lnTo>
                  <a:pt x="2592" y="0"/>
                </a:lnTo>
                <a:lnTo>
                  <a:pt x="0" y="0"/>
                </a:lnTo>
                <a:lnTo>
                  <a:pt x="0" y="1248"/>
                </a:lnTo>
                <a:lnTo>
                  <a:pt x="2592" y="1248"/>
                </a:lnTo>
                <a:lnTo>
                  <a:pt x="2592" y="768"/>
                </a:lnTo>
                <a:lnTo>
                  <a:pt x="2496" y="768"/>
                </a:lnTo>
                <a:lnTo>
                  <a:pt x="2496" y="1152"/>
                </a:lnTo>
                <a:lnTo>
                  <a:pt x="96" y="1152"/>
                </a:lnTo>
                <a:lnTo>
                  <a:pt x="96" y="96"/>
                </a:lnTo>
                <a:lnTo>
                  <a:pt x="2496" y="96"/>
                </a:lnTo>
                <a:lnTo>
                  <a:pt x="2496" y="624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800600" y="2895480"/>
            <a:ext cx="2895480" cy="804960"/>
          </a:xfrm>
          <a:custGeom>
            <a:avLst/>
            <a:gdLst/>
            <a:ahLst/>
            <a:rect l="l" t="t" r="r" b="b"/>
            <a:pathLst>
              <a:path w="1824" h="560">
                <a:moveTo>
                  <a:pt x="0" y="344"/>
                </a:moveTo>
                <a:cubicBezTo>
                  <a:pt x="72" y="372"/>
                  <a:pt x="144" y="400"/>
                  <a:pt x="192" y="392"/>
                </a:cubicBezTo>
                <a:cubicBezTo>
                  <a:pt x="240" y="384"/>
                  <a:pt x="256" y="344"/>
                  <a:pt x="288" y="296"/>
                </a:cubicBezTo>
                <a:cubicBezTo>
                  <a:pt x="320" y="248"/>
                  <a:pt x="344" y="144"/>
                  <a:pt x="384" y="104"/>
                </a:cubicBezTo>
                <a:cubicBezTo>
                  <a:pt x="424" y="64"/>
                  <a:pt x="472" y="64"/>
                  <a:pt x="528" y="56"/>
                </a:cubicBezTo>
                <a:cubicBezTo>
                  <a:pt x="584" y="48"/>
                  <a:pt x="648" y="0"/>
                  <a:pt x="720" y="56"/>
                </a:cubicBezTo>
                <a:cubicBezTo>
                  <a:pt x="792" y="112"/>
                  <a:pt x="832" y="312"/>
                  <a:pt x="960" y="392"/>
                </a:cubicBezTo>
                <a:cubicBezTo>
                  <a:pt x="1088" y="472"/>
                  <a:pt x="1344" y="512"/>
                  <a:pt x="1488" y="536"/>
                </a:cubicBezTo>
                <a:cubicBezTo>
                  <a:pt x="1632" y="560"/>
                  <a:pt x="1728" y="548"/>
                  <a:pt x="1824" y="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057400" y="2286000"/>
            <a:ext cx="2362320" cy="614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514600" y="320508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276720" y="3344760"/>
            <a:ext cx="609480" cy="88920"/>
          </a:xfrm>
          <a:custGeom>
            <a:avLst/>
            <a:gdLst/>
            <a:ahLst/>
            <a:rect l="l" t="t" r="r" b="b"/>
            <a:pathLst>
              <a:path w="384" h="56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44" y="56"/>
                  <a:pt x="192" y="56"/>
                </a:cubicBezTo>
                <a:cubicBezTo>
                  <a:pt x="240" y="56"/>
                  <a:pt x="312" y="32"/>
                  <a:pt x="38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095560" y="2824200"/>
            <a:ext cx="419040" cy="647640"/>
          </a:xfrm>
          <a:custGeom>
            <a:avLst/>
            <a:gdLst/>
            <a:ahLst/>
            <a:rect l="l" t="t" r="r" b="b"/>
            <a:pathLst>
              <a:path w="264" h="408">
                <a:moveTo>
                  <a:pt x="264" y="384"/>
                </a:moveTo>
                <a:cubicBezTo>
                  <a:pt x="236" y="396"/>
                  <a:pt x="208" y="408"/>
                  <a:pt x="168" y="384"/>
                </a:cubicBezTo>
                <a:cubicBezTo>
                  <a:pt x="128" y="360"/>
                  <a:pt x="48" y="304"/>
                  <a:pt x="24" y="240"/>
                </a:cubicBezTo>
                <a:cubicBezTo>
                  <a:pt x="0" y="176"/>
                  <a:pt x="12" y="88"/>
                  <a:pt x="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0481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3205080"/>
            <a:ext cx="914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滤波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800600" y="2290680"/>
            <a:ext cx="533520" cy="533520"/>
          </a:xfrm>
          <a:prstGeom prst="lightningBol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rot="10870800">
            <a:off x="4647960" y="2595240"/>
            <a:ext cx="533160" cy="533520"/>
          </a:xfrm>
          <a:prstGeom prst="lightningBolt">
            <a:avLst/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676520" y="4267080"/>
            <a:ext cx="4114800" cy="1524240"/>
          </a:xfrm>
          <a:custGeom>
            <a:avLst/>
            <a:gdLst/>
            <a:ahLst/>
            <a:rect l="l" t="t" r="r" b="b"/>
            <a:pathLst>
              <a:path w="2592" h="1248">
                <a:moveTo>
                  <a:pt x="2496" y="624"/>
                </a:moveTo>
                <a:lnTo>
                  <a:pt x="2592" y="624"/>
                </a:lnTo>
                <a:lnTo>
                  <a:pt x="2592" y="0"/>
                </a:lnTo>
                <a:lnTo>
                  <a:pt x="0" y="0"/>
                </a:lnTo>
                <a:lnTo>
                  <a:pt x="0" y="1248"/>
                </a:lnTo>
                <a:lnTo>
                  <a:pt x="2592" y="1248"/>
                </a:lnTo>
                <a:lnTo>
                  <a:pt x="2592" y="768"/>
                </a:lnTo>
                <a:lnTo>
                  <a:pt x="2496" y="768"/>
                </a:lnTo>
                <a:lnTo>
                  <a:pt x="2496" y="1152"/>
                </a:lnTo>
                <a:lnTo>
                  <a:pt x="96" y="1152"/>
                </a:lnTo>
                <a:lnTo>
                  <a:pt x="96" y="96"/>
                </a:lnTo>
                <a:lnTo>
                  <a:pt x="2496" y="96"/>
                </a:lnTo>
                <a:lnTo>
                  <a:pt x="2496" y="624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133720" y="4495680"/>
            <a:ext cx="2133360" cy="838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495680" y="5181480"/>
            <a:ext cx="914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滤波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572000" y="464832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410080" y="5029200"/>
            <a:ext cx="2057400" cy="774720"/>
          </a:xfrm>
          <a:custGeom>
            <a:avLst/>
            <a:gdLst/>
            <a:ahLst/>
            <a:rect l="l" t="t" r="r" b="b"/>
            <a:pathLst>
              <a:path w="1296" h="632">
                <a:moveTo>
                  <a:pt x="0" y="368"/>
                </a:moveTo>
                <a:cubicBezTo>
                  <a:pt x="20" y="364"/>
                  <a:pt x="40" y="360"/>
                  <a:pt x="48" y="320"/>
                </a:cubicBezTo>
                <a:cubicBezTo>
                  <a:pt x="56" y="280"/>
                  <a:pt x="24" y="168"/>
                  <a:pt x="48" y="128"/>
                </a:cubicBezTo>
                <a:cubicBezTo>
                  <a:pt x="72" y="88"/>
                  <a:pt x="136" y="88"/>
                  <a:pt x="192" y="80"/>
                </a:cubicBezTo>
                <a:cubicBezTo>
                  <a:pt x="248" y="72"/>
                  <a:pt x="248" y="0"/>
                  <a:pt x="384" y="80"/>
                </a:cubicBezTo>
                <a:cubicBezTo>
                  <a:pt x="520" y="160"/>
                  <a:pt x="856" y="488"/>
                  <a:pt x="1008" y="560"/>
                </a:cubicBezTo>
                <a:cubicBezTo>
                  <a:pt x="1160" y="632"/>
                  <a:pt x="1228" y="572"/>
                  <a:pt x="1296" y="5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257800" y="4952880"/>
            <a:ext cx="38088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188" y="60"/>
                  <a:pt x="240" y="10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172200" y="2209680"/>
            <a:ext cx="1600200" cy="457200"/>
          </a:xfrm>
          <a:prstGeom prst="wedgeRoundRectCallout">
            <a:avLst>
              <a:gd name="adj1" fmla="val -105356"/>
              <a:gd name="adj2" fmla="val 16805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入线过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172200" y="4114800"/>
            <a:ext cx="1752480" cy="457200"/>
          </a:xfrm>
          <a:prstGeom prst="wedgeRoundRectCallout">
            <a:avLst>
              <a:gd name="adj1" fmla="val -91393"/>
              <a:gd name="adj2" fmla="val 1329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入、输出耦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6668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191120" y="469908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240" y="16"/>
                </a:moveTo>
                <a:cubicBezTo>
                  <a:pt x="188" y="8"/>
                  <a:pt x="136" y="0"/>
                  <a:pt x="96" y="16"/>
                </a:cubicBezTo>
                <a:cubicBezTo>
                  <a:pt x="56" y="32"/>
                  <a:pt x="28" y="72"/>
                  <a:pt x="0" y="112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292640" y="4724280"/>
            <a:ext cx="1130400" cy="609840"/>
          </a:xfrm>
          <a:custGeom>
            <a:avLst/>
            <a:gdLst/>
            <a:ahLst/>
            <a:rect l="l" t="t" r="r" b="b"/>
            <a:pathLst>
              <a:path w="712" h="384">
                <a:moveTo>
                  <a:pt x="128" y="384"/>
                </a:moveTo>
                <a:cubicBezTo>
                  <a:pt x="108" y="376"/>
                  <a:pt x="88" y="368"/>
                  <a:pt x="80" y="336"/>
                </a:cubicBezTo>
                <a:cubicBezTo>
                  <a:pt x="72" y="304"/>
                  <a:pt x="0" y="208"/>
                  <a:pt x="80" y="192"/>
                </a:cubicBezTo>
                <a:cubicBezTo>
                  <a:pt x="160" y="176"/>
                  <a:pt x="456" y="264"/>
                  <a:pt x="560" y="240"/>
                </a:cubicBezTo>
                <a:cubicBezTo>
                  <a:pt x="664" y="216"/>
                  <a:pt x="696" y="88"/>
                  <a:pt x="704" y="48"/>
                </a:cubicBezTo>
                <a:cubicBezTo>
                  <a:pt x="712" y="8"/>
                  <a:pt x="660" y="4"/>
                  <a:pt x="60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源线滤波器的错误安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1981080" y="2057400"/>
            <a:ext cx="4572000" cy="2362320"/>
          </a:xfrm>
          <a:custGeom>
            <a:avLst/>
            <a:gdLst/>
            <a:ahLst/>
            <a:rect l="l" t="t" r="r" b="b"/>
            <a:pathLst>
              <a:path w="2592" h="1248">
                <a:moveTo>
                  <a:pt x="2496" y="624"/>
                </a:moveTo>
                <a:lnTo>
                  <a:pt x="2592" y="624"/>
                </a:lnTo>
                <a:lnTo>
                  <a:pt x="2592" y="0"/>
                </a:lnTo>
                <a:lnTo>
                  <a:pt x="0" y="0"/>
                </a:lnTo>
                <a:lnTo>
                  <a:pt x="0" y="1248"/>
                </a:lnTo>
                <a:lnTo>
                  <a:pt x="2592" y="1248"/>
                </a:lnTo>
                <a:lnTo>
                  <a:pt x="2592" y="768"/>
                </a:lnTo>
                <a:lnTo>
                  <a:pt x="2496" y="768"/>
                </a:lnTo>
                <a:lnTo>
                  <a:pt x="2496" y="1152"/>
                </a:lnTo>
                <a:lnTo>
                  <a:pt x="96" y="1152"/>
                </a:lnTo>
                <a:lnTo>
                  <a:pt x="96" y="96"/>
                </a:lnTo>
                <a:lnTo>
                  <a:pt x="2496" y="96"/>
                </a:lnTo>
                <a:lnTo>
                  <a:pt x="2496" y="624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800600" y="3733920"/>
            <a:ext cx="1143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滤波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943600" y="3352680"/>
            <a:ext cx="1828800" cy="838440"/>
          </a:xfrm>
          <a:custGeom>
            <a:avLst/>
            <a:gdLst/>
            <a:ahLst/>
            <a:rect l="l" t="t" r="r" b="b"/>
            <a:pathLst>
              <a:path w="1152" h="528">
                <a:moveTo>
                  <a:pt x="0" y="312"/>
                </a:moveTo>
                <a:cubicBezTo>
                  <a:pt x="40" y="308"/>
                  <a:pt x="80" y="304"/>
                  <a:pt x="96" y="264"/>
                </a:cubicBezTo>
                <a:cubicBezTo>
                  <a:pt x="112" y="224"/>
                  <a:pt x="80" y="112"/>
                  <a:pt x="96" y="72"/>
                </a:cubicBezTo>
                <a:cubicBezTo>
                  <a:pt x="112" y="32"/>
                  <a:pt x="160" y="32"/>
                  <a:pt x="192" y="24"/>
                </a:cubicBezTo>
                <a:cubicBezTo>
                  <a:pt x="224" y="16"/>
                  <a:pt x="240" y="16"/>
                  <a:pt x="288" y="24"/>
                </a:cubicBezTo>
                <a:cubicBezTo>
                  <a:pt x="336" y="32"/>
                  <a:pt x="416" y="0"/>
                  <a:pt x="480" y="72"/>
                </a:cubicBezTo>
                <a:cubicBezTo>
                  <a:pt x="544" y="144"/>
                  <a:pt x="560" y="384"/>
                  <a:pt x="672" y="456"/>
                </a:cubicBezTo>
                <a:cubicBezTo>
                  <a:pt x="784" y="528"/>
                  <a:pt x="968" y="516"/>
                  <a:pt x="1152" y="50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124080" y="3809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4038480" y="3886200"/>
            <a:ext cx="762120" cy="7632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48"/>
                </a:moveTo>
                <a:cubicBezTo>
                  <a:pt x="36" y="24"/>
                  <a:pt x="72" y="0"/>
                  <a:pt x="96" y="0"/>
                </a:cubicBezTo>
                <a:cubicBezTo>
                  <a:pt x="120" y="0"/>
                  <a:pt x="128" y="40"/>
                  <a:pt x="144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133720" y="4191120"/>
            <a:ext cx="4267080" cy="7596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895480" y="4648320"/>
            <a:ext cx="1143000" cy="457200"/>
          </a:xfrm>
          <a:prstGeom prst="wedgeRoundRectCallout">
            <a:avLst>
              <a:gd name="adj1" fmla="val 130416"/>
              <a:gd name="adj2" fmla="val -139583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绝缘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438280" y="2743200"/>
            <a:ext cx="3200400" cy="762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4290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371600" y="5486400"/>
            <a:ext cx="6934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滤波器通过细线接地，高频效果很差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943600" y="3873600"/>
            <a:ext cx="457200" cy="17784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56"/>
                </a:moveTo>
                <a:cubicBezTo>
                  <a:pt x="36" y="84"/>
                  <a:pt x="72" y="112"/>
                  <a:pt x="96" y="104"/>
                </a:cubicBezTo>
                <a:cubicBezTo>
                  <a:pt x="120" y="96"/>
                  <a:pt x="112" y="16"/>
                  <a:pt x="144" y="8"/>
                </a:cubicBezTo>
                <a:cubicBezTo>
                  <a:pt x="176" y="0"/>
                  <a:pt x="232" y="28"/>
                  <a:pt x="28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715000" y="4724280"/>
            <a:ext cx="1371600" cy="381240"/>
          </a:xfrm>
          <a:prstGeom prst="wedgeRoundRectCallout">
            <a:avLst>
              <a:gd name="adj1" fmla="val -16666"/>
              <a:gd name="adj2" fmla="val -237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地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943600" y="3962520"/>
            <a:ext cx="763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19844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滤波器的正确安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8" name=""/>
          <p:cNvSpPr/>
          <p:nvPr/>
        </p:nvSpPr>
        <p:spPr>
          <a:xfrm>
            <a:off x="762120" y="2666880"/>
            <a:ext cx="3116160" cy="1981440"/>
          </a:xfrm>
          <a:custGeom>
            <a:avLst/>
            <a:gdLst/>
            <a:ahLst/>
            <a:rect l="l" t="t" r="r" b="b"/>
            <a:pathLst>
              <a:path w="2592" h="1248">
                <a:moveTo>
                  <a:pt x="2496" y="624"/>
                </a:moveTo>
                <a:lnTo>
                  <a:pt x="2592" y="624"/>
                </a:lnTo>
                <a:lnTo>
                  <a:pt x="2592" y="0"/>
                </a:lnTo>
                <a:lnTo>
                  <a:pt x="0" y="0"/>
                </a:lnTo>
                <a:lnTo>
                  <a:pt x="0" y="1248"/>
                </a:lnTo>
                <a:lnTo>
                  <a:pt x="2592" y="1248"/>
                </a:lnTo>
                <a:lnTo>
                  <a:pt x="2592" y="768"/>
                </a:lnTo>
                <a:lnTo>
                  <a:pt x="2496" y="768"/>
                </a:lnTo>
                <a:lnTo>
                  <a:pt x="2496" y="1152"/>
                </a:lnTo>
                <a:lnTo>
                  <a:pt x="96" y="1152"/>
                </a:lnTo>
                <a:lnTo>
                  <a:pt x="96" y="96"/>
                </a:lnTo>
                <a:lnTo>
                  <a:pt x="2496" y="96"/>
                </a:lnTo>
                <a:lnTo>
                  <a:pt x="2496" y="624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344760" y="3505320"/>
            <a:ext cx="3812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887560" y="4191120"/>
            <a:ext cx="457200" cy="17784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96"/>
                </a:moveTo>
                <a:cubicBezTo>
                  <a:pt x="56" y="104"/>
                  <a:pt x="112" y="112"/>
                  <a:pt x="144" y="96"/>
                </a:cubicBezTo>
                <a:cubicBezTo>
                  <a:pt x="176" y="80"/>
                  <a:pt x="168" y="0"/>
                  <a:pt x="192" y="0"/>
                </a:cubicBezTo>
                <a:cubicBezTo>
                  <a:pt x="216" y="0"/>
                  <a:pt x="264" y="80"/>
                  <a:pt x="288" y="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066680" y="3048120"/>
            <a:ext cx="1820880" cy="83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5238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2120" y="5213520"/>
            <a:ext cx="2743200" cy="8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滤波器直接接地尽量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入、输出线隔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733920" y="3733920"/>
            <a:ext cx="393480" cy="1066680"/>
          </a:xfrm>
          <a:custGeom>
            <a:avLst/>
            <a:gdLst/>
            <a:ahLst/>
            <a:rect l="l" t="t" r="r" b="b"/>
            <a:pathLst>
              <a:path w="248" h="672">
                <a:moveTo>
                  <a:pt x="0" y="0"/>
                </a:moveTo>
                <a:cubicBezTo>
                  <a:pt x="52" y="0"/>
                  <a:pt x="104" y="0"/>
                  <a:pt x="144" y="48"/>
                </a:cubicBezTo>
                <a:cubicBezTo>
                  <a:pt x="184" y="96"/>
                  <a:pt x="232" y="208"/>
                  <a:pt x="240" y="288"/>
                </a:cubicBezTo>
                <a:cubicBezTo>
                  <a:pt x="248" y="368"/>
                  <a:pt x="192" y="464"/>
                  <a:pt x="192" y="528"/>
                </a:cubicBezTo>
                <a:cubicBezTo>
                  <a:pt x="192" y="592"/>
                  <a:pt x="216" y="632"/>
                  <a:pt x="240" y="67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113440" y="2666880"/>
            <a:ext cx="3116160" cy="1981440"/>
          </a:xfrm>
          <a:custGeom>
            <a:avLst/>
            <a:gdLst/>
            <a:ahLst/>
            <a:rect l="l" t="t" r="r" b="b"/>
            <a:pathLst>
              <a:path w="2592" h="1248">
                <a:moveTo>
                  <a:pt x="2496" y="624"/>
                </a:moveTo>
                <a:lnTo>
                  <a:pt x="2592" y="624"/>
                </a:lnTo>
                <a:lnTo>
                  <a:pt x="2592" y="0"/>
                </a:lnTo>
                <a:lnTo>
                  <a:pt x="0" y="0"/>
                </a:lnTo>
                <a:lnTo>
                  <a:pt x="0" y="1248"/>
                </a:lnTo>
                <a:lnTo>
                  <a:pt x="2592" y="1248"/>
                </a:lnTo>
                <a:lnTo>
                  <a:pt x="2592" y="768"/>
                </a:lnTo>
                <a:lnTo>
                  <a:pt x="2496" y="768"/>
                </a:lnTo>
                <a:lnTo>
                  <a:pt x="2496" y="1152"/>
                </a:lnTo>
                <a:lnTo>
                  <a:pt x="96" y="1152"/>
                </a:lnTo>
                <a:lnTo>
                  <a:pt x="96" y="96"/>
                </a:lnTo>
                <a:lnTo>
                  <a:pt x="2496" y="96"/>
                </a:lnTo>
                <a:lnTo>
                  <a:pt x="2496" y="624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486400" y="43434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010280" y="4114800"/>
            <a:ext cx="2286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315200" y="4191120"/>
            <a:ext cx="7632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0" y="4191120"/>
            <a:ext cx="7632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772400" y="3581280"/>
            <a:ext cx="3049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8077320" y="3695760"/>
            <a:ext cx="761760" cy="876240"/>
          </a:xfrm>
          <a:custGeom>
            <a:avLst/>
            <a:gdLst/>
            <a:ahLst/>
            <a:rect l="l" t="t" r="r" b="b"/>
            <a:pathLst>
              <a:path w="480" h="552">
                <a:moveTo>
                  <a:pt x="0" y="24"/>
                </a:moveTo>
                <a:cubicBezTo>
                  <a:pt x="56" y="12"/>
                  <a:pt x="112" y="0"/>
                  <a:pt x="144" y="24"/>
                </a:cubicBezTo>
                <a:cubicBezTo>
                  <a:pt x="176" y="48"/>
                  <a:pt x="160" y="88"/>
                  <a:pt x="192" y="168"/>
                </a:cubicBezTo>
                <a:cubicBezTo>
                  <a:pt x="224" y="248"/>
                  <a:pt x="304" y="456"/>
                  <a:pt x="336" y="504"/>
                </a:cubicBezTo>
                <a:cubicBezTo>
                  <a:pt x="368" y="552"/>
                  <a:pt x="360" y="456"/>
                  <a:pt x="384" y="456"/>
                </a:cubicBezTo>
                <a:cubicBezTo>
                  <a:pt x="408" y="456"/>
                  <a:pt x="444" y="480"/>
                  <a:pt x="480" y="50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467480" y="365760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192" y="0"/>
                </a:moveTo>
                <a:cubicBezTo>
                  <a:pt x="152" y="0"/>
                  <a:pt x="112" y="0"/>
                  <a:pt x="96" y="48"/>
                </a:cubicBezTo>
                <a:cubicBezTo>
                  <a:pt x="80" y="96"/>
                  <a:pt x="112" y="224"/>
                  <a:pt x="96" y="288"/>
                </a:cubicBezTo>
                <a:cubicBezTo>
                  <a:pt x="80" y="352"/>
                  <a:pt x="40" y="392"/>
                  <a:pt x="0" y="43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391520" y="3886200"/>
            <a:ext cx="38088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236" y="48"/>
                  <a:pt x="232" y="96"/>
                  <a:pt x="192" y="144"/>
                </a:cubicBezTo>
                <a:cubicBezTo>
                  <a:pt x="152" y="192"/>
                  <a:pt x="76" y="240"/>
                  <a:pt x="0" y="28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5181480"/>
            <a:ext cx="3124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滤波器安装在线路板上时，在电源线入口处增加一只高频共模滤波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19920" y="3962520"/>
            <a:ext cx="30456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477120" y="4191120"/>
            <a:ext cx="7596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629400" y="3962520"/>
            <a:ext cx="763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057400" y="4100400"/>
            <a:ext cx="8380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电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320840" y="3809880"/>
            <a:ext cx="736560" cy="495360"/>
          </a:xfrm>
          <a:custGeom>
            <a:avLst/>
            <a:gdLst/>
            <a:ahLst/>
            <a:rect l="l" t="t" r="r" b="b"/>
            <a:pathLst>
              <a:path w="464" h="312">
                <a:moveTo>
                  <a:pt x="464" y="288"/>
                </a:moveTo>
                <a:cubicBezTo>
                  <a:pt x="380" y="300"/>
                  <a:pt x="296" y="312"/>
                  <a:pt x="224" y="288"/>
                </a:cubicBezTo>
                <a:cubicBezTo>
                  <a:pt x="152" y="264"/>
                  <a:pt x="64" y="192"/>
                  <a:pt x="32" y="144"/>
                </a:cubicBezTo>
                <a:cubicBezTo>
                  <a:pt x="0" y="96"/>
                  <a:pt x="16" y="48"/>
                  <a:pt x="32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486400" y="2971800"/>
            <a:ext cx="15238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8672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21160" y="3581280"/>
            <a:ext cx="317520" cy="6858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152" y="480"/>
                </a:moveTo>
                <a:cubicBezTo>
                  <a:pt x="164" y="432"/>
                  <a:pt x="176" y="384"/>
                  <a:pt x="152" y="336"/>
                </a:cubicBezTo>
                <a:cubicBezTo>
                  <a:pt x="128" y="288"/>
                  <a:pt x="0" y="248"/>
                  <a:pt x="8" y="192"/>
                </a:cubicBezTo>
                <a:cubicBezTo>
                  <a:pt x="16" y="136"/>
                  <a:pt x="108" y="68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486400" y="419112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781680" y="358128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12" y="56"/>
                  <a:pt x="24" y="112"/>
                  <a:pt x="48" y="144"/>
                </a:cubicBezTo>
                <a:cubicBezTo>
                  <a:pt x="72" y="176"/>
                  <a:pt x="120" y="168"/>
                  <a:pt x="144" y="192"/>
                </a:cubicBezTo>
                <a:cubicBezTo>
                  <a:pt x="168" y="216"/>
                  <a:pt x="180" y="252"/>
                  <a:pt x="192" y="28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086600" y="342900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cubicBezTo>
                  <a:pt x="12" y="84"/>
                  <a:pt x="24" y="168"/>
                  <a:pt x="48" y="192"/>
                </a:cubicBezTo>
                <a:cubicBezTo>
                  <a:pt x="72" y="216"/>
                  <a:pt x="112" y="120"/>
                  <a:pt x="144" y="144"/>
                </a:cubicBezTo>
                <a:cubicBezTo>
                  <a:pt x="176" y="168"/>
                  <a:pt x="216" y="304"/>
                  <a:pt x="240" y="33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238880" y="4343400"/>
            <a:ext cx="763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705720" y="4038480"/>
            <a:ext cx="990360" cy="38124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16292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滤波电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H="1" flipV="1">
            <a:off x="7772040" y="4267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这样试一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1" name="000625r" descr=""/>
          <p:cNvPicPr/>
          <p:nvPr/>
        </p:nvPicPr>
        <p:blipFill>
          <a:blip r:embed="rId1"/>
          <a:stretch/>
        </p:blipFill>
        <p:spPr>
          <a:xfrm>
            <a:off x="838080" y="1967040"/>
            <a:ext cx="7543800" cy="4738680"/>
          </a:xfrm>
          <a:prstGeom prst="rect">
            <a:avLst/>
          </a:prstGeom>
          <a:ln w="0">
            <a:noFill/>
          </a:ln>
        </p:spPr>
      </p:pic>
      <p:sp>
        <p:nvSpPr>
          <p:cNvPr id="2002" name=""/>
          <p:cNvSpPr/>
          <p:nvPr/>
        </p:nvSpPr>
        <p:spPr>
          <a:xfrm>
            <a:off x="609480" y="1905120"/>
            <a:ext cx="8153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09480" y="4343400"/>
            <a:ext cx="1295640" cy="6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机箱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257800" y="2971800"/>
            <a:ext cx="1295280" cy="6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机箱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09480" y="5486400"/>
            <a:ext cx="1295640" cy="6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屏蔽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低通滤波器对脉冲干扰的抑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838080" y="20570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38080" y="36576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838080" y="45716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838080" y="2514600"/>
            <a:ext cx="1905120" cy="1143000"/>
          </a:xfrm>
          <a:custGeom>
            <a:avLst/>
            <a:gdLst/>
            <a:ahLst/>
            <a:rect l="l" t="t" r="r" b="b"/>
            <a:pathLst>
              <a:path w="1200" h="720">
                <a:moveTo>
                  <a:pt x="0" y="0"/>
                </a:moveTo>
                <a:lnTo>
                  <a:pt x="672" y="0"/>
                </a:lnTo>
                <a:lnTo>
                  <a:pt x="1056" y="336"/>
                </a:lnTo>
                <a:lnTo>
                  <a:pt x="1200" y="7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80880" y="1889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124080" y="3733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80880" y="4327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124080" y="5791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838080" y="5257800"/>
            <a:ext cx="2362320" cy="91440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lnTo>
                  <a:pt x="288" y="576"/>
                </a:lnTo>
                <a:lnTo>
                  <a:pt x="528" y="0"/>
                </a:lnTo>
                <a:lnTo>
                  <a:pt x="115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962520" y="3429000"/>
            <a:ext cx="53316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200400" y="2362320"/>
            <a:ext cx="990720" cy="990360"/>
          </a:xfrm>
          <a:custGeom>
            <a:avLst/>
            <a:gdLst/>
            <a:ahLst/>
            <a:rect l="l" t="t" r="r" b="b"/>
            <a:pathLst>
              <a:path w="1056" h="392">
                <a:moveTo>
                  <a:pt x="0" y="56"/>
                </a:moveTo>
                <a:cubicBezTo>
                  <a:pt x="248" y="28"/>
                  <a:pt x="496" y="0"/>
                  <a:pt x="672" y="56"/>
                </a:cubicBezTo>
                <a:cubicBezTo>
                  <a:pt x="848" y="112"/>
                  <a:pt x="952" y="252"/>
                  <a:pt x="1056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429000" y="4114800"/>
            <a:ext cx="762120" cy="1600200"/>
          </a:xfrm>
          <a:custGeom>
            <a:avLst/>
            <a:gdLst/>
            <a:ahLst/>
            <a:rect l="l" t="t" r="r" b="b"/>
            <a:pathLst>
              <a:path w="672" h="560">
                <a:moveTo>
                  <a:pt x="0" y="480"/>
                </a:moveTo>
                <a:cubicBezTo>
                  <a:pt x="136" y="520"/>
                  <a:pt x="272" y="560"/>
                  <a:pt x="384" y="480"/>
                </a:cubicBezTo>
                <a:cubicBezTo>
                  <a:pt x="496" y="400"/>
                  <a:pt x="584" y="200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64832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5410080" y="23619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10080" y="43434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219320" y="6095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400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17220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98108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410080" y="2895480"/>
            <a:ext cx="2057400" cy="1447920"/>
          </a:xfrm>
          <a:custGeom>
            <a:avLst/>
            <a:gdLst/>
            <a:ahLst/>
            <a:rect l="l" t="t" r="r" b="b"/>
            <a:pathLst>
              <a:path w="1296" h="912">
                <a:moveTo>
                  <a:pt x="0" y="0"/>
                </a:moveTo>
                <a:lnTo>
                  <a:pt x="624" y="0"/>
                </a:lnTo>
                <a:lnTo>
                  <a:pt x="912" y="288"/>
                </a:lnTo>
                <a:lnTo>
                  <a:pt x="960" y="432"/>
                </a:lnTo>
                <a:lnTo>
                  <a:pt x="1200" y="672"/>
                </a:lnTo>
                <a:lnTo>
                  <a:pt x="1296" y="912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029200" y="2209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8153280" y="4267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676520" y="2133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脉冲频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209680" y="48610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滤波器特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400800" y="2362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输出脉冲频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447920" y="2666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28600" y="233028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0" lang="zh-CN" sz="1600" spc="-1" strike="noStrike" baseline="-25000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800600" y="27115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0" lang="zh-CN" sz="1600" spc="-1" strike="noStrike" baseline="-25000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410080" y="2895480"/>
            <a:ext cx="2438640" cy="144792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0"/>
                </a:moveTo>
                <a:lnTo>
                  <a:pt x="1008" y="0"/>
                </a:lnTo>
                <a:lnTo>
                  <a:pt x="1296" y="336"/>
                </a:lnTo>
                <a:lnTo>
                  <a:pt x="1536" y="912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87692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相当于脉冲的上升时间和脉宽变大，而幅度没有减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低通滤波器抑制脉冲的效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2544840"/>
            <a:ext cx="3505320" cy="3093840"/>
          </a:xfrm>
          <a:prstGeom prst="rect">
            <a:avLst/>
          </a:prstGeom>
          <a:ln w="0">
            <a:noFill/>
          </a:ln>
        </p:spPr>
      </p:pic>
      <p:pic>
        <p:nvPicPr>
          <p:cNvPr id="2040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262480" y="2428920"/>
            <a:ext cx="3576600" cy="3286080"/>
          </a:xfrm>
          <a:prstGeom prst="rect">
            <a:avLst/>
          </a:prstGeom>
          <a:ln w="0">
            <a:noFill/>
          </a:ln>
        </p:spPr>
      </p:pic>
      <p:sp>
        <p:nvSpPr>
          <p:cNvPr id="2041" name=""/>
          <p:cNvSpPr/>
          <p:nvPr/>
        </p:nvSpPr>
        <p:spPr>
          <a:xfrm>
            <a:off x="3505320" y="411480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28960" y="3413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低通滤波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抑制脉冲干扰的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1676520" y="22096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495680" y="2057400"/>
            <a:ext cx="20574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514600" y="2514600"/>
            <a:ext cx="152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59092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676520" y="32767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59092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553080" y="32767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553080" y="22096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209680" y="25909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0" y="0"/>
                </a:moveTo>
                <a:lnTo>
                  <a:pt x="48" y="96"/>
                </a:lnTo>
                <a:lnTo>
                  <a:pt x="432" y="96"/>
                </a:lnTo>
                <a:lnTo>
                  <a:pt x="480" y="19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80880" y="2362320"/>
            <a:ext cx="1295640" cy="76176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32"/>
                </a:moveTo>
                <a:lnTo>
                  <a:pt x="192" y="432"/>
                </a:lnTo>
                <a:lnTo>
                  <a:pt x="288" y="0"/>
                </a:lnTo>
                <a:lnTo>
                  <a:pt x="480" y="0"/>
                </a:lnTo>
                <a:lnTo>
                  <a:pt x="576" y="480"/>
                </a:lnTo>
                <a:lnTo>
                  <a:pt x="816" y="48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048120" y="2819520"/>
            <a:ext cx="1295280" cy="15228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32"/>
                </a:moveTo>
                <a:lnTo>
                  <a:pt x="192" y="432"/>
                </a:lnTo>
                <a:lnTo>
                  <a:pt x="288" y="0"/>
                </a:lnTo>
                <a:lnTo>
                  <a:pt x="480" y="0"/>
                </a:lnTo>
                <a:lnTo>
                  <a:pt x="576" y="480"/>
                </a:lnTo>
                <a:lnTo>
                  <a:pt x="816" y="480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181480" y="2362320"/>
            <a:ext cx="914400" cy="761760"/>
          </a:xfrm>
          <a:custGeom>
            <a:avLst/>
            <a:gdLst/>
            <a:ahLst/>
            <a:rect l="l" t="t" r="r" b="b"/>
            <a:pathLst>
              <a:path w="1008" h="480">
                <a:moveTo>
                  <a:pt x="0" y="480"/>
                </a:moveTo>
                <a:lnTo>
                  <a:pt x="240" y="480"/>
                </a:lnTo>
                <a:lnTo>
                  <a:pt x="576" y="0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858000" y="2806560"/>
            <a:ext cx="1295280" cy="343080"/>
          </a:xfrm>
          <a:custGeom>
            <a:avLst/>
            <a:gdLst/>
            <a:ahLst/>
            <a:rect l="l" t="t" r="r" b="b"/>
            <a:pathLst>
              <a:path w="816" h="216">
                <a:moveTo>
                  <a:pt x="0" y="200"/>
                </a:moveTo>
                <a:cubicBezTo>
                  <a:pt x="64" y="192"/>
                  <a:pt x="128" y="184"/>
                  <a:pt x="192" y="152"/>
                </a:cubicBezTo>
                <a:cubicBezTo>
                  <a:pt x="256" y="120"/>
                  <a:pt x="320" y="16"/>
                  <a:pt x="384" y="8"/>
                </a:cubicBezTo>
                <a:cubicBezTo>
                  <a:pt x="448" y="0"/>
                  <a:pt x="528" y="72"/>
                  <a:pt x="576" y="104"/>
                </a:cubicBezTo>
                <a:cubicBezTo>
                  <a:pt x="624" y="136"/>
                  <a:pt x="632" y="184"/>
                  <a:pt x="672" y="200"/>
                </a:cubicBezTo>
                <a:cubicBezTo>
                  <a:pt x="712" y="216"/>
                  <a:pt x="764" y="208"/>
                  <a:pt x="816" y="2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1676520" y="3580920"/>
            <a:ext cx="0" cy="266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676520" y="62485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676520" y="4114800"/>
            <a:ext cx="4267080" cy="213372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0"/>
                </a:moveTo>
                <a:lnTo>
                  <a:pt x="384" y="0"/>
                </a:lnTo>
                <a:lnTo>
                  <a:pt x="768" y="384"/>
                </a:lnTo>
                <a:lnTo>
                  <a:pt x="912" y="72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62120" y="396252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V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</a:rPr>
              <a:t>IP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057400" y="5105520"/>
            <a:ext cx="838080" cy="1143000"/>
          </a:xfrm>
          <a:custGeom>
            <a:avLst/>
            <a:gdLst/>
            <a:ahLst/>
            <a:rect l="l" t="t" r="r" b="b"/>
            <a:pathLst>
              <a:path w="768" h="720">
                <a:moveTo>
                  <a:pt x="0" y="0"/>
                </a:moveTo>
                <a:lnTo>
                  <a:pt x="288" y="0"/>
                </a:lnTo>
                <a:lnTo>
                  <a:pt x="672" y="432"/>
                </a:lnTo>
                <a:lnTo>
                  <a:pt x="720" y="576"/>
                </a:lnTo>
                <a:lnTo>
                  <a:pt x="768" y="720"/>
                </a:ln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722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瞬态抑制器件与低通滤波器一起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752480" y="5105520"/>
            <a:ext cx="3505320" cy="1143000"/>
          </a:xfrm>
          <a:custGeom>
            <a:avLst/>
            <a:gdLst/>
            <a:ahLst/>
            <a:rect l="l" t="t" r="r" b="b"/>
            <a:pathLst>
              <a:path w="1824" h="720">
                <a:moveTo>
                  <a:pt x="0" y="0"/>
                </a:moveTo>
                <a:lnTo>
                  <a:pt x="864" y="0"/>
                </a:lnTo>
                <a:lnTo>
                  <a:pt x="1824" y="720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038480" y="4098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脉冲干扰频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133720" y="4648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Tahoma"/>
              </a:rPr>
              <a:t>经过瞬态抑制频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743200" y="5775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低通滤波后频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共模和差模电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6040440" y="2855880"/>
            <a:ext cx="1324080" cy="265320"/>
          </a:xfrm>
          <a:custGeom>
            <a:avLst/>
            <a:gdLst/>
            <a:ahLst/>
            <a:rect l="l" t="t" r="r" b="b"/>
            <a:pathLst>
              <a:path w="1440" h="312">
                <a:moveTo>
                  <a:pt x="0" y="312"/>
                </a:moveTo>
                <a:lnTo>
                  <a:pt x="180" y="312"/>
                </a:lnTo>
                <a:lnTo>
                  <a:pt x="360" y="0"/>
                </a:lnTo>
                <a:lnTo>
                  <a:pt x="540" y="312"/>
                </a:lnTo>
                <a:lnTo>
                  <a:pt x="720" y="156"/>
                </a:lnTo>
                <a:lnTo>
                  <a:pt x="900" y="312"/>
                </a:lnTo>
                <a:lnTo>
                  <a:pt x="1080" y="312"/>
                </a:lnTo>
                <a:lnTo>
                  <a:pt x="1440" y="3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40080" y="2970360"/>
            <a:ext cx="220680" cy="18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1793520" y="2000160"/>
            <a:ext cx="460440" cy="57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33440" y="2290680"/>
            <a:ext cx="231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607640" y="2000880"/>
            <a:ext cx="460440" cy="573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68560" y="2435400"/>
            <a:ext cx="2647800" cy="399960"/>
          </a:xfrm>
          <a:custGeom>
            <a:avLst/>
            <a:gdLst/>
            <a:ahLst/>
            <a:rect l="l" t="t" r="r" b="b"/>
            <a:pathLst>
              <a:path w="2880" h="468">
                <a:moveTo>
                  <a:pt x="0" y="0"/>
                </a:moveTo>
                <a:lnTo>
                  <a:pt x="0" y="468"/>
                </a:lnTo>
                <a:lnTo>
                  <a:pt x="2880" y="468"/>
                </a:lnTo>
                <a:lnTo>
                  <a:pt x="28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06520" y="3448080"/>
            <a:ext cx="3640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71760" y="3448080"/>
            <a:ext cx="993240" cy="133200"/>
            <a:chOff x="1571760" y="3448080"/>
            <a:chExt cx="993240" cy="133200"/>
          </a:xfrm>
        </p:grpSpPr>
        <p:sp>
          <p:nvSpPr>
            <p:cNvPr id="215" name=""/>
            <p:cNvSpPr/>
            <p:nvPr/>
          </p:nvSpPr>
          <p:spPr>
            <a:xfrm>
              <a:off x="1571760" y="3448080"/>
              <a:ext cx="16560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92440" y="3448080"/>
              <a:ext cx="16560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68560" y="3448080"/>
              <a:ext cx="16560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9976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30600" y="3448080"/>
            <a:ext cx="992160" cy="133200"/>
            <a:chOff x="2730600" y="3448080"/>
            <a:chExt cx="992160" cy="133200"/>
          </a:xfrm>
        </p:grpSpPr>
        <p:sp>
          <p:nvSpPr>
            <p:cNvPr id="220" name=""/>
            <p:cNvSpPr/>
            <p:nvPr/>
          </p:nvSpPr>
          <p:spPr>
            <a:xfrm>
              <a:off x="273060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092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2668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752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889440" y="3448080"/>
            <a:ext cx="992160" cy="133200"/>
            <a:chOff x="3889440" y="3448080"/>
            <a:chExt cx="992160" cy="133200"/>
          </a:xfrm>
        </p:grpSpPr>
        <p:sp>
          <p:nvSpPr>
            <p:cNvPr id="225" name=""/>
            <p:cNvSpPr/>
            <p:nvPr/>
          </p:nvSpPr>
          <p:spPr>
            <a:xfrm>
              <a:off x="388944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0976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552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6360" y="3448080"/>
              <a:ext cx="1652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068560" y="2954160"/>
            <a:ext cx="330120" cy="266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33440" y="3182760"/>
            <a:ext cx="0" cy="265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5840" y="2890800"/>
            <a:ext cx="497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30600" y="2433600"/>
            <a:ext cx="1820880" cy="954000"/>
          </a:xfrm>
          <a:custGeom>
            <a:avLst/>
            <a:gdLst/>
            <a:ahLst/>
            <a:rect l="l" t="t" r="r" b="b"/>
            <a:pathLst>
              <a:path w="1710" h="988">
                <a:moveTo>
                  <a:pt x="0" y="26"/>
                </a:moveTo>
                <a:cubicBezTo>
                  <a:pt x="405" y="13"/>
                  <a:pt x="810" y="0"/>
                  <a:pt x="1080" y="26"/>
                </a:cubicBezTo>
                <a:cubicBezTo>
                  <a:pt x="1350" y="52"/>
                  <a:pt x="1530" y="52"/>
                  <a:pt x="1620" y="182"/>
                </a:cubicBezTo>
                <a:cubicBezTo>
                  <a:pt x="1710" y="312"/>
                  <a:pt x="1680" y="676"/>
                  <a:pt x="1620" y="806"/>
                </a:cubicBezTo>
                <a:cubicBezTo>
                  <a:pt x="1560" y="936"/>
                  <a:pt x="1410" y="936"/>
                  <a:pt x="1260" y="962"/>
                </a:cubicBezTo>
                <a:cubicBezTo>
                  <a:pt x="1110" y="988"/>
                  <a:pt x="915" y="975"/>
                  <a:pt x="720" y="96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30600" y="2943360"/>
            <a:ext cx="1488960" cy="311040"/>
          </a:xfrm>
          <a:custGeom>
            <a:avLst/>
            <a:gdLst/>
            <a:ahLst/>
            <a:rect l="l" t="t" r="r" b="b"/>
            <a:pathLst>
              <a:path w="1290" h="364">
                <a:moveTo>
                  <a:pt x="0" y="26"/>
                </a:moveTo>
                <a:cubicBezTo>
                  <a:pt x="345" y="13"/>
                  <a:pt x="690" y="0"/>
                  <a:pt x="900" y="26"/>
                </a:cubicBezTo>
                <a:cubicBezTo>
                  <a:pt x="1110" y="52"/>
                  <a:pt x="1230" y="130"/>
                  <a:pt x="1260" y="182"/>
                </a:cubicBezTo>
                <a:cubicBezTo>
                  <a:pt x="1290" y="234"/>
                  <a:pt x="1200" y="312"/>
                  <a:pt x="1080" y="338"/>
                </a:cubicBezTo>
                <a:cubicBezTo>
                  <a:pt x="960" y="364"/>
                  <a:pt x="750" y="351"/>
                  <a:pt x="540" y="3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40440" y="2057040"/>
            <a:ext cx="0" cy="11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40440" y="325440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40440" y="2324160"/>
            <a:ext cx="1324080" cy="264960"/>
          </a:xfrm>
          <a:custGeom>
            <a:avLst/>
            <a:gdLst/>
            <a:ahLst/>
            <a:rect l="l" t="t" r="r" b="b"/>
            <a:pathLst>
              <a:path w="1440" h="312">
                <a:moveTo>
                  <a:pt x="0" y="312"/>
                </a:moveTo>
                <a:lnTo>
                  <a:pt x="180" y="312"/>
                </a:lnTo>
                <a:lnTo>
                  <a:pt x="360" y="0"/>
                </a:lnTo>
                <a:lnTo>
                  <a:pt x="540" y="312"/>
                </a:lnTo>
                <a:lnTo>
                  <a:pt x="720" y="156"/>
                </a:lnTo>
                <a:lnTo>
                  <a:pt x="900" y="312"/>
                </a:lnTo>
                <a:lnTo>
                  <a:pt x="1080" y="312"/>
                </a:lnTo>
                <a:lnTo>
                  <a:pt x="1440" y="3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99280" y="2589120"/>
            <a:ext cx="0" cy="532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040080" y="2589120"/>
            <a:ext cx="166680" cy="1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40440" y="2489040"/>
            <a:ext cx="441360" cy="36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095880" y="2589120"/>
            <a:ext cx="441360" cy="36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372000" y="2589120"/>
            <a:ext cx="33012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372360" y="2589120"/>
            <a:ext cx="49680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537240" y="2589120"/>
            <a:ext cx="49680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702480" y="2589120"/>
            <a:ext cx="49680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702480" y="2722680"/>
            <a:ext cx="49680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868800" y="2855880"/>
            <a:ext cx="330120" cy="2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694480" y="3962520"/>
            <a:ext cx="0" cy="125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94480" y="5219640"/>
            <a:ext cx="154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94480" y="4241880"/>
            <a:ext cx="1234800" cy="279360"/>
          </a:xfrm>
          <a:custGeom>
            <a:avLst/>
            <a:gdLst/>
            <a:ahLst/>
            <a:rect l="l" t="t" r="r" b="b"/>
            <a:pathLst>
              <a:path w="1440" h="312">
                <a:moveTo>
                  <a:pt x="0" y="312"/>
                </a:moveTo>
                <a:lnTo>
                  <a:pt x="180" y="312"/>
                </a:lnTo>
                <a:lnTo>
                  <a:pt x="360" y="0"/>
                </a:lnTo>
                <a:lnTo>
                  <a:pt x="540" y="312"/>
                </a:lnTo>
                <a:lnTo>
                  <a:pt x="720" y="156"/>
                </a:lnTo>
                <a:lnTo>
                  <a:pt x="900" y="312"/>
                </a:lnTo>
                <a:lnTo>
                  <a:pt x="1080" y="312"/>
                </a:lnTo>
                <a:lnTo>
                  <a:pt x="1440" y="3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75560" y="4521240"/>
            <a:ext cx="0" cy="558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694480" y="4521240"/>
            <a:ext cx="155520" cy="13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694480" y="4416480"/>
            <a:ext cx="412560" cy="38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746680" y="4521240"/>
            <a:ext cx="411120" cy="38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49640" y="4521240"/>
            <a:ext cx="46188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849640" y="4521240"/>
            <a:ext cx="617400" cy="55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003720" y="4521240"/>
            <a:ext cx="617400" cy="55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157800" y="4521240"/>
            <a:ext cx="617760" cy="55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311880" y="4660920"/>
            <a:ext cx="46368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467400" y="4800600"/>
            <a:ext cx="30816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1707480" y="3936240"/>
            <a:ext cx="482400" cy="534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3080" y="4206960"/>
            <a:ext cx="21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4331520" y="3936240"/>
            <a:ext cx="482400" cy="534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9000" y="4359240"/>
            <a:ext cx="2470320" cy="720720"/>
          </a:xfrm>
          <a:custGeom>
            <a:avLst/>
            <a:gdLst/>
            <a:ahLst/>
            <a:rect l="l" t="t" r="r" b="b"/>
            <a:pathLst>
              <a:path w="2880" h="468">
                <a:moveTo>
                  <a:pt x="0" y="0"/>
                </a:moveTo>
                <a:lnTo>
                  <a:pt x="0" y="468"/>
                </a:lnTo>
                <a:lnTo>
                  <a:pt x="2880" y="468"/>
                </a:lnTo>
                <a:lnTo>
                  <a:pt x="28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5423040"/>
            <a:ext cx="339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25680" y="5423040"/>
            <a:ext cx="926640" cy="139680"/>
            <a:chOff x="1525680" y="5423040"/>
            <a:chExt cx="926640" cy="139680"/>
          </a:xfrm>
        </p:grpSpPr>
        <p:sp>
          <p:nvSpPr>
            <p:cNvPr id="266" name=""/>
            <p:cNvSpPr/>
            <p:nvPr/>
          </p:nvSpPr>
          <p:spPr>
            <a:xfrm>
              <a:off x="1525680" y="5423040"/>
              <a:ext cx="1544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31600" y="5423040"/>
              <a:ext cx="1544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89000" y="5423040"/>
              <a:ext cx="1544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98240" y="5423040"/>
              <a:ext cx="1540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606760" y="5423040"/>
            <a:ext cx="926640" cy="139680"/>
            <a:chOff x="2606760" y="5423040"/>
            <a:chExt cx="926640" cy="139680"/>
          </a:xfrm>
        </p:grpSpPr>
        <p:sp>
          <p:nvSpPr>
            <p:cNvPr id="271" name=""/>
            <p:cNvSpPr/>
            <p:nvPr/>
          </p:nvSpPr>
          <p:spPr>
            <a:xfrm>
              <a:off x="2606760" y="5423040"/>
              <a:ext cx="1544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2680" y="5423040"/>
              <a:ext cx="1544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70080" y="5423040"/>
              <a:ext cx="1544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79320" y="5423040"/>
              <a:ext cx="1540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687840" y="5423040"/>
            <a:ext cx="925560" cy="139680"/>
            <a:chOff x="3687840" y="5423040"/>
            <a:chExt cx="925560" cy="139680"/>
          </a:xfrm>
        </p:grpSpPr>
        <p:sp>
          <p:nvSpPr>
            <p:cNvPr id="276" name=""/>
            <p:cNvSpPr/>
            <p:nvPr/>
          </p:nvSpPr>
          <p:spPr>
            <a:xfrm>
              <a:off x="3687840" y="5423040"/>
              <a:ext cx="1540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93400" y="5423040"/>
              <a:ext cx="1540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0440" y="5423040"/>
              <a:ext cx="1540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59320" y="5423040"/>
              <a:ext cx="1540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143080" y="507996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24160" y="4308480"/>
            <a:ext cx="1903320" cy="698400"/>
          </a:xfrm>
          <a:custGeom>
            <a:avLst/>
            <a:gdLst/>
            <a:ahLst/>
            <a:rect l="l" t="t" r="r" b="b"/>
            <a:pathLst>
              <a:path w="2220" h="520">
                <a:moveTo>
                  <a:pt x="0" y="26"/>
                </a:moveTo>
                <a:cubicBezTo>
                  <a:pt x="480" y="26"/>
                  <a:pt x="960" y="26"/>
                  <a:pt x="1260" y="26"/>
                </a:cubicBezTo>
                <a:cubicBezTo>
                  <a:pt x="1560" y="26"/>
                  <a:pt x="1650" y="0"/>
                  <a:pt x="1800" y="26"/>
                </a:cubicBezTo>
                <a:cubicBezTo>
                  <a:pt x="1950" y="52"/>
                  <a:pt x="2100" y="130"/>
                  <a:pt x="2160" y="182"/>
                </a:cubicBezTo>
                <a:cubicBezTo>
                  <a:pt x="2220" y="234"/>
                  <a:pt x="2220" y="286"/>
                  <a:pt x="2160" y="338"/>
                </a:cubicBezTo>
                <a:cubicBezTo>
                  <a:pt x="2100" y="390"/>
                  <a:pt x="1980" y="468"/>
                  <a:pt x="1800" y="494"/>
                </a:cubicBezTo>
                <a:cubicBezTo>
                  <a:pt x="1620" y="520"/>
                  <a:pt x="1350" y="494"/>
                  <a:pt x="1080" y="494"/>
                </a:cubicBezTo>
                <a:cubicBezTo>
                  <a:pt x="810" y="494"/>
                  <a:pt x="495" y="494"/>
                  <a:pt x="180" y="4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94480" y="5079960"/>
            <a:ext cx="12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8480" y="28195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4572000"/>
            <a:ext cx="30492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6720" y="4516560"/>
            <a:ext cx="49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共模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差模干扰的产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2895480"/>
            <a:ext cx="1522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2590920"/>
            <a:ext cx="914400" cy="30456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76" y="24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362320" y="2438280"/>
            <a:ext cx="6094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819520"/>
            <a:ext cx="30492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895480"/>
            <a:ext cx="304920" cy="7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971800"/>
            <a:ext cx="304920" cy="7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2743200"/>
            <a:ext cx="228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2590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251460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2514600"/>
            <a:ext cx="7596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3048120"/>
            <a:ext cx="1600200" cy="45720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1008" y="336"/>
                </a:lnTo>
                <a:lnTo>
                  <a:pt x="100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2286000"/>
            <a:ext cx="228600" cy="45720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240"/>
                </a:moveTo>
                <a:cubicBezTo>
                  <a:pt x="52" y="212"/>
                  <a:pt x="56" y="184"/>
                  <a:pt x="48" y="144"/>
                </a:cubicBezTo>
                <a:cubicBezTo>
                  <a:pt x="40" y="104"/>
                  <a:pt x="20" y="52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426708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426708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4495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724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334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50292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0"/>
                </a:moveTo>
                <a:lnTo>
                  <a:pt x="0" y="336"/>
                </a:lnTo>
                <a:lnTo>
                  <a:pt x="576" y="336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5029200"/>
            <a:ext cx="762120" cy="53352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480" y="336"/>
                </a:lnTo>
                <a:lnTo>
                  <a:pt x="480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5562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765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819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9718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240"/>
                </a:moveTo>
                <a:lnTo>
                  <a:pt x="0" y="336"/>
                </a:lnTo>
                <a:lnTo>
                  <a:pt x="576" y="336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52560" y="4915080"/>
            <a:ext cx="1485720" cy="571320"/>
          </a:xfrm>
          <a:custGeom>
            <a:avLst/>
            <a:gdLst/>
            <a:ahLst/>
            <a:rect l="l" t="t" r="r" b="b"/>
            <a:pathLst>
              <a:path w="936" h="360">
                <a:moveTo>
                  <a:pt x="312" y="360"/>
                </a:moveTo>
                <a:cubicBezTo>
                  <a:pt x="240" y="352"/>
                  <a:pt x="168" y="344"/>
                  <a:pt x="120" y="312"/>
                </a:cubicBezTo>
                <a:cubicBezTo>
                  <a:pt x="72" y="280"/>
                  <a:pt x="32" y="216"/>
                  <a:pt x="24" y="168"/>
                </a:cubicBezTo>
                <a:cubicBezTo>
                  <a:pt x="16" y="120"/>
                  <a:pt x="0" y="48"/>
                  <a:pt x="72" y="24"/>
                </a:cubicBezTo>
                <a:cubicBezTo>
                  <a:pt x="144" y="0"/>
                  <a:pt x="336" y="24"/>
                  <a:pt x="456" y="24"/>
                </a:cubicBezTo>
                <a:cubicBezTo>
                  <a:pt x="576" y="24"/>
                  <a:pt x="712" y="0"/>
                  <a:pt x="792" y="24"/>
                </a:cubicBezTo>
                <a:cubicBezTo>
                  <a:pt x="872" y="48"/>
                  <a:pt x="904" y="108"/>
                  <a:pt x="936" y="16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3640" y="4533840"/>
            <a:ext cx="1803240" cy="952560"/>
          </a:xfrm>
          <a:custGeom>
            <a:avLst/>
            <a:gdLst/>
            <a:ahLst/>
            <a:rect l="l" t="t" r="r" b="b"/>
            <a:pathLst>
              <a:path w="1136" h="600">
                <a:moveTo>
                  <a:pt x="176" y="600"/>
                </a:moveTo>
                <a:cubicBezTo>
                  <a:pt x="140" y="588"/>
                  <a:pt x="104" y="576"/>
                  <a:pt x="80" y="552"/>
                </a:cubicBezTo>
                <a:cubicBezTo>
                  <a:pt x="56" y="528"/>
                  <a:pt x="40" y="520"/>
                  <a:pt x="32" y="456"/>
                </a:cubicBezTo>
                <a:cubicBezTo>
                  <a:pt x="24" y="392"/>
                  <a:pt x="0" y="240"/>
                  <a:pt x="32" y="168"/>
                </a:cubicBezTo>
                <a:cubicBezTo>
                  <a:pt x="64" y="96"/>
                  <a:pt x="136" y="48"/>
                  <a:pt x="224" y="24"/>
                </a:cubicBezTo>
                <a:cubicBezTo>
                  <a:pt x="312" y="0"/>
                  <a:pt x="480" y="24"/>
                  <a:pt x="560" y="24"/>
                </a:cubicBezTo>
                <a:cubicBezTo>
                  <a:pt x="640" y="24"/>
                  <a:pt x="640" y="16"/>
                  <a:pt x="704" y="24"/>
                </a:cubicBezTo>
                <a:cubicBezTo>
                  <a:pt x="768" y="32"/>
                  <a:pt x="880" y="32"/>
                  <a:pt x="944" y="72"/>
                </a:cubicBezTo>
                <a:cubicBezTo>
                  <a:pt x="1008" y="112"/>
                  <a:pt x="1056" y="192"/>
                  <a:pt x="1088" y="264"/>
                </a:cubicBezTo>
                <a:cubicBezTo>
                  <a:pt x="1120" y="336"/>
                  <a:pt x="1128" y="420"/>
                  <a:pt x="1136" y="504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362320"/>
            <a:ext cx="68580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3800" y="2362320"/>
            <a:ext cx="68580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7339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8640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7120" y="2590920"/>
            <a:ext cx="304560" cy="457200"/>
          </a:xfrm>
          <a:prstGeom prst="lightningBol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2882880"/>
            <a:ext cx="1791000" cy="711360"/>
          </a:xfrm>
          <a:custGeom>
            <a:avLst/>
            <a:gdLst/>
            <a:ahLst/>
            <a:rect l="l" t="t" r="r" b="b"/>
            <a:pathLst>
              <a:path w="1128" h="448">
                <a:moveTo>
                  <a:pt x="336" y="8"/>
                </a:moveTo>
                <a:cubicBezTo>
                  <a:pt x="428" y="4"/>
                  <a:pt x="520" y="0"/>
                  <a:pt x="624" y="8"/>
                </a:cubicBezTo>
                <a:cubicBezTo>
                  <a:pt x="728" y="16"/>
                  <a:pt x="880" y="24"/>
                  <a:pt x="960" y="56"/>
                </a:cubicBezTo>
                <a:cubicBezTo>
                  <a:pt x="1040" y="88"/>
                  <a:pt x="1080" y="152"/>
                  <a:pt x="1104" y="200"/>
                </a:cubicBezTo>
                <a:cubicBezTo>
                  <a:pt x="1128" y="248"/>
                  <a:pt x="1112" y="312"/>
                  <a:pt x="1104" y="344"/>
                </a:cubicBezTo>
                <a:cubicBezTo>
                  <a:pt x="1096" y="376"/>
                  <a:pt x="1072" y="376"/>
                  <a:pt x="1056" y="392"/>
                </a:cubicBezTo>
                <a:cubicBezTo>
                  <a:pt x="1040" y="408"/>
                  <a:pt x="1032" y="432"/>
                  <a:pt x="1008" y="440"/>
                </a:cubicBezTo>
                <a:cubicBezTo>
                  <a:pt x="984" y="448"/>
                  <a:pt x="984" y="440"/>
                  <a:pt x="912" y="440"/>
                </a:cubicBezTo>
                <a:cubicBezTo>
                  <a:pt x="840" y="440"/>
                  <a:pt x="672" y="440"/>
                  <a:pt x="576" y="440"/>
                </a:cubicBezTo>
                <a:cubicBezTo>
                  <a:pt x="480" y="440"/>
                  <a:pt x="416" y="448"/>
                  <a:pt x="336" y="440"/>
                </a:cubicBezTo>
                <a:cubicBezTo>
                  <a:pt x="256" y="432"/>
                  <a:pt x="152" y="432"/>
                  <a:pt x="96" y="392"/>
                </a:cubicBezTo>
                <a:cubicBezTo>
                  <a:pt x="40" y="352"/>
                  <a:pt x="20" y="276"/>
                  <a:pt x="0" y="20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426708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4267080"/>
            <a:ext cx="6858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4495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4648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58672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24680" y="5029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05320" y="531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6880" y="5334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5715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4863960"/>
            <a:ext cx="1447920" cy="876600"/>
          </a:xfrm>
          <a:custGeom>
            <a:avLst/>
            <a:gdLst/>
            <a:ahLst/>
            <a:rect l="l" t="t" r="r" b="b"/>
            <a:pathLst>
              <a:path w="912" h="552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72" y="8"/>
                  <a:pt x="576" y="56"/>
                </a:cubicBezTo>
                <a:cubicBezTo>
                  <a:pt x="680" y="104"/>
                  <a:pt x="816" y="232"/>
                  <a:pt x="864" y="296"/>
                </a:cubicBezTo>
                <a:cubicBezTo>
                  <a:pt x="912" y="360"/>
                  <a:pt x="872" y="400"/>
                  <a:pt x="864" y="440"/>
                </a:cubicBezTo>
                <a:cubicBezTo>
                  <a:pt x="856" y="480"/>
                  <a:pt x="848" y="520"/>
                  <a:pt x="816" y="536"/>
                </a:cubicBezTo>
                <a:cubicBezTo>
                  <a:pt x="784" y="552"/>
                  <a:pt x="784" y="536"/>
                  <a:pt x="672" y="536"/>
                </a:cubicBezTo>
                <a:cubicBezTo>
                  <a:pt x="560" y="536"/>
                  <a:pt x="352" y="536"/>
                  <a:pt x="144" y="536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5181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ahoma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138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ahoma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5181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ahoma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03320" y="2743200"/>
            <a:ext cx="1282680" cy="698400"/>
          </a:xfrm>
          <a:custGeom>
            <a:avLst/>
            <a:gdLst/>
            <a:ahLst/>
            <a:rect l="l" t="t" r="r" b="b"/>
            <a:pathLst>
              <a:path w="808" h="440">
                <a:moveTo>
                  <a:pt x="808" y="432"/>
                </a:moveTo>
                <a:cubicBezTo>
                  <a:pt x="732" y="436"/>
                  <a:pt x="656" y="440"/>
                  <a:pt x="568" y="432"/>
                </a:cubicBezTo>
                <a:cubicBezTo>
                  <a:pt x="480" y="424"/>
                  <a:pt x="368" y="408"/>
                  <a:pt x="280" y="384"/>
                </a:cubicBezTo>
                <a:cubicBezTo>
                  <a:pt x="192" y="360"/>
                  <a:pt x="80" y="336"/>
                  <a:pt x="40" y="288"/>
                </a:cubicBezTo>
                <a:cubicBezTo>
                  <a:pt x="0" y="240"/>
                  <a:pt x="8" y="144"/>
                  <a:pt x="40" y="96"/>
                </a:cubicBezTo>
                <a:cubicBezTo>
                  <a:pt x="72" y="48"/>
                  <a:pt x="152" y="24"/>
                  <a:pt x="232" y="0"/>
                </a:cubicBezTo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2971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ahoma"/>
              </a:rPr>
              <a:t>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 010-6838628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6:40:03Z</dcterms:created>
  <dc:creator>天亦通</dc:creator>
  <dc:description/>
  <dc:language>en-US</dc:language>
  <cp:lastModifiedBy>Billgates</cp:lastModifiedBy>
  <dcterms:modified xsi:type="dcterms:W3CDTF">2004-05-08T03:37:27Z</dcterms:modified>
  <cp:revision>263</cp:revision>
  <dc:subject/>
  <dc:title>第三部分 滤波技术</dc:title>
</cp:coreProperties>
</file>