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411-C832-4C61-985B-197E182565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AFF-5B90-453E-B4E8-54D4515707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1327320" y="782640"/>
            <a:ext cx="4278240" cy="3208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D8D-CE6E-4D3D-842C-554C82AC43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2265-CB0E-4FC2-8F16-DCDFAB541B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1295280" y="762120"/>
            <a:ext cx="427356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59C-DA63-46D3-9F14-23E86BEBF1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A9B-A3E3-4BDD-A653-0B967B46D5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EE3-8598-4EAC-B141-88C0AD12A7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1600-2E7A-4E77-BA2C-682077267D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E55-4B9D-497A-8613-F03CFD1850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B089-FB22-40A2-B4A4-ABE381C8AB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90F-33F5-4071-AEA6-854C0AC6DC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64A1-866B-42F9-BB1C-DC22875F29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2BB-4AD5-4276-9BC9-1FB9C1A14D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FE2-6168-4A27-8D67-8AAC82627A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D520-66C1-4415-AB43-A240472431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295280" y="838080"/>
            <a:ext cx="4273560" cy="320544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1BE1-AEE4-4C35-8C39-D8236C6335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BF8-97D0-4A14-B025-C4F17F0C04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2AB-D48F-4E1C-B3A7-4D4D8946A0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488A-2C9A-462A-9B71-9644190043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295280" y="838080"/>
            <a:ext cx="4273560" cy="320544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535-E3A9-4B8C-AB36-9D5832CC2C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864-9E83-46AE-8BCF-866F873B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1D3-FE9E-41CB-AFA2-041C3AB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4DB-F521-458D-BF7B-7D60C6ED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460-31C9-46AF-82CE-9B47775E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BE77-7C8B-438D-96A4-19662CF6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349-121E-4728-8678-C69B345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244-6C7A-4D0C-B884-2826C2F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67CE-F010-41B9-8647-9034C87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5D9-49C3-4F6D-8EDE-0FD8DD2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5ED-8AA3-42DE-A1ED-49841D8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1A2-F6DB-4914-BC49-EFF970A2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EEC-2898-4689-B84C-DEBBB8C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4363-E864-4631-A95B-10D4142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2BB-EE41-4AAF-B22B-D7BA2D4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D36D-0846-4ECE-A82B-A09F646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C3E7-7B04-461D-97B6-EA997F5D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27E4-2E47-40E1-90CB-2DDC44B2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55D-02C2-46E7-84BA-0C22377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FED-A9FA-4B18-81F9-A2A76A27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FA3-AF93-4917-9DAC-5B10645C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E37-BAEA-467E-8E0D-34A584D7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B16-8393-405F-AB2E-DF27AD1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FE4-1948-407C-908C-4E34F7C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011-D268-4A7B-81C1-8EBD55E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E31-ECD0-4E93-9C51-A43E79D07E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B03B-9569-431F-BAEC-45B2B9ED2DB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040" y="2315880"/>
            <a:ext cx="7762680" cy="71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第六章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PCB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的电磁兼容设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6680" y="3886200"/>
            <a:ext cx="6470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8880" y="860040"/>
            <a:ext cx="7186680" cy="816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线噪声的消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687680" y="2666880"/>
            <a:ext cx="77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16480" y="26668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59680" y="2666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87680" y="2666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6520" y="3200400"/>
            <a:ext cx="56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35268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87680" y="3352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87680" y="4038480"/>
            <a:ext cx="3657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048120"/>
            <a:ext cx="14079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45280" y="35053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51080" y="2971800"/>
            <a:ext cx="2531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2960" y="29718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180880" y="3733920"/>
            <a:ext cx="2601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181240" y="32004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87680" y="6400800"/>
            <a:ext cx="3657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87680" y="5715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06520" y="5638680"/>
            <a:ext cx="56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571500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87680" y="5029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87680" y="5029200"/>
            <a:ext cx="77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16480" y="50292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33960" y="5410080"/>
            <a:ext cx="14079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59680" y="50292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45280" y="5867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1840" y="50292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30880" y="5638680"/>
            <a:ext cx="42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30880" y="5715000"/>
            <a:ext cx="42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41840" y="5715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53160" y="5105520"/>
            <a:ext cx="10555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59200" y="5105520"/>
            <a:ext cx="1301760" cy="1155600"/>
          </a:xfrm>
          <a:custGeom>
            <a:avLst/>
            <a:gdLst/>
            <a:ahLst/>
            <a:rect l="l" t="t" r="r" b="b"/>
            <a:pathLst>
              <a:path w="888" h="728">
                <a:moveTo>
                  <a:pt x="784" y="0"/>
                </a:moveTo>
                <a:cubicBezTo>
                  <a:pt x="836" y="60"/>
                  <a:pt x="888" y="120"/>
                  <a:pt x="784" y="144"/>
                </a:cubicBezTo>
                <a:cubicBezTo>
                  <a:pt x="680" y="168"/>
                  <a:pt x="256" y="72"/>
                  <a:pt x="160" y="144"/>
                </a:cubicBezTo>
                <a:cubicBezTo>
                  <a:pt x="64" y="216"/>
                  <a:pt x="216" y="480"/>
                  <a:pt x="208" y="576"/>
                </a:cubicBezTo>
                <a:cubicBezTo>
                  <a:pt x="200" y="672"/>
                  <a:pt x="144" y="712"/>
                  <a:pt x="112" y="720"/>
                </a:cubicBezTo>
                <a:cubicBezTo>
                  <a:pt x="80" y="728"/>
                  <a:pt x="32" y="720"/>
                  <a:pt x="16" y="624"/>
                </a:cubicBezTo>
                <a:cubicBezTo>
                  <a:pt x="0" y="528"/>
                  <a:pt x="8" y="336"/>
                  <a:pt x="16" y="144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2040" y="2438280"/>
            <a:ext cx="21132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73360" y="2438280"/>
            <a:ext cx="21096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84320" y="2438280"/>
            <a:ext cx="21132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95640" y="2438280"/>
            <a:ext cx="20952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05160" y="2438280"/>
            <a:ext cx="21132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90760" y="2666880"/>
            <a:ext cx="119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62040" y="4800600"/>
            <a:ext cx="21132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73360" y="4800600"/>
            <a:ext cx="21096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84320" y="4800600"/>
            <a:ext cx="21132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95640" y="4800600"/>
            <a:ext cx="20952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05160" y="4800600"/>
            <a:ext cx="21132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90760" y="5029200"/>
            <a:ext cx="119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1905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 = L(di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7520" y="5257800"/>
            <a:ext cx="790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储能电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4114800"/>
            <a:ext cx="22096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这个环路尽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4495680"/>
            <a:ext cx="838440" cy="7621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解耦电容的正确布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2514600"/>
            <a:ext cx="213372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26668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31240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2895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9718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2743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266688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31240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628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3384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962520"/>
            <a:ext cx="213372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3733920"/>
            <a:ext cx="4724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4952880"/>
            <a:ext cx="4724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48006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4495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8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2209680" cy="914400"/>
          </a:xfrm>
          <a:custGeom>
            <a:avLst/>
            <a:gdLst/>
            <a:ahLst/>
            <a:rect l="l" t="t" r="r" b="b"/>
            <a:pathLst>
              <a:path w="1392" h="576">
                <a:moveTo>
                  <a:pt x="0" y="0"/>
                </a:moveTo>
                <a:lnTo>
                  <a:pt x="48" y="240"/>
                </a:lnTo>
                <a:lnTo>
                  <a:pt x="240" y="576"/>
                </a:lnTo>
                <a:lnTo>
                  <a:pt x="1056" y="576"/>
                </a:lnTo>
                <a:lnTo>
                  <a:pt x="1392" y="480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3840" y="48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5562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尽量使电源线与地线靠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33400"/>
            <a:ext cx="7207560" cy="71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解耦电容的选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0920" y="2330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 d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38280" y="30481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334120" y="2666520"/>
            <a:ext cx="0" cy="2133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4800600"/>
            <a:ext cx="3200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3048120"/>
            <a:ext cx="2743200" cy="1650960"/>
          </a:xfrm>
          <a:custGeom>
            <a:avLst/>
            <a:gdLst/>
            <a:ahLst/>
            <a:rect l="l" t="t" r="r" b="b"/>
            <a:pathLst>
              <a:path w="1728" h="1040">
                <a:moveTo>
                  <a:pt x="0" y="0"/>
                </a:moveTo>
                <a:cubicBezTo>
                  <a:pt x="112" y="88"/>
                  <a:pt x="224" y="176"/>
                  <a:pt x="336" y="288"/>
                </a:cubicBezTo>
                <a:cubicBezTo>
                  <a:pt x="448" y="400"/>
                  <a:pt x="608" y="592"/>
                  <a:pt x="672" y="672"/>
                </a:cubicBezTo>
                <a:cubicBezTo>
                  <a:pt x="736" y="752"/>
                  <a:pt x="688" y="712"/>
                  <a:pt x="720" y="768"/>
                </a:cubicBezTo>
                <a:cubicBezTo>
                  <a:pt x="752" y="824"/>
                  <a:pt x="824" y="976"/>
                  <a:pt x="864" y="1008"/>
                </a:cubicBezTo>
                <a:cubicBezTo>
                  <a:pt x="904" y="1040"/>
                  <a:pt x="912" y="1024"/>
                  <a:pt x="960" y="960"/>
                </a:cubicBezTo>
                <a:cubicBezTo>
                  <a:pt x="1008" y="896"/>
                  <a:pt x="1072" y="736"/>
                  <a:pt x="1152" y="624"/>
                </a:cubicBezTo>
                <a:cubicBezTo>
                  <a:pt x="1232" y="512"/>
                  <a:pt x="1344" y="368"/>
                  <a:pt x="1440" y="288"/>
                </a:cubicBezTo>
                <a:cubicBezTo>
                  <a:pt x="1536" y="208"/>
                  <a:pt x="1632" y="176"/>
                  <a:pt x="1728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818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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50292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4038480"/>
            <a:ext cx="4419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参数含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，电源线上出现了瞬间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致了电源线上出现电压跌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914880" cy="75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增强解耦效果的方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3311640" y="2495520"/>
            <a:ext cx="1793880" cy="781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2260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60440" y="2590920"/>
            <a:ext cx="620640" cy="6336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27400" y="2577960"/>
            <a:ext cx="973080" cy="6372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01680" y="3048120"/>
            <a:ext cx="2098800" cy="6336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9120" y="2495520"/>
            <a:ext cx="479160" cy="247680"/>
          </a:xfrm>
          <a:prstGeom prst="roundRect">
            <a:avLst>
              <a:gd name="adj" fmla="val 12495"/>
            </a:avLst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3200" y="2666880"/>
            <a:ext cx="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08200" y="2819520"/>
            <a:ext cx="27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08200" y="2895480"/>
            <a:ext cx="27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2895480"/>
            <a:ext cx="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11640" y="2114640"/>
            <a:ext cx="199800" cy="36828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276720"/>
            <a:ext cx="128880" cy="44424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2647800"/>
            <a:ext cx="1323720" cy="6372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048120"/>
            <a:ext cx="1323720" cy="63360"/>
          </a:xfrm>
          <a:prstGeom prst="rect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8840" y="1968480"/>
            <a:ext cx="83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电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32767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2044800"/>
            <a:ext cx="11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铁氧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3276720"/>
            <a:ext cx="301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铁氧体安装的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6396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4976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2209680"/>
            <a:ext cx="74520" cy="27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067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7353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39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25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211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97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8360" y="3276720"/>
            <a:ext cx="74520" cy="27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4800600"/>
            <a:ext cx="457200" cy="457200"/>
          </a:xfrm>
          <a:prstGeom prst="ellipse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81280" y="495288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457200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48" y="240"/>
                </a:moveTo>
                <a:lnTo>
                  <a:pt x="144" y="240"/>
                </a:lnTo>
                <a:lnTo>
                  <a:pt x="144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</a:path>
            </a:pathLst>
          </a:custGeom>
          <a:solidFill>
            <a:srgbClr val="00e4a8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472428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4952880"/>
            <a:ext cx="2209680" cy="8384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05320" y="5715000"/>
            <a:ext cx="304560" cy="304920"/>
          </a:xfrm>
          <a:prstGeom prst="ellipse">
            <a:avLst/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6095880"/>
            <a:ext cx="15242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地线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3809880" y="60199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细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4343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34320" y="25146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铁氧体增加电源端阻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细线增加电源端阻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有效滤波的例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474840" y="4343400"/>
            <a:ext cx="1509120" cy="39888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普通电容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4572000"/>
            <a:ext cx="5335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4343400"/>
            <a:ext cx="1981440" cy="39888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三端电容（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0.1</a:t>
            </a:r>
            <a:r>
              <a:rPr b="0" lang="zh-CN" sz="2000" spc="-1" strike="noStrike">
                <a:solidFill>
                  <a:srgbClr val="cc0099"/>
                </a:solidFill>
                <a:latin typeface="Symbol"/>
                <a:ea typeface="Symbol"/>
              </a:rPr>
              <a:t>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4952880"/>
            <a:ext cx="0" cy="6098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5638680"/>
            <a:ext cx="2819520" cy="39888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三端电容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+ </a:t>
            </a:r>
            <a:r>
              <a:rPr b="0" lang="zh-CN" sz="2000" spc="-1" strike="noStrike">
                <a:solidFill>
                  <a:srgbClr val="cc0099"/>
                </a:solidFill>
                <a:latin typeface="Tahoma"/>
              </a:rPr>
              <a:t>铁氧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5562720"/>
            <a:ext cx="106704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8120" y="6156360"/>
            <a:ext cx="1371600" cy="398880"/>
          </a:xfrm>
          <a:prstGeom prst="rect">
            <a:avLst/>
          </a:prstGeom>
          <a:solidFill>
            <a:srgbClr val="a6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注意位置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0" t="13886" r="0" b="11117"/>
          <a:stretch/>
        </p:blipFill>
        <p:spPr>
          <a:xfrm>
            <a:off x="685800" y="1981080"/>
            <a:ext cx="3591000" cy="20574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5381640" y="1981080"/>
            <a:ext cx="3228840" cy="20574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5410080" y="4419720"/>
            <a:ext cx="3114720" cy="20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多个电容改善解耦效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09480" y="1905120"/>
            <a:ext cx="5334120" cy="2514600"/>
            <a:chOff x="609480" y="1905120"/>
            <a:chExt cx="5334120" cy="2514600"/>
          </a:xfrm>
        </p:grpSpPr>
        <p:sp>
          <p:nvSpPr>
            <p:cNvPr id="494" name=""/>
            <p:cNvSpPr/>
            <p:nvPr/>
          </p:nvSpPr>
          <p:spPr>
            <a:xfrm>
              <a:off x="609480" y="1905120"/>
              <a:ext cx="5334120" cy="2514600"/>
            </a:xfrm>
            <a:prstGeom prst="rect">
              <a:avLst/>
            </a:prstGeom>
            <a:solidFill>
              <a:srgbClr val="dceef0"/>
            </a:solidFill>
            <a:ln w="28440">
              <a:solidFill>
                <a:srgbClr val="dcee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419720" y="3124440"/>
              <a:ext cx="457200" cy="75960"/>
              <a:chOff x="4419720" y="3124440"/>
              <a:chExt cx="457200" cy="75960"/>
            </a:xfrm>
          </p:grpSpPr>
          <p:sp>
            <p:nvSpPr>
              <p:cNvPr id="496" name=""/>
              <p:cNvSpPr/>
              <p:nvPr/>
            </p:nvSpPr>
            <p:spPr>
              <a:xfrm>
                <a:off x="4419720" y="31244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419720" y="32004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971800" y="3733920"/>
              <a:ext cx="457200" cy="75960"/>
              <a:chOff x="2971800" y="3733920"/>
              <a:chExt cx="457200" cy="75960"/>
            </a:xfrm>
          </p:grpSpPr>
          <p:sp>
            <p:nvSpPr>
              <p:cNvPr id="499" name=""/>
              <p:cNvSpPr/>
              <p:nvPr/>
            </p:nvSpPr>
            <p:spPr>
              <a:xfrm>
                <a:off x="2971800" y="37339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71800" y="3809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600200" y="3048120"/>
              <a:ext cx="457200" cy="75960"/>
              <a:chOff x="1600200" y="3048120"/>
              <a:chExt cx="457200" cy="75960"/>
            </a:xfrm>
          </p:grpSpPr>
          <p:sp>
            <p:nvSpPr>
              <p:cNvPr id="502" name=""/>
              <p:cNvSpPr/>
              <p:nvPr/>
            </p:nvSpPr>
            <p:spPr>
              <a:xfrm>
                <a:off x="1600200" y="3048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600200" y="3124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1828800" y="2197440"/>
              <a:ext cx="0" cy="85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3048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48320" y="2197440"/>
              <a:ext cx="0" cy="9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8800" y="312444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00400" y="3810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48320" y="320076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3320" y="2743560"/>
              <a:ext cx="228600" cy="685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22100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22086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2095920"/>
              <a:ext cx="68580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76720" y="221004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57600" y="2070360"/>
              <a:ext cx="68580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4115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429000" y="4495680"/>
            <a:ext cx="5486400" cy="2133720"/>
            <a:chOff x="3429000" y="4495680"/>
            <a:chExt cx="5486400" cy="2133720"/>
          </a:xfrm>
        </p:grpSpPr>
        <p:sp>
          <p:nvSpPr>
            <p:cNvPr id="518" name=""/>
            <p:cNvSpPr/>
            <p:nvPr/>
          </p:nvSpPr>
          <p:spPr>
            <a:xfrm>
              <a:off x="3429000" y="4495680"/>
              <a:ext cx="5486400" cy="213372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dcee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809880" y="4648320"/>
              <a:ext cx="4343400" cy="1587240"/>
              <a:chOff x="3809880" y="4648320"/>
              <a:chExt cx="4343400" cy="158724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5715000" y="5473800"/>
                <a:ext cx="457200" cy="75960"/>
                <a:chOff x="5715000" y="5473800"/>
                <a:chExt cx="457200" cy="759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715000" y="5473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715000" y="5549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5029200" y="5473800"/>
                <a:ext cx="457200" cy="75960"/>
                <a:chOff x="5029200" y="5473800"/>
                <a:chExt cx="457200" cy="75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5029200" y="5473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029200" y="5549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343400" y="5473800"/>
                <a:ext cx="457200" cy="75960"/>
                <a:chOff x="4343400" y="5473800"/>
                <a:chExt cx="457200" cy="759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343400" y="54738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343400" y="5549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" name=""/>
              <p:cNvSpPr/>
              <p:nvPr/>
            </p:nvSpPr>
            <p:spPr>
              <a:xfrm>
                <a:off x="4572000" y="47880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57800" y="47880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43600" y="478800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72000" y="55497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57800" y="55497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43600" y="55497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09880" y="4788000"/>
                <a:ext cx="434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53080" y="4648320"/>
                <a:ext cx="685800" cy="2286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9880" y="6235560"/>
                <a:ext cx="434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75240" y="4991040"/>
                <a:ext cx="1625760" cy="990720"/>
              </a:xfrm>
              <a:custGeom>
                <a:avLst/>
                <a:gdLst/>
                <a:ahLst/>
                <a:rect l="l" t="t" r="r" b="b"/>
                <a:pathLst>
                  <a:path w="1024" h="624">
                    <a:moveTo>
                      <a:pt x="16" y="600"/>
                    </a:moveTo>
                    <a:cubicBezTo>
                      <a:pt x="8" y="612"/>
                      <a:pt x="0" y="624"/>
                      <a:pt x="16" y="552"/>
                    </a:cubicBezTo>
                    <a:cubicBezTo>
                      <a:pt x="32" y="480"/>
                      <a:pt x="0" y="256"/>
                      <a:pt x="112" y="168"/>
                    </a:cubicBezTo>
                    <a:cubicBezTo>
                      <a:pt x="224" y="80"/>
                      <a:pt x="536" y="48"/>
                      <a:pt x="688" y="24"/>
                    </a:cubicBezTo>
                    <a:cubicBezTo>
                      <a:pt x="840" y="0"/>
                      <a:pt x="932" y="12"/>
                      <a:pt x="1024" y="2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"/>
          <p:cNvSpPr/>
          <p:nvPr/>
        </p:nvSpPr>
        <p:spPr>
          <a:xfrm>
            <a:off x="2031840" y="2440080"/>
            <a:ext cx="787680" cy="1295280"/>
          </a:xfrm>
          <a:custGeom>
            <a:avLst/>
            <a:gdLst/>
            <a:ahLst/>
            <a:rect l="l" t="t" r="r" b="b"/>
            <a:pathLst>
              <a:path w="496" h="816">
                <a:moveTo>
                  <a:pt x="16" y="768"/>
                </a:moveTo>
                <a:cubicBezTo>
                  <a:pt x="8" y="792"/>
                  <a:pt x="0" y="816"/>
                  <a:pt x="16" y="720"/>
                </a:cubicBezTo>
                <a:cubicBezTo>
                  <a:pt x="32" y="624"/>
                  <a:pt x="32" y="312"/>
                  <a:pt x="112" y="192"/>
                </a:cubicBezTo>
                <a:cubicBezTo>
                  <a:pt x="192" y="72"/>
                  <a:pt x="344" y="36"/>
                  <a:pt x="496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9880" y="2438280"/>
            <a:ext cx="622440" cy="1447920"/>
          </a:xfrm>
          <a:custGeom>
            <a:avLst/>
            <a:gdLst/>
            <a:ahLst/>
            <a:rect l="l" t="t" r="r" b="b"/>
            <a:pathLst>
              <a:path w="392" h="912">
                <a:moveTo>
                  <a:pt x="288" y="864"/>
                </a:moveTo>
                <a:cubicBezTo>
                  <a:pt x="308" y="888"/>
                  <a:pt x="328" y="912"/>
                  <a:pt x="336" y="816"/>
                </a:cubicBezTo>
                <a:cubicBezTo>
                  <a:pt x="344" y="720"/>
                  <a:pt x="392" y="424"/>
                  <a:pt x="336" y="288"/>
                </a:cubicBezTo>
                <a:cubicBezTo>
                  <a:pt x="280" y="152"/>
                  <a:pt x="140" y="7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505320" y="25146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选择合适的电容种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rcRect l="0" t="4817" r="0" b="0"/>
          <a:stretch/>
        </p:blipFill>
        <p:spPr>
          <a:xfrm>
            <a:off x="0" y="2162160"/>
            <a:ext cx="4724280" cy="3552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0" t="6649" r="0" b="0"/>
          <a:stretch/>
        </p:blipFill>
        <p:spPr>
          <a:xfrm>
            <a:off x="4572000" y="2222640"/>
            <a:ext cx="4572000" cy="35035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85800" y="5791320"/>
            <a:ext cx="792468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插线电容                                                   表贴电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75960" y="894960"/>
            <a:ext cx="6761160" cy="816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的两种辐射机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3200400"/>
            <a:ext cx="5133960" cy="1828800"/>
          </a:xfrm>
          <a:prstGeom prst="parallelogram">
            <a:avLst>
              <a:gd name="adj" fmla="val 70182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20920" y="3505320"/>
            <a:ext cx="1055520" cy="152280"/>
          </a:xfrm>
          <a:prstGeom prst="parallelogram">
            <a:avLst>
              <a:gd name="adj" fmla="val 173286"/>
            </a:avLst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05160" y="4191120"/>
            <a:ext cx="1125720" cy="152280"/>
          </a:xfrm>
          <a:prstGeom prst="parallelogram">
            <a:avLst>
              <a:gd name="adj" fmla="val 184811"/>
            </a:avLst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095640" y="3429000"/>
            <a:ext cx="1396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5320" y="3429000"/>
            <a:ext cx="1617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149720" y="3429000"/>
            <a:ext cx="7034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039400" y="3657600"/>
            <a:ext cx="4222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39760" y="4343400"/>
            <a:ext cx="140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38280" y="3492360"/>
            <a:ext cx="1863720" cy="787680"/>
          </a:xfrm>
          <a:custGeom>
            <a:avLst/>
            <a:gdLst/>
            <a:ahLst/>
            <a:rect l="l" t="t" r="r" b="b"/>
            <a:pathLst>
              <a:path w="1440" h="496">
                <a:moveTo>
                  <a:pt x="904" y="8"/>
                </a:moveTo>
                <a:cubicBezTo>
                  <a:pt x="1116" y="4"/>
                  <a:pt x="1328" y="0"/>
                  <a:pt x="1384" y="56"/>
                </a:cubicBezTo>
                <a:cubicBezTo>
                  <a:pt x="1440" y="112"/>
                  <a:pt x="1344" y="288"/>
                  <a:pt x="1240" y="344"/>
                </a:cubicBezTo>
                <a:cubicBezTo>
                  <a:pt x="1136" y="400"/>
                  <a:pt x="888" y="368"/>
                  <a:pt x="760" y="392"/>
                </a:cubicBezTo>
                <a:cubicBezTo>
                  <a:pt x="632" y="416"/>
                  <a:pt x="592" y="480"/>
                  <a:pt x="472" y="488"/>
                </a:cubicBezTo>
                <a:cubicBezTo>
                  <a:pt x="352" y="496"/>
                  <a:pt x="80" y="488"/>
                  <a:pt x="40" y="440"/>
                </a:cubicBezTo>
                <a:cubicBezTo>
                  <a:pt x="0" y="392"/>
                  <a:pt x="116" y="296"/>
                  <a:pt x="232" y="200"/>
                </a:cubicBezTo>
              </a:path>
            </a:pathLst>
          </a:custGeom>
          <a:noFill/>
          <a:ln w="5724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8136800">
            <a:off x="4970520" y="3891960"/>
            <a:ext cx="609480" cy="140040"/>
          </a:xfrm>
          <a:prstGeom prst="parallelogram">
            <a:avLst>
              <a:gd name="adj" fmla="val 108805"/>
            </a:avLst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727080" y="4343400"/>
            <a:ext cx="211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2744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641840" y="3885840"/>
            <a:ext cx="5634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64280" y="3962520"/>
            <a:ext cx="2895480" cy="838080"/>
          </a:xfrm>
          <a:custGeom>
            <a:avLst/>
            <a:gdLst/>
            <a:ahLst/>
            <a:rect l="l" t="t" r="r" b="b"/>
            <a:pathLst>
              <a:path w="1976" h="528">
                <a:moveTo>
                  <a:pt x="8" y="0"/>
                </a:moveTo>
                <a:cubicBezTo>
                  <a:pt x="4" y="96"/>
                  <a:pt x="0" y="192"/>
                  <a:pt x="248" y="240"/>
                </a:cubicBezTo>
                <a:cubicBezTo>
                  <a:pt x="496" y="288"/>
                  <a:pt x="1208" y="240"/>
                  <a:pt x="1496" y="288"/>
                </a:cubicBezTo>
                <a:cubicBezTo>
                  <a:pt x="1784" y="336"/>
                  <a:pt x="1880" y="432"/>
                  <a:pt x="1976" y="52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4677800">
            <a:off x="4035960" y="2398680"/>
            <a:ext cx="649080" cy="1032120"/>
          </a:xfrm>
          <a:prstGeom prst="lightningBolt">
            <a:avLst/>
          </a:prstGeom>
          <a:solidFill>
            <a:srgbClr val="007c5c"/>
          </a:solidFill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483800">
            <a:off x="7009920" y="2895120"/>
            <a:ext cx="608040" cy="1393920"/>
          </a:xfrm>
          <a:prstGeom prst="lightningBol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53160" y="2057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差模辐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05720" y="2209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模辐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600200" y="4038120"/>
            <a:ext cx="1371600" cy="1676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257800" y="4419360"/>
            <a:ext cx="685800" cy="99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杆天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52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际电路的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960640"/>
            <a:ext cx="60948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1981080"/>
            <a:ext cx="3353040" cy="228600"/>
          </a:xfrm>
          <a:custGeom>
            <a:avLst/>
            <a:gdLst/>
            <a:ahLst/>
            <a:rect l="l" t="t" r="r" b="b"/>
            <a:pathLst>
              <a:path w="2112" h="336">
                <a:moveTo>
                  <a:pt x="0" y="240"/>
                </a:moveTo>
                <a:lnTo>
                  <a:pt x="0" y="0"/>
                </a:lnTo>
                <a:lnTo>
                  <a:pt x="2112" y="0"/>
                </a:lnTo>
                <a:lnTo>
                  <a:pt x="2112" y="3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2438280"/>
            <a:ext cx="304920" cy="97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71600" y="2133720"/>
            <a:ext cx="304920" cy="598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273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3880" y="3417840"/>
            <a:ext cx="3353040" cy="304920"/>
          </a:xfrm>
          <a:custGeom>
            <a:avLst/>
            <a:gdLst/>
            <a:ahLst/>
            <a:rect l="l" t="t" r="r" b="b"/>
            <a:pathLst>
              <a:path w="2064" h="432">
                <a:moveTo>
                  <a:pt x="0" y="192"/>
                </a:moveTo>
                <a:lnTo>
                  <a:pt x="0" y="432"/>
                </a:lnTo>
                <a:lnTo>
                  <a:pt x="2064" y="432"/>
                </a:lnTo>
                <a:lnTo>
                  <a:pt x="206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21225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2427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219852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080" y="4044960"/>
            <a:ext cx="75438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近场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7.9 D f       E = 7.96VA / D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V/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7.9 D f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 = 63 I A f / D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V/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H = 7.96IA / D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/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远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E = 1.3 I A f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/D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V/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2808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路面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71800" y="228600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954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常用的差模辐射预测公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169280" y="5257800"/>
            <a:ext cx="62751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考虑地面反射时：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 = 2.6 I A f 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D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/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4876920"/>
            <a:ext cx="7010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2013000">
            <a:off x="1599840" y="2743200"/>
            <a:ext cx="30492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828440" y="3200400"/>
            <a:ext cx="15228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095520" y="4038480"/>
            <a:ext cx="30492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038480"/>
            <a:ext cx="30492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5880" y="4038480"/>
            <a:ext cx="8384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2590920"/>
            <a:ext cx="0" cy="1447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40384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64" y="84"/>
                  <a:pt x="128" y="168"/>
                  <a:pt x="192" y="192"/>
                </a:cubicBezTo>
                <a:cubicBezTo>
                  <a:pt x="256" y="216"/>
                  <a:pt x="280" y="128"/>
                  <a:pt x="384" y="144"/>
                </a:cubicBezTo>
                <a:cubicBezTo>
                  <a:pt x="488" y="160"/>
                  <a:pt x="744" y="264"/>
                  <a:pt x="816" y="288"/>
                </a:cubicBez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40384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3048120"/>
            <a:ext cx="4343400" cy="1752480"/>
          </a:xfrm>
          <a:custGeom>
            <a:avLst/>
            <a:gdLst/>
            <a:ahLst/>
            <a:rect l="l" t="t" r="r" b="b"/>
            <a:pathLst>
              <a:path w="2736" h="1104">
                <a:moveTo>
                  <a:pt x="0" y="0"/>
                </a:moveTo>
                <a:lnTo>
                  <a:pt x="1008" y="1104"/>
                </a:lnTo>
                <a:lnTo>
                  <a:pt x="2736" y="48"/>
                </a:lnTo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上的电磁兼容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590920"/>
            <a:ext cx="7315200" cy="3115440"/>
          </a:xfrm>
          <a:prstGeom prst="rect">
            <a:avLst/>
          </a:prstGeom>
          <a:gradFill rotWithShape="0">
            <a:gsLst>
              <a:gs pos="0">
                <a:srgbClr val="477306"/>
              </a:gs>
              <a:gs pos="100000">
                <a:srgbClr val="9bfb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571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线路板的辐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571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外界电磁场对线路板的干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571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地线和电源线噪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571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地线引起的公共阻抗耦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5716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走线之间的串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600" y="904680"/>
            <a:ext cx="685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脉冲信号差模辐射的频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4191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24280" y="1981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频谱包络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905120"/>
            <a:ext cx="205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差模辐射频率特性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5562720"/>
            <a:ext cx="228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脉冲的差模辐射包络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990720" y="22096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86400" y="3733920"/>
            <a:ext cx="2286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          1/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41972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38098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990720" y="2590560"/>
            <a:ext cx="16761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19720" y="2514600"/>
            <a:ext cx="3124080" cy="1295280"/>
          </a:xfrm>
          <a:custGeom>
            <a:avLst/>
            <a:gdLst/>
            <a:ahLst/>
            <a:rect l="l" t="t" r="r" b="b"/>
            <a:pathLst>
              <a:path w="1440" h="768">
                <a:moveTo>
                  <a:pt x="0" y="0"/>
                </a:moveTo>
                <a:lnTo>
                  <a:pt x="768" y="0"/>
                </a:lnTo>
                <a:lnTo>
                  <a:pt x="1248" y="336"/>
                </a:lnTo>
                <a:lnTo>
                  <a:pt x="1440" y="768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2590920"/>
            <a:ext cx="0" cy="3657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86600" y="3048120"/>
            <a:ext cx="0" cy="32004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8981000">
            <a:off x="1676880" y="259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0dB/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419720" y="42670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9720" y="6553080"/>
            <a:ext cx="3733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19720" y="4648320"/>
            <a:ext cx="3200400" cy="1904760"/>
          </a:xfrm>
          <a:custGeom>
            <a:avLst/>
            <a:gdLst/>
            <a:ahLst/>
            <a:rect l="l" t="t" r="r" b="b"/>
            <a:pathLst>
              <a:path w="2016" h="1200">
                <a:moveTo>
                  <a:pt x="0" y="1200"/>
                </a:moveTo>
                <a:lnTo>
                  <a:pt x="1056" y="144"/>
                </a:lnTo>
                <a:lnTo>
                  <a:pt x="1680" y="0"/>
                </a:lnTo>
                <a:lnTo>
                  <a:pt x="201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5345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05920" y="6248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781400">
            <a:off x="6171480" y="243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- 20dB/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21577200">
            <a:off x="7315200" y="3130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- 40dB/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2280" y="4876920"/>
            <a:ext cx="3962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 = 2.6 I A f 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/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d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= 20lg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6 I A /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40lg 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18981000">
            <a:off x="4648680" y="51188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0dB/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0632800">
            <a:off x="6095880" y="4357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0dB/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09400" y="755640"/>
            <a:ext cx="7048440" cy="10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不同逻辑电路为了满足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EMI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指标要求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所允许的环路面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09760" y="2514600"/>
          <a:ext cx="674352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514600"/>
                    <a:ext cx="6743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838080" y="5638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仅代表了一个环路的辐射情况，若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个环路辐射，乘以 </a:t>
            </a:r>
            <a:r>
              <a:rPr b="0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因此，可能时，分散时钟频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5248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42520" y="809640"/>
            <a:ext cx="7207560" cy="7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减小差模辐射的方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1865160" y="2438280"/>
            <a:ext cx="445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  =  2.6  I    A     f 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52680" y="2362320"/>
            <a:ext cx="457200" cy="838080"/>
          </a:xfrm>
          <a:prstGeom prst="ellipse">
            <a:avLst/>
          </a:prstGeom>
          <a:noFill/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3733920"/>
            <a:ext cx="3809880" cy="2666880"/>
          </a:xfrm>
          <a:prstGeom prst="ellipse">
            <a:avLst/>
          </a:prstGeom>
          <a:noFill/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666360" y="4809960"/>
            <a:ext cx="381240" cy="457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66680" y="5029200"/>
            <a:ext cx="99072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43200" y="4267080"/>
            <a:ext cx="380880" cy="160020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192" y="0"/>
                </a:moveTo>
                <a:lnTo>
                  <a:pt x="0" y="0"/>
                </a:lnTo>
                <a:lnTo>
                  <a:pt x="0" y="1008"/>
                </a:lnTo>
                <a:lnTo>
                  <a:pt x="240" y="1008"/>
                </a:lnTo>
              </a:path>
            </a:pathLst>
          </a:custGeom>
          <a:noFill/>
          <a:ln w="57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38280" y="5029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2133720" y="4800600"/>
            <a:ext cx="304560" cy="457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3124080" y="4038480"/>
            <a:ext cx="304920" cy="457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3200040" y="5638680"/>
            <a:ext cx="304920" cy="457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3124080" y="4495680"/>
            <a:ext cx="304920" cy="457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3200" y="4724280"/>
            <a:ext cx="30492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895480" y="3124080"/>
            <a:ext cx="5335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5105520"/>
            <a:ext cx="76320" cy="75960"/>
          </a:xfrm>
          <a:prstGeom prst="ellipse">
            <a:avLst/>
          </a:prstGeom>
          <a:solidFill>
            <a:srgbClr val="007c5c"/>
          </a:solidFill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5257800"/>
            <a:ext cx="76320" cy="76320"/>
          </a:xfrm>
          <a:prstGeom prst="ellipse">
            <a:avLst/>
          </a:prstGeom>
          <a:solidFill>
            <a:srgbClr val="007c5c"/>
          </a:solidFill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5410080"/>
            <a:ext cx="76320" cy="76320"/>
          </a:xfrm>
          <a:prstGeom prst="ellipse">
            <a:avLst/>
          </a:prstGeom>
          <a:solidFill>
            <a:srgbClr val="007c5c"/>
          </a:solidFill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2286000"/>
            <a:ext cx="457200" cy="838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29200" y="3886200"/>
            <a:ext cx="3809880" cy="26668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019920" y="42670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19920" y="579132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19920" y="4724280"/>
            <a:ext cx="167616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0"/>
                </a:moveTo>
                <a:lnTo>
                  <a:pt x="480" y="0"/>
                </a:lnTo>
                <a:lnTo>
                  <a:pt x="912" y="336"/>
                </a:lnTo>
                <a:lnTo>
                  <a:pt x="1056" y="67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15200" y="4876920"/>
            <a:ext cx="533520" cy="1218960"/>
          </a:xfrm>
          <a:prstGeom prst="ellipse">
            <a:avLst/>
          </a:prstGeom>
          <a:noFill/>
          <a:ln w="28440">
            <a:solidFill>
              <a:srgbClr val="007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72400" y="38098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912"/>
                </a:moveTo>
                <a:cubicBezTo>
                  <a:pt x="48" y="816"/>
                  <a:pt x="96" y="720"/>
                  <a:pt x="144" y="672"/>
                </a:cubicBezTo>
                <a:cubicBezTo>
                  <a:pt x="192" y="624"/>
                  <a:pt x="256" y="608"/>
                  <a:pt x="288" y="624"/>
                </a:cubicBezTo>
                <a:cubicBezTo>
                  <a:pt x="320" y="640"/>
                  <a:pt x="344" y="728"/>
                  <a:pt x="336" y="768"/>
                </a:cubicBezTo>
                <a:cubicBezTo>
                  <a:pt x="328" y="808"/>
                  <a:pt x="272" y="864"/>
                  <a:pt x="240" y="864"/>
                </a:cubicBezTo>
                <a:cubicBezTo>
                  <a:pt x="208" y="864"/>
                  <a:pt x="152" y="840"/>
                  <a:pt x="144" y="768"/>
                </a:cubicBezTo>
                <a:cubicBezTo>
                  <a:pt x="136" y="696"/>
                  <a:pt x="160" y="488"/>
                  <a:pt x="192" y="432"/>
                </a:cubicBezTo>
                <a:cubicBezTo>
                  <a:pt x="224" y="376"/>
                  <a:pt x="312" y="416"/>
                  <a:pt x="336" y="432"/>
                </a:cubicBezTo>
                <a:cubicBezTo>
                  <a:pt x="360" y="448"/>
                  <a:pt x="352" y="520"/>
                  <a:pt x="336" y="528"/>
                </a:cubicBezTo>
                <a:cubicBezTo>
                  <a:pt x="320" y="536"/>
                  <a:pt x="240" y="544"/>
                  <a:pt x="240" y="480"/>
                </a:cubicBezTo>
                <a:cubicBezTo>
                  <a:pt x="240" y="416"/>
                  <a:pt x="296" y="224"/>
                  <a:pt x="336" y="144"/>
                </a:cubicBezTo>
                <a:cubicBezTo>
                  <a:pt x="376" y="64"/>
                  <a:pt x="428" y="32"/>
                  <a:pt x="480" y="0"/>
                </a:cubicBezTo>
              </a:path>
            </a:pathLst>
          </a:custGeom>
          <a:noFill/>
          <a:ln w="28440">
            <a:solidFill>
              <a:srgbClr val="007c5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c5c"/>
                </a:solidFill>
                <a:latin typeface="Times New Roman"/>
              </a:rPr>
              <a:t>低通滤波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2362320"/>
            <a:ext cx="381240" cy="8380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3505320"/>
            <a:ext cx="1447920" cy="9903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304812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布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2971800"/>
            <a:ext cx="11430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控制高频信号的回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路中的强辐射信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57200" y="25146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4876920"/>
            <a:ext cx="3733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19320" y="4229280"/>
            <a:ext cx="2590560" cy="647640"/>
          </a:xfrm>
          <a:custGeom>
            <a:avLst/>
            <a:gdLst/>
            <a:ahLst/>
            <a:rect l="l" t="t" r="r" b="b"/>
            <a:pathLst>
              <a:path w="1632" h="408">
                <a:moveTo>
                  <a:pt x="0" y="408"/>
                </a:moveTo>
                <a:cubicBezTo>
                  <a:pt x="88" y="376"/>
                  <a:pt x="176" y="344"/>
                  <a:pt x="240" y="312"/>
                </a:cubicBezTo>
                <a:cubicBezTo>
                  <a:pt x="304" y="280"/>
                  <a:pt x="336" y="232"/>
                  <a:pt x="384" y="216"/>
                </a:cubicBezTo>
                <a:cubicBezTo>
                  <a:pt x="432" y="200"/>
                  <a:pt x="488" y="232"/>
                  <a:pt x="528" y="216"/>
                </a:cubicBezTo>
                <a:cubicBezTo>
                  <a:pt x="568" y="200"/>
                  <a:pt x="568" y="136"/>
                  <a:pt x="624" y="120"/>
                </a:cubicBezTo>
                <a:cubicBezTo>
                  <a:pt x="680" y="104"/>
                  <a:pt x="792" y="136"/>
                  <a:pt x="864" y="120"/>
                </a:cubicBezTo>
                <a:cubicBezTo>
                  <a:pt x="936" y="104"/>
                  <a:pt x="984" y="0"/>
                  <a:pt x="1056" y="24"/>
                </a:cubicBezTo>
                <a:cubicBezTo>
                  <a:pt x="1128" y="48"/>
                  <a:pt x="1232" y="216"/>
                  <a:pt x="1296" y="264"/>
                </a:cubicBezTo>
                <a:cubicBezTo>
                  <a:pt x="1360" y="312"/>
                  <a:pt x="1384" y="296"/>
                  <a:pt x="1440" y="312"/>
                </a:cubicBezTo>
                <a:cubicBezTo>
                  <a:pt x="1496" y="328"/>
                  <a:pt x="1564" y="344"/>
                  <a:pt x="1632" y="36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42670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" y="4952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1                10                100                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76520" y="41911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2880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0200" y="41911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8108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3962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6520" y="38098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33526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0400" y="3886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09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71600" y="42670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44197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512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3657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62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81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76720" y="4114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43200" y="3809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0384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954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41148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41148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41148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38280" y="41148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4343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41911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05320" y="4419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9000" y="4343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029200" y="25146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4876920"/>
            <a:ext cx="3733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4952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1                10                100                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48520" y="41911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48520" y="3809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77120" y="4038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91520" y="33526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72400" y="3886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40384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162920" y="36576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2670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19920" y="44197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77120" y="37339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36576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34320" y="36576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36576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924680" y="41911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153280" y="4343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05920" y="434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1320" y="4699080"/>
            <a:ext cx="2603520" cy="177840"/>
          </a:xfrm>
          <a:custGeom>
            <a:avLst/>
            <a:gdLst/>
            <a:ahLst/>
            <a:rect l="l" t="t" r="r" b="b"/>
            <a:pathLst>
              <a:path w="1640" h="112">
                <a:moveTo>
                  <a:pt x="0" y="112"/>
                </a:moveTo>
                <a:cubicBezTo>
                  <a:pt x="200" y="96"/>
                  <a:pt x="400" y="80"/>
                  <a:pt x="528" y="64"/>
                </a:cubicBezTo>
                <a:cubicBezTo>
                  <a:pt x="656" y="48"/>
                  <a:pt x="696" y="24"/>
                  <a:pt x="768" y="16"/>
                </a:cubicBezTo>
                <a:cubicBezTo>
                  <a:pt x="840" y="8"/>
                  <a:pt x="904" y="16"/>
                  <a:pt x="960" y="16"/>
                </a:cubicBezTo>
                <a:cubicBezTo>
                  <a:pt x="1016" y="16"/>
                  <a:pt x="1048" y="16"/>
                  <a:pt x="1104" y="16"/>
                </a:cubicBezTo>
                <a:cubicBezTo>
                  <a:pt x="1160" y="16"/>
                  <a:pt x="1216" y="16"/>
                  <a:pt x="1296" y="16"/>
                </a:cubicBezTo>
                <a:cubicBezTo>
                  <a:pt x="1376" y="16"/>
                  <a:pt x="1528" y="0"/>
                  <a:pt x="1584" y="16"/>
                </a:cubicBezTo>
                <a:cubicBezTo>
                  <a:pt x="1640" y="32"/>
                  <a:pt x="1636" y="72"/>
                  <a:pt x="1632" y="11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" y="23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055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9072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电路加电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时钟电路加电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控制回路面积是布线的主要目的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rcRect l="19153" t="0" r="0" b="0"/>
          <a:stretch/>
        </p:blipFill>
        <p:spPr>
          <a:xfrm>
            <a:off x="152280" y="3772080"/>
            <a:ext cx="8987040" cy="30096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4267080" y="6324480"/>
            <a:ext cx="1219320" cy="398880"/>
          </a:xfrm>
          <a:prstGeom prst="rect">
            <a:avLst/>
          </a:prstGeom>
          <a:solidFill>
            <a:srgbClr val="a6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=2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1676520"/>
            <a:ext cx="381240" cy="3808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减小面积降低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2181240" y="2114640"/>
            <a:ext cx="6048360" cy="41338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57200" y="2590920"/>
            <a:ext cx="15238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=10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" y="4876920"/>
            <a:ext cx="15238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=5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640640" cy="63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单层或双层板如何减小环路的面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1693800" y="3130560"/>
            <a:ext cx="1887480" cy="67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3130560"/>
            <a:ext cx="1887480" cy="67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10280" y="5035680"/>
            <a:ext cx="1887480" cy="67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93800" y="5035680"/>
            <a:ext cx="1887480" cy="67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6364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4624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2740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0820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8936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71960" y="2978280"/>
            <a:ext cx="568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5276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6364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4624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2740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0820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8936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1960" y="3816360"/>
            <a:ext cx="568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45276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1028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9288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7368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5484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33564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824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99400" y="381636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9940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1028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288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7368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5484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33564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18240" y="29782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6364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4624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2740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0820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8936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71960" y="4883040"/>
            <a:ext cx="568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5276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364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4624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2740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0820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8936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71960" y="5721480"/>
            <a:ext cx="568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5276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8156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56272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4352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0728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8808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69240" y="488304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96924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156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4352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2468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0728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688080" y="5721480"/>
            <a:ext cx="58680" cy="13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82960" y="4578480"/>
            <a:ext cx="0" cy="1739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89440" y="6324480"/>
            <a:ext cx="10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35320" y="4572000"/>
            <a:ext cx="15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82960" y="4572000"/>
            <a:ext cx="0" cy="1752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82960" y="6324480"/>
            <a:ext cx="1055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38840" y="59436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4419720"/>
            <a:ext cx="2743200" cy="2057400"/>
          </a:xfrm>
          <a:custGeom>
            <a:avLst/>
            <a:gdLst/>
            <a:ahLst/>
            <a:rect l="l" t="t" r="r" b="b"/>
            <a:pathLst>
              <a:path w="1728" h="1296">
                <a:moveTo>
                  <a:pt x="0" y="288"/>
                </a:moveTo>
                <a:lnTo>
                  <a:pt x="0" y="0"/>
                </a:lnTo>
                <a:lnTo>
                  <a:pt x="1056" y="0"/>
                </a:lnTo>
                <a:lnTo>
                  <a:pt x="1056" y="1152"/>
                </a:lnTo>
                <a:lnTo>
                  <a:pt x="1632" y="1152"/>
                </a:lnTo>
                <a:lnTo>
                  <a:pt x="1632" y="912"/>
                </a:lnTo>
                <a:lnTo>
                  <a:pt x="1728" y="912"/>
                </a:lnTo>
                <a:lnTo>
                  <a:pt x="1728" y="1296"/>
                </a:lnTo>
                <a:lnTo>
                  <a:pt x="960" y="1296"/>
                </a:lnTo>
                <a:lnTo>
                  <a:pt x="960" y="192"/>
                </a:lnTo>
                <a:lnTo>
                  <a:pt x="144" y="192"/>
                </a:lnTo>
                <a:lnTo>
                  <a:pt x="144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007c5c"/>
          </a:solidFill>
          <a:ln w="57240">
            <a:solidFill>
              <a:srgbClr val="007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4572000"/>
            <a:ext cx="2666880" cy="1752480"/>
          </a:xfrm>
          <a:custGeom>
            <a:avLst/>
            <a:gdLst/>
            <a:ahLst/>
            <a:rect l="l" t="t" r="r" b="b"/>
            <a:pathLst>
              <a:path w="1680" h="1104">
                <a:moveTo>
                  <a:pt x="0" y="240"/>
                </a:moveTo>
                <a:lnTo>
                  <a:pt x="96" y="240"/>
                </a:lnTo>
                <a:lnTo>
                  <a:pt x="96" y="0"/>
                </a:lnTo>
                <a:lnTo>
                  <a:pt x="1008" y="0"/>
                </a:lnTo>
                <a:lnTo>
                  <a:pt x="1008" y="1104"/>
                </a:lnTo>
                <a:lnTo>
                  <a:pt x="1680" y="1104"/>
                </a:lnTo>
                <a:lnTo>
                  <a:pt x="1680" y="81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76720" y="2514600"/>
            <a:ext cx="2743200" cy="175248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0" y="384"/>
                </a:moveTo>
                <a:lnTo>
                  <a:pt x="0" y="0"/>
                </a:lnTo>
                <a:lnTo>
                  <a:pt x="912" y="0"/>
                </a:lnTo>
                <a:lnTo>
                  <a:pt x="912" y="1008"/>
                </a:lnTo>
                <a:lnTo>
                  <a:pt x="1680" y="1008"/>
                </a:lnTo>
                <a:lnTo>
                  <a:pt x="1680" y="816"/>
                </a:lnTo>
                <a:lnTo>
                  <a:pt x="1776" y="816"/>
                </a:lnTo>
                <a:lnTo>
                  <a:pt x="1776" y="1104"/>
                </a:lnTo>
                <a:lnTo>
                  <a:pt x="816" y="1104"/>
                </a:lnTo>
                <a:lnTo>
                  <a:pt x="816" y="96"/>
                </a:lnTo>
                <a:lnTo>
                  <a:pt x="96" y="96"/>
                </a:lnTo>
                <a:lnTo>
                  <a:pt x="96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007c5c"/>
          </a:solidFill>
          <a:ln w="57240">
            <a:solidFill>
              <a:srgbClr val="007c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438280"/>
            <a:ext cx="2666880" cy="16002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384"/>
                </a:moveTo>
                <a:lnTo>
                  <a:pt x="0" y="0"/>
                </a:lnTo>
                <a:lnTo>
                  <a:pt x="960" y="0"/>
                </a:lnTo>
                <a:lnTo>
                  <a:pt x="960" y="1104"/>
                </a:lnTo>
                <a:lnTo>
                  <a:pt x="1632" y="1104"/>
                </a:lnTo>
                <a:lnTo>
                  <a:pt x="1632" y="96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不良布线举例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43904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09200" y="887040"/>
            <a:ext cx="7334280" cy="63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不良布线举例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2438280" y="2139840"/>
            <a:ext cx="4213440" cy="410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59200" y="2673360"/>
            <a:ext cx="1043280" cy="97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94520" y="4356000"/>
            <a:ext cx="339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40360" y="4044960"/>
            <a:ext cx="409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81400" y="2901960"/>
            <a:ext cx="550800" cy="67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70080" y="3892680"/>
            <a:ext cx="270000" cy="67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44800" y="3968640"/>
            <a:ext cx="270000" cy="59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70080" y="5111640"/>
            <a:ext cx="270000" cy="52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056120" y="5111640"/>
            <a:ext cx="269640" cy="52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19440" y="2292480"/>
            <a:ext cx="3551040" cy="10800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94520" y="2368440"/>
            <a:ext cx="75960" cy="167004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51320" y="2368440"/>
            <a:ext cx="59040" cy="36828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0" y="2292480"/>
            <a:ext cx="57240" cy="219708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719440" y="4425840"/>
            <a:ext cx="339840" cy="6372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59120" y="4502160"/>
            <a:ext cx="58680" cy="143496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30400" y="5873760"/>
            <a:ext cx="2027520" cy="6336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98880" y="4654440"/>
            <a:ext cx="59040" cy="120672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70520" y="4654440"/>
            <a:ext cx="58680" cy="6372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41720" y="5645160"/>
            <a:ext cx="58680" cy="21600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25960" y="5645160"/>
            <a:ext cx="58680" cy="21600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24360" y="3049560"/>
            <a:ext cx="98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68HC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29040" y="3511440"/>
            <a:ext cx="59040" cy="74952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98880" y="4197240"/>
            <a:ext cx="130320" cy="6372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602320" y="3511440"/>
            <a:ext cx="58680" cy="90180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62640" y="4349880"/>
            <a:ext cx="198360" cy="63360"/>
          </a:xfrm>
          <a:prstGeom prst="rect">
            <a:avLst/>
          </a:prstGeom>
          <a:solidFill>
            <a:srgbClr val="cc33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3080" y="4344840"/>
            <a:ext cx="91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74HC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594320" y="5032440"/>
            <a:ext cx="69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89600" y="3811680"/>
            <a:ext cx="4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56080" y="5076720"/>
            <a:ext cx="12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连接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060800" y="3733920"/>
            <a:ext cx="83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时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75200" y="4038480"/>
            <a:ext cx="121932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720"/>
                </a:moveTo>
                <a:cubicBezTo>
                  <a:pt x="176" y="684"/>
                  <a:pt x="352" y="648"/>
                  <a:pt x="480" y="528"/>
                </a:cubicBezTo>
                <a:cubicBezTo>
                  <a:pt x="608" y="408"/>
                  <a:pt x="688" y="204"/>
                  <a:pt x="768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走线是主要辐射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668" t="5906" r="9334" b="0"/>
          <a:stretch/>
        </p:blipFill>
        <p:spPr>
          <a:xfrm>
            <a:off x="4572000" y="2133720"/>
            <a:ext cx="4343400" cy="164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8171" b="0"/>
          <a:stretch/>
        </p:blipFill>
        <p:spPr>
          <a:xfrm>
            <a:off x="152280" y="2133720"/>
            <a:ext cx="3429000" cy="1724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024440"/>
            <a:ext cx="3047760" cy="252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随便设置的地线没有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4800600" y="2666880"/>
            <a:ext cx="4191120" cy="2286000"/>
          </a:xfrm>
          <a:prstGeom prst="rect">
            <a:avLst/>
          </a:prstGeom>
          <a:solidFill>
            <a:srgbClr val="007c5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81480" y="2971800"/>
            <a:ext cx="306360" cy="1295280"/>
            <a:chOff x="5181480" y="2971800"/>
            <a:chExt cx="306360" cy="1295280"/>
          </a:xfrm>
        </p:grpSpPr>
        <p:sp>
          <p:nvSpPr>
            <p:cNvPr id="842" name=""/>
            <p:cNvSpPr/>
            <p:nvPr/>
          </p:nvSpPr>
          <p:spPr>
            <a:xfrm>
              <a:off x="5181480" y="3429000"/>
              <a:ext cx="1800" cy="83808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384"/>
                  </a:ln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57800" y="3352680"/>
              <a:ext cx="1440" cy="83844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384"/>
                  </a:ln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34120" y="3276720"/>
              <a:ext cx="1440" cy="83808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384"/>
                  </a:ln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08640" y="3124080"/>
              <a:ext cx="1440" cy="83844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384"/>
                  </a:ln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86400" y="2971800"/>
              <a:ext cx="1440" cy="838080"/>
            </a:xfrm>
            <a:custGeom>
              <a:avLst/>
              <a:gdLst/>
              <a:ahLst/>
              <a:rect l="l" t="t" r="r" b="b"/>
              <a:pathLst>
                <a:path w="1" h="528">
                  <a:moveTo>
                    <a:pt x="0" y="0"/>
                  </a:moveTo>
                  <a:lnTo>
                    <a:pt x="0" y="384"/>
                  </a:ln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594360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92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09588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17220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4852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324480" y="32004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0" y="912"/>
                </a:moveTo>
                <a:lnTo>
                  <a:pt x="144" y="76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08660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6292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3888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6748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4380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012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9608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763120" y="34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686800" y="3276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61048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15328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77320" y="2971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9608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2012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4267080"/>
            <a:ext cx="76320" cy="533520"/>
          </a:xfrm>
          <a:custGeom>
            <a:avLst/>
            <a:gdLst/>
            <a:ahLst/>
            <a:rect l="l" t="t" r="r" b="b"/>
            <a:pathLst>
              <a:path w="48" h="336">
                <a:moveTo>
                  <a:pt x="0" y="0"/>
                </a:moveTo>
                <a:lnTo>
                  <a:pt x="48" y="96"/>
                </a:lnTo>
                <a:lnTo>
                  <a:pt x="48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267080"/>
            <a:ext cx="75960" cy="533520"/>
          </a:xfrm>
          <a:custGeom>
            <a:avLst/>
            <a:gdLst/>
            <a:ahLst/>
            <a:rect l="l" t="t" r="r" b="b"/>
            <a:pathLst>
              <a:path w="48" h="336">
                <a:moveTo>
                  <a:pt x="0" y="0"/>
                </a:moveTo>
                <a:lnTo>
                  <a:pt x="48" y="96"/>
                </a:lnTo>
                <a:lnTo>
                  <a:pt x="48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1880" y="4267080"/>
            <a:ext cx="76320" cy="533520"/>
          </a:xfrm>
          <a:custGeom>
            <a:avLst/>
            <a:gdLst/>
            <a:ahLst/>
            <a:rect l="l" t="t" r="r" b="b"/>
            <a:pathLst>
              <a:path w="48" h="336">
                <a:moveTo>
                  <a:pt x="0" y="0"/>
                </a:moveTo>
                <a:lnTo>
                  <a:pt x="48" y="96"/>
                </a:lnTo>
                <a:lnTo>
                  <a:pt x="48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4267080"/>
            <a:ext cx="76320" cy="533520"/>
          </a:xfrm>
          <a:custGeom>
            <a:avLst/>
            <a:gdLst/>
            <a:ahLst/>
            <a:rect l="l" t="t" r="r" b="b"/>
            <a:pathLst>
              <a:path w="48" h="336">
                <a:moveTo>
                  <a:pt x="0" y="0"/>
                </a:moveTo>
                <a:lnTo>
                  <a:pt x="48" y="96"/>
                </a:lnTo>
                <a:lnTo>
                  <a:pt x="48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2666880"/>
            <a:ext cx="4191120" cy="22860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0880" y="2654280"/>
            <a:ext cx="4077000" cy="2298600"/>
          </a:xfrm>
          <a:custGeom>
            <a:avLst/>
            <a:gdLst/>
            <a:ahLst/>
            <a:rect l="l" t="t" r="r" b="b"/>
            <a:pathLst>
              <a:path w="2568" h="1520">
                <a:moveTo>
                  <a:pt x="2448" y="152"/>
                </a:moveTo>
                <a:cubicBezTo>
                  <a:pt x="2328" y="0"/>
                  <a:pt x="2024" y="152"/>
                  <a:pt x="1728" y="152"/>
                </a:cubicBezTo>
                <a:cubicBezTo>
                  <a:pt x="1432" y="152"/>
                  <a:pt x="920" y="152"/>
                  <a:pt x="672" y="152"/>
                </a:cubicBezTo>
                <a:cubicBezTo>
                  <a:pt x="424" y="152"/>
                  <a:pt x="344" y="120"/>
                  <a:pt x="240" y="152"/>
                </a:cubicBezTo>
                <a:cubicBezTo>
                  <a:pt x="136" y="184"/>
                  <a:pt x="88" y="280"/>
                  <a:pt x="48" y="344"/>
                </a:cubicBezTo>
                <a:cubicBezTo>
                  <a:pt x="8" y="408"/>
                  <a:pt x="0" y="488"/>
                  <a:pt x="0" y="536"/>
                </a:cubicBezTo>
                <a:cubicBezTo>
                  <a:pt x="0" y="584"/>
                  <a:pt x="16" y="592"/>
                  <a:pt x="48" y="632"/>
                </a:cubicBezTo>
                <a:cubicBezTo>
                  <a:pt x="80" y="672"/>
                  <a:pt x="144" y="760"/>
                  <a:pt x="192" y="776"/>
                </a:cubicBezTo>
                <a:cubicBezTo>
                  <a:pt x="240" y="792"/>
                  <a:pt x="296" y="768"/>
                  <a:pt x="336" y="728"/>
                </a:cubicBezTo>
                <a:cubicBezTo>
                  <a:pt x="376" y="688"/>
                  <a:pt x="384" y="576"/>
                  <a:pt x="432" y="536"/>
                </a:cubicBezTo>
                <a:cubicBezTo>
                  <a:pt x="480" y="496"/>
                  <a:pt x="480" y="496"/>
                  <a:pt x="624" y="488"/>
                </a:cubicBezTo>
                <a:cubicBezTo>
                  <a:pt x="768" y="480"/>
                  <a:pt x="1104" y="488"/>
                  <a:pt x="1296" y="488"/>
                </a:cubicBezTo>
                <a:cubicBezTo>
                  <a:pt x="1488" y="488"/>
                  <a:pt x="1672" y="488"/>
                  <a:pt x="1776" y="488"/>
                </a:cubicBezTo>
                <a:cubicBezTo>
                  <a:pt x="1880" y="488"/>
                  <a:pt x="1896" y="472"/>
                  <a:pt x="1920" y="488"/>
                </a:cubicBezTo>
                <a:cubicBezTo>
                  <a:pt x="1944" y="504"/>
                  <a:pt x="2000" y="568"/>
                  <a:pt x="1920" y="584"/>
                </a:cubicBezTo>
                <a:cubicBezTo>
                  <a:pt x="1840" y="600"/>
                  <a:pt x="1576" y="584"/>
                  <a:pt x="1440" y="584"/>
                </a:cubicBezTo>
                <a:cubicBezTo>
                  <a:pt x="1304" y="584"/>
                  <a:pt x="1208" y="584"/>
                  <a:pt x="1104" y="584"/>
                </a:cubicBezTo>
                <a:cubicBezTo>
                  <a:pt x="1000" y="584"/>
                  <a:pt x="904" y="576"/>
                  <a:pt x="816" y="584"/>
                </a:cubicBezTo>
                <a:cubicBezTo>
                  <a:pt x="728" y="592"/>
                  <a:pt x="624" y="592"/>
                  <a:pt x="576" y="632"/>
                </a:cubicBezTo>
                <a:cubicBezTo>
                  <a:pt x="528" y="672"/>
                  <a:pt x="536" y="768"/>
                  <a:pt x="528" y="824"/>
                </a:cubicBezTo>
                <a:cubicBezTo>
                  <a:pt x="520" y="880"/>
                  <a:pt x="512" y="944"/>
                  <a:pt x="528" y="968"/>
                </a:cubicBezTo>
                <a:cubicBezTo>
                  <a:pt x="544" y="992"/>
                  <a:pt x="528" y="968"/>
                  <a:pt x="624" y="968"/>
                </a:cubicBezTo>
                <a:cubicBezTo>
                  <a:pt x="720" y="968"/>
                  <a:pt x="1008" y="1000"/>
                  <a:pt x="1104" y="968"/>
                </a:cubicBezTo>
                <a:cubicBezTo>
                  <a:pt x="1200" y="936"/>
                  <a:pt x="1160" y="792"/>
                  <a:pt x="1200" y="776"/>
                </a:cubicBezTo>
                <a:cubicBezTo>
                  <a:pt x="1240" y="760"/>
                  <a:pt x="1336" y="816"/>
                  <a:pt x="1344" y="872"/>
                </a:cubicBezTo>
                <a:cubicBezTo>
                  <a:pt x="1352" y="928"/>
                  <a:pt x="1312" y="1072"/>
                  <a:pt x="1248" y="1112"/>
                </a:cubicBezTo>
                <a:cubicBezTo>
                  <a:pt x="1184" y="1152"/>
                  <a:pt x="1064" y="1112"/>
                  <a:pt x="960" y="1112"/>
                </a:cubicBezTo>
                <a:cubicBezTo>
                  <a:pt x="856" y="1112"/>
                  <a:pt x="728" y="1152"/>
                  <a:pt x="624" y="1112"/>
                </a:cubicBezTo>
                <a:cubicBezTo>
                  <a:pt x="520" y="1072"/>
                  <a:pt x="424" y="912"/>
                  <a:pt x="336" y="872"/>
                </a:cubicBezTo>
                <a:cubicBezTo>
                  <a:pt x="248" y="832"/>
                  <a:pt x="144" y="840"/>
                  <a:pt x="96" y="872"/>
                </a:cubicBezTo>
                <a:cubicBezTo>
                  <a:pt x="48" y="904"/>
                  <a:pt x="40" y="992"/>
                  <a:pt x="48" y="1064"/>
                </a:cubicBezTo>
                <a:cubicBezTo>
                  <a:pt x="56" y="1136"/>
                  <a:pt x="88" y="1256"/>
                  <a:pt x="144" y="1304"/>
                </a:cubicBezTo>
                <a:cubicBezTo>
                  <a:pt x="200" y="1352"/>
                  <a:pt x="288" y="1344"/>
                  <a:pt x="384" y="1352"/>
                </a:cubicBezTo>
                <a:cubicBezTo>
                  <a:pt x="480" y="1360"/>
                  <a:pt x="592" y="1352"/>
                  <a:pt x="720" y="1352"/>
                </a:cubicBezTo>
                <a:cubicBezTo>
                  <a:pt x="848" y="1352"/>
                  <a:pt x="1056" y="1376"/>
                  <a:pt x="1152" y="1352"/>
                </a:cubicBezTo>
                <a:cubicBezTo>
                  <a:pt x="1248" y="1328"/>
                  <a:pt x="1208" y="1240"/>
                  <a:pt x="1296" y="1208"/>
                </a:cubicBezTo>
                <a:cubicBezTo>
                  <a:pt x="1384" y="1176"/>
                  <a:pt x="1568" y="1168"/>
                  <a:pt x="1680" y="1160"/>
                </a:cubicBezTo>
                <a:cubicBezTo>
                  <a:pt x="1792" y="1152"/>
                  <a:pt x="1880" y="1160"/>
                  <a:pt x="1968" y="1160"/>
                </a:cubicBezTo>
                <a:cubicBezTo>
                  <a:pt x="2056" y="1160"/>
                  <a:pt x="2168" y="1144"/>
                  <a:pt x="2208" y="1160"/>
                </a:cubicBezTo>
                <a:cubicBezTo>
                  <a:pt x="2248" y="1176"/>
                  <a:pt x="2288" y="1232"/>
                  <a:pt x="2208" y="1256"/>
                </a:cubicBezTo>
                <a:cubicBezTo>
                  <a:pt x="2128" y="1280"/>
                  <a:pt x="1848" y="1296"/>
                  <a:pt x="1728" y="1304"/>
                </a:cubicBezTo>
                <a:cubicBezTo>
                  <a:pt x="1608" y="1312"/>
                  <a:pt x="1520" y="1280"/>
                  <a:pt x="1488" y="1304"/>
                </a:cubicBezTo>
                <a:cubicBezTo>
                  <a:pt x="1456" y="1328"/>
                  <a:pt x="1504" y="1416"/>
                  <a:pt x="1536" y="1448"/>
                </a:cubicBezTo>
                <a:cubicBezTo>
                  <a:pt x="1568" y="1480"/>
                  <a:pt x="1560" y="1488"/>
                  <a:pt x="1680" y="1496"/>
                </a:cubicBezTo>
                <a:cubicBezTo>
                  <a:pt x="1800" y="1504"/>
                  <a:pt x="2128" y="1504"/>
                  <a:pt x="2256" y="1496"/>
                </a:cubicBezTo>
                <a:cubicBezTo>
                  <a:pt x="2384" y="1488"/>
                  <a:pt x="2416" y="1520"/>
                  <a:pt x="2448" y="1448"/>
                </a:cubicBezTo>
                <a:cubicBezTo>
                  <a:pt x="2480" y="1376"/>
                  <a:pt x="2448" y="1280"/>
                  <a:pt x="2448" y="1064"/>
                </a:cubicBezTo>
                <a:cubicBezTo>
                  <a:pt x="2448" y="848"/>
                  <a:pt x="2568" y="304"/>
                  <a:pt x="2448" y="15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" y="2971800"/>
            <a:ext cx="2666880" cy="533520"/>
          </a:xfrm>
          <a:custGeom>
            <a:avLst/>
            <a:gdLst/>
            <a:ahLst/>
            <a:rect l="l" t="t" r="r" b="b"/>
            <a:pathLst>
              <a:path w="1680" h="336">
                <a:moveTo>
                  <a:pt x="0" y="336"/>
                </a:moveTo>
                <a:lnTo>
                  <a:pt x="240" y="0"/>
                </a:lnTo>
                <a:lnTo>
                  <a:pt x="16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3048120"/>
            <a:ext cx="2666880" cy="533160"/>
          </a:xfrm>
          <a:custGeom>
            <a:avLst/>
            <a:gdLst/>
            <a:ahLst/>
            <a:rect l="l" t="t" r="r" b="b"/>
            <a:pathLst>
              <a:path w="1680" h="336">
                <a:moveTo>
                  <a:pt x="0" y="336"/>
                </a:moveTo>
                <a:lnTo>
                  <a:pt x="240" y="0"/>
                </a:lnTo>
                <a:lnTo>
                  <a:pt x="16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9480" y="3124080"/>
            <a:ext cx="2667240" cy="533520"/>
          </a:xfrm>
          <a:custGeom>
            <a:avLst/>
            <a:gdLst/>
            <a:ahLst/>
            <a:rect l="l" t="t" r="r" b="b"/>
            <a:pathLst>
              <a:path w="1680" h="336">
                <a:moveTo>
                  <a:pt x="0" y="336"/>
                </a:moveTo>
                <a:lnTo>
                  <a:pt x="240" y="0"/>
                </a:lnTo>
                <a:lnTo>
                  <a:pt x="16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3200400"/>
            <a:ext cx="2666880" cy="533520"/>
          </a:xfrm>
          <a:custGeom>
            <a:avLst/>
            <a:gdLst/>
            <a:ahLst/>
            <a:rect l="l" t="t" r="r" b="b"/>
            <a:pathLst>
              <a:path w="1680" h="336">
                <a:moveTo>
                  <a:pt x="0" y="336"/>
                </a:moveTo>
                <a:lnTo>
                  <a:pt x="240" y="0"/>
                </a:lnTo>
                <a:lnTo>
                  <a:pt x="16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47920" y="3733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4792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743200" y="365760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384" y="0"/>
                </a:lnTo>
                <a:lnTo>
                  <a:pt x="52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743200" y="373392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384" y="0"/>
                </a:lnTo>
                <a:lnTo>
                  <a:pt x="52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666880" y="3809880"/>
            <a:ext cx="83844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384" y="0"/>
                </a:lnTo>
                <a:lnTo>
                  <a:pt x="52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590920" y="388620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384" y="0"/>
                </a:lnTo>
                <a:lnTo>
                  <a:pt x="528" y="9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403848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240" y="192"/>
                </a:lnTo>
                <a:lnTo>
                  <a:pt x="432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411480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240" y="192"/>
                </a:lnTo>
                <a:lnTo>
                  <a:pt x="432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3520" y="41911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240" y="192"/>
                </a:lnTo>
                <a:lnTo>
                  <a:pt x="432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749840" y="2666880"/>
            <a:ext cx="4165560" cy="2235240"/>
          </a:xfrm>
          <a:custGeom>
            <a:avLst/>
            <a:gdLst/>
            <a:ahLst/>
            <a:rect l="l" t="t" r="r" b="b"/>
            <a:pathLst>
              <a:path w="2624" h="1408">
                <a:moveTo>
                  <a:pt x="152" y="80"/>
                </a:moveTo>
                <a:cubicBezTo>
                  <a:pt x="0" y="160"/>
                  <a:pt x="152" y="400"/>
                  <a:pt x="152" y="560"/>
                </a:cubicBezTo>
                <a:cubicBezTo>
                  <a:pt x="152" y="720"/>
                  <a:pt x="144" y="928"/>
                  <a:pt x="152" y="1040"/>
                </a:cubicBezTo>
                <a:cubicBezTo>
                  <a:pt x="160" y="1152"/>
                  <a:pt x="160" y="1200"/>
                  <a:pt x="200" y="1232"/>
                </a:cubicBezTo>
                <a:cubicBezTo>
                  <a:pt x="240" y="1264"/>
                  <a:pt x="336" y="1280"/>
                  <a:pt x="392" y="1232"/>
                </a:cubicBezTo>
                <a:cubicBezTo>
                  <a:pt x="448" y="1184"/>
                  <a:pt x="512" y="1072"/>
                  <a:pt x="536" y="944"/>
                </a:cubicBezTo>
                <a:cubicBezTo>
                  <a:pt x="560" y="816"/>
                  <a:pt x="536" y="584"/>
                  <a:pt x="536" y="464"/>
                </a:cubicBezTo>
                <a:cubicBezTo>
                  <a:pt x="536" y="344"/>
                  <a:pt x="520" y="264"/>
                  <a:pt x="536" y="224"/>
                </a:cubicBezTo>
                <a:cubicBezTo>
                  <a:pt x="552" y="184"/>
                  <a:pt x="592" y="224"/>
                  <a:pt x="632" y="224"/>
                </a:cubicBezTo>
                <a:cubicBezTo>
                  <a:pt x="672" y="224"/>
                  <a:pt x="752" y="160"/>
                  <a:pt x="776" y="224"/>
                </a:cubicBezTo>
                <a:cubicBezTo>
                  <a:pt x="800" y="288"/>
                  <a:pt x="776" y="488"/>
                  <a:pt x="776" y="608"/>
                </a:cubicBezTo>
                <a:cubicBezTo>
                  <a:pt x="776" y="728"/>
                  <a:pt x="792" y="832"/>
                  <a:pt x="776" y="944"/>
                </a:cubicBezTo>
                <a:cubicBezTo>
                  <a:pt x="760" y="1056"/>
                  <a:pt x="680" y="1208"/>
                  <a:pt x="680" y="1280"/>
                </a:cubicBezTo>
                <a:cubicBezTo>
                  <a:pt x="680" y="1352"/>
                  <a:pt x="712" y="1360"/>
                  <a:pt x="776" y="1376"/>
                </a:cubicBezTo>
                <a:cubicBezTo>
                  <a:pt x="840" y="1392"/>
                  <a:pt x="992" y="1408"/>
                  <a:pt x="1064" y="1376"/>
                </a:cubicBezTo>
                <a:cubicBezTo>
                  <a:pt x="1136" y="1344"/>
                  <a:pt x="1184" y="1320"/>
                  <a:pt x="1208" y="1184"/>
                </a:cubicBezTo>
                <a:cubicBezTo>
                  <a:pt x="1232" y="1048"/>
                  <a:pt x="1208" y="704"/>
                  <a:pt x="1208" y="560"/>
                </a:cubicBezTo>
                <a:cubicBezTo>
                  <a:pt x="1208" y="416"/>
                  <a:pt x="1168" y="368"/>
                  <a:pt x="1208" y="320"/>
                </a:cubicBezTo>
                <a:cubicBezTo>
                  <a:pt x="1248" y="272"/>
                  <a:pt x="1400" y="248"/>
                  <a:pt x="1448" y="272"/>
                </a:cubicBezTo>
                <a:cubicBezTo>
                  <a:pt x="1496" y="296"/>
                  <a:pt x="1512" y="376"/>
                  <a:pt x="1496" y="464"/>
                </a:cubicBezTo>
                <a:cubicBezTo>
                  <a:pt x="1480" y="552"/>
                  <a:pt x="1376" y="720"/>
                  <a:pt x="1352" y="800"/>
                </a:cubicBezTo>
                <a:cubicBezTo>
                  <a:pt x="1328" y="880"/>
                  <a:pt x="1352" y="856"/>
                  <a:pt x="1352" y="944"/>
                </a:cubicBezTo>
                <a:cubicBezTo>
                  <a:pt x="1352" y="1032"/>
                  <a:pt x="1328" y="1256"/>
                  <a:pt x="1352" y="1328"/>
                </a:cubicBezTo>
                <a:cubicBezTo>
                  <a:pt x="1376" y="1400"/>
                  <a:pt x="1456" y="1392"/>
                  <a:pt x="1496" y="1376"/>
                </a:cubicBezTo>
                <a:cubicBezTo>
                  <a:pt x="1536" y="1360"/>
                  <a:pt x="1576" y="1296"/>
                  <a:pt x="1592" y="1232"/>
                </a:cubicBezTo>
                <a:cubicBezTo>
                  <a:pt x="1608" y="1168"/>
                  <a:pt x="1592" y="1088"/>
                  <a:pt x="1592" y="992"/>
                </a:cubicBezTo>
                <a:cubicBezTo>
                  <a:pt x="1592" y="896"/>
                  <a:pt x="1568" y="712"/>
                  <a:pt x="1592" y="656"/>
                </a:cubicBezTo>
                <a:cubicBezTo>
                  <a:pt x="1616" y="600"/>
                  <a:pt x="1712" y="584"/>
                  <a:pt x="1736" y="656"/>
                </a:cubicBezTo>
                <a:cubicBezTo>
                  <a:pt x="1760" y="728"/>
                  <a:pt x="1720" y="968"/>
                  <a:pt x="1736" y="1088"/>
                </a:cubicBezTo>
                <a:cubicBezTo>
                  <a:pt x="1752" y="1208"/>
                  <a:pt x="1792" y="1352"/>
                  <a:pt x="1832" y="1376"/>
                </a:cubicBezTo>
                <a:cubicBezTo>
                  <a:pt x="1872" y="1400"/>
                  <a:pt x="1952" y="1360"/>
                  <a:pt x="1976" y="1232"/>
                </a:cubicBezTo>
                <a:cubicBezTo>
                  <a:pt x="2000" y="1104"/>
                  <a:pt x="1952" y="720"/>
                  <a:pt x="1976" y="608"/>
                </a:cubicBezTo>
                <a:cubicBezTo>
                  <a:pt x="2000" y="496"/>
                  <a:pt x="2088" y="448"/>
                  <a:pt x="2120" y="560"/>
                </a:cubicBezTo>
                <a:cubicBezTo>
                  <a:pt x="2152" y="672"/>
                  <a:pt x="2120" y="1152"/>
                  <a:pt x="2168" y="1280"/>
                </a:cubicBezTo>
                <a:cubicBezTo>
                  <a:pt x="2216" y="1408"/>
                  <a:pt x="2344" y="1336"/>
                  <a:pt x="2408" y="1328"/>
                </a:cubicBezTo>
                <a:cubicBezTo>
                  <a:pt x="2472" y="1320"/>
                  <a:pt x="2520" y="1344"/>
                  <a:pt x="2552" y="1232"/>
                </a:cubicBezTo>
                <a:cubicBezTo>
                  <a:pt x="2584" y="1120"/>
                  <a:pt x="2592" y="816"/>
                  <a:pt x="2600" y="656"/>
                </a:cubicBezTo>
                <a:cubicBezTo>
                  <a:pt x="2608" y="496"/>
                  <a:pt x="2624" y="360"/>
                  <a:pt x="2600" y="272"/>
                </a:cubicBezTo>
                <a:cubicBezTo>
                  <a:pt x="2576" y="184"/>
                  <a:pt x="2504" y="160"/>
                  <a:pt x="2456" y="128"/>
                </a:cubicBezTo>
                <a:cubicBezTo>
                  <a:pt x="2408" y="96"/>
                  <a:pt x="2544" y="88"/>
                  <a:pt x="2312" y="80"/>
                </a:cubicBezTo>
                <a:cubicBezTo>
                  <a:pt x="2080" y="72"/>
                  <a:pt x="1432" y="80"/>
                  <a:pt x="1064" y="80"/>
                </a:cubicBezTo>
                <a:cubicBezTo>
                  <a:pt x="696" y="80"/>
                  <a:pt x="304" y="0"/>
                  <a:pt x="152" y="8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8660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1028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52880" y="2971800"/>
            <a:ext cx="152640" cy="1447920"/>
          </a:xfrm>
          <a:custGeom>
            <a:avLst/>
            <a:gdLst/>
            <a:ahLst/>
            <a:rect l="l" t="t" r="r" b="b"/>
            <a:pathLst>
              <a:path w="96" h="912">
                <a:moveTo>
                  <a:pt x="0" y="0"/>
                </a:moveTo>
                <a:lnTo>
                  <a:pt x="96" y="336"/>
                </a:lnTo>
                <a:lnTo>
                  <a:pt x="96" y="91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105520" y="2971800"/>
            <a:ext cx="152280" cy="1447920"/>
          </a:xfrm>
          <a:custGeom>
            <a:avLst/>
            <a:gdLst/>
            <a:ahLst/>
            <a:rect l="l" t="t" r="r" b="b"/>
            <a:pathLst>
              <a:path w="96" h="912">
                <a:moveTo>
                  <a:pt x="0" y="0"/>
                </a:moveTo>
                <a:lnTo>
                  <a:pt x="96" y="336"/>
                </a:lnTo>
                <a:lnTo>
                  <a:pt x="96" y="91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81480" y="2971800"/>
            <a:ext cx="152640" cy="1447920"/>
          </a:xfrm>
          <a:custGeom>
            <a:avLst/>
            <a:gdLst/>
            <a:ahLst/>
            <a:rect l="l" t="t" r="r" b="b"/>
            <a:pathLst>
              <a:path w="96" h="912">
                <a:moveTo>
                  <a:pt x="0" y="0"/>
                </a:moveTo>
                <a:lnTo>
                  <a:pt x="96" y="336"/>
                </a:lnTo>
                <a:lnTo>
                  <a:pt x="96" y="91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29200" y="2971800"/>
            <a:ext cx="152280" cy="1447920"/>
          </a:xfrm>
          <a:custGeom>
            <a:avLst/>
            <a:gdLst/>
            <a:ahLst/>
            <a:rect l="l" t="t" r="r" b="b"/>
            <a:pathLst>
              <a:path w="96" h="912">
                <a:moveTo>
                  <a:pt x="0" y="0"/>
                </a:moveTo>
                <a:lnTo>
                  <a:pt x="96" y="336"/>
                </a:lnTo>
                <a:lnTo>
                  <a:pt x="96" y="91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57800" y="2971800"/>
            <a:ext cx="152280" cy="1447920"/>
          </a:xfrm>
          <a:custGeom>
            <a:avLst/>
            <a:gdLst/>
            <a:ahLst/>
            <a:rect l="l" t="t" r="r" b="b"/>
            <a:pathLst>
              <a:path w="96" h="912">
                <a:moveTo>
                  <a:pt x="0" y="0"/>
                </a:moveTo>
                <a:lnTo>
                  <a:pt x="96" y="336"/>
                </a:lnTo>
                <a:lnTo>
                  <a:pt x="96" y="91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86400" y="2819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95880" y="2895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172200" y="2971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2485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24480" y="2895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553080" y="28954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77120" y="28954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943600" y="380988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384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019920" y="380988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384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5880" y="3809880"/>
            <a:ext cx="15264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384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172200" y="380988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96" y="0"/>
                </a:moveTo>
                <a:lnTo>
                  <a:pt x="96" y="384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86600" y="2895480"/>
            <a:ext cx="152280" cy="838440"/>
          </a:xfrm>
          <a:custGeom>
            <a:avLst/>
            <a:gdLst/>
            <a:ahLst/>
            <a:rect l="l" t="t" r="r" b="b"/>
            <a:pathLst>
              <a:path w="96" h="528">
                <a:moveTo>
                  <a:pt x="0" y="528"/>
                </a:moveTo>
                <a:lnTo>
                  <a:pt x="96" y="192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62920" y="2895480"/>
            <a:ext cx="152280" cy="838440"/>
          </a:xfrm>
          <a:custGeom>
            <a:avLst/>
            <a:gdLst/>
            <a:ahLst/>
            <a:rect l="l" t="t" r="r" b="b"/>
            <a:pathLst>
              <a:path w="96" h="528">
                <a:moveTo>
                  <a:pt x="0" y="528"/>
                </a:moveTo>
                <a:lnTo>
                  <a:pt x="96" y="192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8168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3432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16292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0120" y="30481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72400" y="3048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01000" y="2895480"/>
            <a:ext cx="228600" cy="106704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0"/>
                </a:moveTo>
                <a:lnTo>
                  <a:pt x="144" y="240"/>
                </a:lnTo>
                <a:lnTo>
                  <a:pt x="144" y="67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077320" y="2895480"/>
            <a:ext cx="228600" cy="106704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0"/>
                </a:moveTo>
                <a:lnTo>
                  <a:pt x="144" y="240"/>
                </a:lnTo>
                <a:lnTo>
                  <a:pt x="144" y="67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686800" y="3124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610480" y="3276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763120" y="3581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381880" y="35812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336"/>
                </a:lnTo>
                <a:lnTo>
                  <a:pt x="192" y="62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458200" y="3581280"/>
            <a:ext cx="304920" cy="9907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336"/>
                </a:lnTo>
                <a:lnTo>
                  <a:pt x="192" y="624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188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0592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05320" y="3048120"/>
            <a:ext cx="76176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96"/>
                </a:moveTo>
                <a:lnTo>
                  <a:pt x="288" y="96"/>
                </a:lnTo>
                <a:lnTo>
                  <a:pt x="4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05320" y="2971800"/>
            <a:ext cx="76176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96"/>
                </a:moveTo>
                <a:lnTo>
                  <a:pt x="288" y="96"/>
                </a:lnTo>
                <a:lnTo>
                  <a:pt x="4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2895480"/>
            <a:ext cx="76212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0" y="96"/>
                </a:moveTo>
                <a:lnTo>
                  <a:pt x="288" y="96"/>
                </a:lnTo>
                <a:lnTo>
                  <a:pt x="48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9520" y="4191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743200" y="4343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895480" y="47242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95480" y="48006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5760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在线路板上没有布线的地方全部铺上地线是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EMC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设计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32040" y="3632040"/>
            <a:ext cx="736920" cy="520920"/>
          </a:xfrm>
          <a:custGeom>
            <a:avLst/>
            <a:gdLst/>
            <a:ahLst/>
            <a:rect l="l" t="t" r="r" b="b"/>
            <a:pathLst>
              <a:path w="464" h="328">
                <a:moveTo>
                  <a:pt x="448" y="112"/>
                </a:moveTo>
                <a:cubicBezTo>
                  <a:pt x="440" y="64"/>
                  <a:pt x="448" y="32"/>
                  <a:pt x="400" y="16"/>
                </a:cubicBezTo>
                <a:cubicBezTo>
                  <a:pt x="352" y="0"/>
                  <a:pt x="224" y="0"/>
                  <a:pt x="160" y="16"/>
                </a:cubicBezTo>
                <a:cubicBezTo>
                  <a:pt x="96" y="32"/>
                  <a:pt x="32" y="72"/>
                  <a:pt x="16" y="112"/>
                </a:cubicBezTo>
                <a:cubicBezTo>
                  <a:pt x="0" y="152"/>
                  <a:pt x="8" y="232"/>
                  <a:pt x="64" y="256"/>
                </a:cubicBezTo>
                <a:cubicBezTo>
                  <a:pt x="120" y="280"/>
                  <a:pt x="288" y="248"/>
                  <a:pt x="352" y="256"/>
                </a:cubicBezTo>
                <a:cubicBezTo>
                  <a:pt x="416" y="264"/>
                  <a:pt x="432" y="328"/>
                  <a:pt x="448" y="304"/>
                </a:cubicBezTo>
                <a:cubicBezTo>
                  <a:pt x="464" y="280"/>
                  <a:pt x="456" y="160"/>
                  <a:pt x="448" y="112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86400" y="2743200"/>
            <a:ext cx="685800" cy="34308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216" y="24"/>
                </a:moveTo>
                <a:cubicBezTo>
                  <a:pt x="240" y="48"/>
                  <a:pt x="184" y="128"/>
                  <a:pt x="168" y="168"/>
                </a:cubicBezTo>
                <a:cubicBezTo>
                  <a:pt x="152" y="208"/>
                  <a:pt x="128" y="216"/>
                  <a:pt x="120" y="264"/>
                </a:cubicBezTo>
                <a:cubicBezTo>
                  <a:pt x="112" y="312"/>
                  <a:pt x="128" y="432"/>
                  <a:pt x="120" y="456"/>
                </a:cubicBezTo>
                <a:cubicBezTo>
                  <a:pt x="112" y="480"/>
                  <a:pt x="80" y="456"/>
                  <a:pt x="72" y="408"/>
                </a:cubicBezTo>
                <a:cubicBezTo>
                  <a:pt x="64" y="360"/>
                  <a:pt x="80" y="232"/>
                  <a:pt x="72" y="168"/>
                </a:cubicBezTo>
                <a:cubicBezTo>
                  <a:pt x="64" y="104"/>
                  <a:pt x="0" y="48"/>
                  <a:pt x="24" y="24"/>
                </a:cubicBezTo>
                <a:cubicBezTo>
                  <a:pt x="48" y="0"/>
                  <a:pt x="192" y="0"/>
                  <a:pt x="216" y="24"/>
                </a:cubicBezTo>
                <a:close/>
              </a:path>
            </a:pathLst>
          </a:custGeom>
          <a:solidFill>
            <a:srgbClr val="007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9152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46748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24680" y="3200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2743200"/>
            <a:ext cx="393480" cy="38088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0"/>
                </a:moveTo>
                <a:cubicBezTo>
                  <a:pt x="36" y="32"/>
                  <a:pt x="72" y="64"/>
                  <a:pt x="96" y="96"/>
                </a:cubicBezTo>
                <a:cubicBezTo>
                  <a:pt x="120" y="128"/>
                  <a:pt x="128" y="168"/>
                  <a:pt x="144" y="192"/>
                </a:cubicBezTo>
                <a:cubicBezTo>
                  <a:pt x="160" y="216"/>
                  <a:pt x="176" y="240"/>
                  <a:pt x="192" y="240"/>
                </a:cubicBezTo>
                <a:cubicBezTo>
                  <a:pt x="208" y="240"/>
                  <a:pt x="248" y="224"/>
                  <a:pt x="240" y="192"/>
                </a:cubicBezTo>
                <a:cubicBezTo>
                  <a:pt x="232" y="160"/>
                  <a:pt x="144" y="80"/>
                  <a:pt x="144" y="48"/>
                </a:cubicBezTo>
                <a:cubicBezTo>
                  <a:pt x="144" y="16"/>
                  <a:pt x="192" y="8"/>
                  <a:pt x="240" y="0"/>
                </a:cubicBezTo>
              </a:path>
            </a:pathLst>
          </a:custGeom>
          <a:solidFill>
            <a:srgbClr val="007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962840" y="2717640"/>
            <a:ext cx="889200" cy="736920"/>
          </a:xfrm>
          <a:custGeom>
            <a:avLst/>
            <a:gdLst/>
            <a:ahLst/>
            <a:rect l="l" t="t" r="r" b="b"/>
            <a:pathLst>
              <a:path w="560" h="464">
                <a:moveTo>
                  <a:pt x="120" y="112"/>
                </a:moveTo>
                <a:cubicBezTo>
                  <a:pt x="152" y="136"/>
                  <a:pt x="184" y="152"/>
                  <a:pt x="216" y="208"/>
                </a:cubicBezTo>
                <a:cubicBezTo>
                  <a:pt x="248" y="264"/>
                  <a:pt x="288" y="432"/>
                  <a:pt x="312" y="448"/>
                </a:cubicBezTo>
                <a:cubicBezTo>
                  <a:pt x="336" y="464"/>
                  <a:pt x="344" y="352"/>
                  <a:pt x="360" y="304"/>
                </a:cubicBezTo>
                <a:cubicBezTo>
                  <a:pt x="376" y="256"/>
                  <a:pt x="376" y="192"/>
                  <a:pt x="408" y="160"/>
                </a:cubicBezTo>
                <a:cubicBezTo>
                  <a:pt x="440" y="128"/>
                  <a:pt x="544" y="136"/>
                  <a:pt x="552" y="112"/>
                </a:cubicBezTo>
                <a:cubicBezTo>
                  <a:pt x="560" y="88"/>
                  <a:pt x="536" y="32"/>
                  <a:pt x="456" y="16"/>
                </a:cubicBezTo>
                <a:cubicBezTo>
                  <a:pt x="376" y="0"/>
                  <a:pt x="144" y="8"/>
                  <a:pt x="72" y="16"/>
                </a:cubicBezTo>
                <a:cubicBezTo>
                  <a:pt x="0" y="24"/>
                  <a:pt x="8" y="48"/>
                  <a:pt x="24" y="64"/>
                </a:cubicBezTo>
                <a:cubicBezTo>
                  <a:pt x="40" y="80"/>
                  <a:pt x="88" y="88"/>
                  <a:pt x="120" y="112"/>
                </a:cubicBezTo>
                <a:close/>
              </a:path>
            </a:pathLst>
          </a:custGeom>
          <a:solidFill>
            <a:srgbClr val="007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20120" y="4038480"/>
            <a:ext cx="152280" cy="53352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0"/>
                </a:moveTo>
                <a:lnTo>
                  <a:pt x="96" y="192"/>
                </a:lnTo>
                <a:lnTo>
                  <a:pt x="0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114800"/>
            <a:ext cx="152640" cy="53352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0"/>
                </a:moveTo>
                <a:lnTo>
                  <a:pt x="96" y="192"/>
                </a:lnTo>
                <a:lnTo>
                  <a:pt x="0" y="336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362320" y="373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3657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对辐射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914400" y="2362320"/>
            <a:ext cx="3657600" cy="20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28800" y="3124080"/>
            <a:ext cx="1619280" cy="7920"/>
          </a:xfrm>
          <a:custGeom>
            <a:avLst/>
            <a:gdLst/>
            <a:ahLst/>
            <a:rect l="l" t="t" r="r" b="b"/>
            <a:pathLst>
              <a:path w="1020" h="5">
                <a:moveTo>
                  <a:pt x="0" y="0"/>
                </a:moveTo>
                <a:cubicBezTo>
                  <a:pt x="340" y="2"/>
                  <a:pt x="1020" y="5"/>
                  <a:pt x="1020" y="5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47920" y="3124080"/>
            <a:ext cx="23619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29000" y="2819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0200" y="2819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28800" y="3276720"/>
            <a:ext cx="1600200" cy="75960"/>
          </a:xfrm>
          <a:custGeom>
            <a:avLst/>
            <a:gdLst/>
            <a:ahLst/>
            <a:rect l="l" t="t" r="r" b="b"/>
            <a:pathLst>
              <a:path w="1008" h="48">
                <a:moveTo>
                  <a:pt x="0" y="48"/>
                </a:moveTo>
                <a:lnTo>
                  <a:pt x="96" y="48"/>
                </a:lnTo>
                <a:lnTo>
                  <a:pt x="192" y="0"/>
                </a:lnTo>
                <a:lnTo>
                  <a:pt x="1008" y="0"/>
                </a:ln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105520" y="2362320"/>
            <a:ext cx="36576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38680" y="3124080"/>
            <a:ext cx="236232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20120" y="2819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91320" y="2819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19920" y="3276720"/>
            <a:ext cx="1600200" cy="75960"/>
          </a:xfrm>
          <a:custGeom>
            <a:avLst/>
            <a:gdLst/>
            <a:ahLst/>
            <a:rect l="l" t="t" r="r" b="b"/>
            <a:pathLst>
              <a:path w="1008" h="48">
                <a:moveTo>
                  <a:pt x="0" y="48"/>
                </a:moveTo>
                <a:lnTo>
                  <a:pt x="96" y="48"/>
                </a:lnTo>
                <a:lnTo>
                  <a:pt x="192" y="0"/>
                </a:lnTo>
                <a:lnTo>
                  <a:pt x="1008" y="0"/>
                </a:ln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72200" y="281952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72200" y="2819520"/>
            <a:ext cx="1295280" cy="30456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lnTo>
                  <a:pt x="0" y="0"/>
                </a:lnTo>
                <a:lnTo>
                  <a:pt x="816" y="0"/>
                </a:lnTo>
                <a:lnTo>
                  <a:pt x="816" y="19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38480" y="4648320"/>
            <a:ext cx="3657600" cy="205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952880" y="5410080"/>
            <a:ext cx="1619280" cy="7920"/>
          </a:xfrm>
          <a:custGeom>
            <a:avLst/>
            <a:gdLst/>
            <a:ahLst/>
            <a:rect l="l" t="t" r="r" b="b"/>
            <a:pathLst>
              <a:path w="1020" h="5">
                <a:moveTo>
                  <a:pt x="0" y="0"/>
                </a:moveTo>
                <a:cubicBezTo>
                  <a:pt x="340" y="2"/>
                  <a:pt x="1020" y="5"/>
                  <a:pt x="1020" y="5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0" y="5410080"/>
            <a:ext cx="236232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553080" y="5105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24280" y="5105520"/>
            <a:ext cx="228600" cy="60948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5562720"/>
            <a:ext cx="1600200" cy="75960"/>
          </a:xfrm>
          <a:custGeom>
            <a:avLst/>
            <a:gdLst/>
            <a:ahLst/>
            <a:rect l="l" t="t" r="r" b="b"/>
            <a:pathLst>
              <a:path w="1008" h="48">
                <a:moveTo>
                  <a:pt x="0" y="48"/>
                </a:moveTo>
                <a:lnTo>
                  <a:pt x="96" y="48"/>
                </a:lnTo>
                <a:lnTo>
                  <a:pt x="192" y="0"/>
                </a:lnTo>
                <a:lnTo>
                  <a:pt x="1008" y="0"/>
                </a:ln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038480" y="5867280"/>
            <a:ext cx="3581640" cy="819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0" y="5867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对辐射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495440" y="3448080"/>
            <a:ext cx="6153120" cy="15811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1504800" y="5105520"/>
            <a:ext cx="6134400" cy="16095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3"/>
          <a:stretch/>
        </p:blipFill>
        <p:spPr>
          <a:xfrm>
            <a:off x="1509840" y="1781280"/>
            <a:ext cx="6124320" cy="164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1720" y="833400"/>
            <a:ext cx="7205400" cy="71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多层板能减小辐射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546120" y="4267080"/>
            <a:ext cx="3416400" cy="1295640"/>
          </a:xfrm>
          <a:custGeom>
            <a:avLst/>
            <a:gdLst/>
            <a:ahLst/>
            <a:rect l="l" t="t" r="r" b="b"/>
            <a:pathLst>
              <a:path w="3360" h="1200">
                <a:moveTo>
                  <a:pt x="624" y="0"/>
                </a:moveTo>
                <a:lnTo>
                  <a:pt x="0" y="1200"/>
                </a:lnTo>
                <a:lnTo>
                  <a:pt x="2688" y="1200"/>
                </a:lnTo>
                <a:lnTo>
                  <a:pt x="2784" y="1056"/>
                </a:lnTo>
                <a:lnTo>
                  <a:pt x="2928" y="1056"/>
                </a:lnTo>
                <a:lnTo>
                  <a:pt x="3360" y="192"/>
                </a:lnTo>
                <a:lnTo>
                  <a:pt x="3168" y="192"/>
                </a:lnTo>
                <a:lnTo>
                  <a:pt x="3264" y="0"/>
                </a:lnTo>
                <a:lnTo>
                  <a:pt x="62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6120" y="4038480"/>
            <a:ext cx="3355920" cy="1295640"/>
          </a:xfrm>
          <a:custGeom>
            <a:avLst/>
            <a:gdLst/>
            <a:ahLst/>
            <a:rect l="l" t="t" r="r" b="b"/>
            <a:pathLst>
              <a:path w="3360" h="1200">
                <a:moveTo>
                  <a:pt x="624" y="0"/>
                </a:moveTo>
                <a:lnTo>
                  <a:pt x="0" y="1200"/>
                </a:lnTo>
                <a:lnTo>
                  <a:pt x="2688" y="1200"/>
                </a:lnTo>
                <a:lnTo>
                  <a:pt x="2784" y="1056"/>
                </a:lnTo>
                <a:lnTo>
                  <a:pt x="2928" y="1056"/>
                </a:lnTo>
                <a:lnTo>
                  <a:pt x="3360" y="192"/>
                </a:lnTo>
                <a:lnTo>
                  <a:pt x="3168" y="192"/>
                </a:lnTo>
                <a:lnTo>
                  <a:pt x="3264" y="0"/>
                </a:lnTo>
                <a:lnTo>
                  <a:pt x="624" y="0"/>
                </a:lnTo>
                <a:close/>
              </a:path>
            </a:pathLst>
          </a:custGeom>
          <a:solidFill>
            <a:srgbClr val="00e4a8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6120" y="3809880"/>
            <a:ext cx="3297240" cy="1295640"/>
          </a:xfrm>
          <a:custGeom>
            <a:avLst/>
            <a:gdLst/>
            <a:ahLst/>
            <a:rect l="l" t="t" r="r" b="b"/>
            <a:pathLst>
              <a:path w="3360" h="1200">
                <a:moveTo>
                  <a:pt x="624" y="0"/>
                </a:moveTo>
                <a:lnTo>
                  <a:pt x="0" y="1200"/>
                </a:lnTo>
                <a:lnTo>
                  <a:pt x="2688" y="1200"/>
                </a:lnTo>
                <a:lnTo>
                  <a:pt x="2784" y="1056"/>
                </a:lnTo>
                <a:lnTo>
                  <a:pt x="2928" y="1056"/>
                </a:lnTo>
                <a:lnTo>
                  <a:pt x="3360" y="192"/>
                </a:lnTo>
                <a:lnTo>
                  <a:pt x="3168" y="192"/>
                </a:lnTo>
                <a:lnTo>
                  <a:pt x="3264" y="0"/>
                </a:lnTo>
                <a:lnTo>
                  <a:pt x="624" y="0"/>
                </a:lnTo>
                <a:close/>
              </a:path>
            </a:pathLst>
          </a:custGeom>
          <a:solidFill>
            <a:srgbClr val="cc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6120" y="3581280"/>
            <a:ext cx="3176640" cy="1295640"/>
          </a:xfrm>
          <a:custGeom>
            <a:avLst/>
            <a:gdLst/>
            <a:ahLst/>
            <a:rect l="l" t="t" r="r" b="b"/>
            <a:pathLst>
              <a:path w="3360" h="1200">
                <a:moveTo>
                  <a:pt x="624" y="0"/>
                </a:moveTo>
                <a:lnTo>
                  <a:pt x="0" y="1200"/>
                </a:lnTo>
                <a:lnTo>
                  <a:pt x="2688" y="1200"/>
                </a:lnTo>
                <a:lnTo>
                  <a:pt x="2784" y="1056"/>
                </a:lnTo>
                <a:lnTo>
                  <a:pt x="2928" y="1056"/>
                </a:lnTo>
                <a:lnTo>
                  <a:pt x="3360" y="192"/>
                </a:lnTo>
                <a:lnTo>
                  <a:pt x="3168" y="192"/>
                </a:lnTo>
                <a:lnTo>
                  <a:pt x="3264" y="0"/>
                </a:lnTo>
                <a:lnTo>
                  <a:pt x="62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4114800"/>
            <a:ext cx="401760" cy="60948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720"/>
                </a:moveTo>
                <a:lnTo>
                  <a:pt x="144" y="384"/>
                </a:lnTo>
                <a:lnTo>
                  <a:pt x="288" y="384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905120" y="4038480"/>
            <a:ext cx="118800" cy="748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481040" y="4647600"/>
            <a:ext cx="119160" cy="74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451240" y="4191120"/>
            <a:ext cx="1396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2374920" y="4494960"/>
            <a:ext cx="119160" cy="1047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548080" y="4085640"/>
            <a:ext cx="118800" cy="1047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62520" y="3124080"/>
            <a:ext cx="7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信号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5053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电源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0988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线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0384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信号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10080" y="2971800"/>
            <a:ext cx="320040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34290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41148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324480" y="3124080"/>
            <a:ext cx="1143000" cy="1752840"/>
          </a:xfrm>
          <a:custGeom>
            <a:avLst/>
            <a:gdLst/>
            <a:ahLst/>
            <a:rect l="l" t="t" r="r" b="b"/>
            <a:pathLst>
              <a:path w="720" h="1104">
                <a:moveTo>
                  <a:pt x="0" y="192"/>
                </a:moveTo>
                <a:lnTo>
                  <a:pt x="0" y="0"/>
                </a:lnTo>
                <a:lnTo>
                  <a:pt x="432" y="0"/>
                </a:lnTo>
                <a:lnTo>
                  <a:pt x="432" y="1104"/>
                </a:lnTo>
                <a:lnTo>
                  <a:pt x="720" y="1104"/>
                </a:lnTo>
                <a:lnTo>
                  <a:pt x="720" y="8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42900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6552720" y="396216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324480" y="3200400"/>
            <a:ext cx="121932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816"/>
                </a:moveTo>
                <a:lnTo>
                  <a:pt x="672" y="1104"/>
                </a:lnTo>
                <a:lnTo>
                  <a:pt x="336" y="1104"/>
                </a:lnTo>
                <a:lnTo>
                  <a:pt x="336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81680" y="4572000"/>
            <a:ext cx="381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94360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低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095880" y="45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高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86080" y="839880"/>
            <a:ext cx="7208640" cy="698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地线面上的缝隙的影响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1981080"/>
            <a:ext cx="3276360" cy="1600200"/>
          </a:xfrm>
          <a:prstGeom prst="rect">
            <a:avLst/>
          </a:prstGeom>
          <a:solidFill>
            <a:srgbClr val="a6d8d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2057400"/>
            <a:ext cx="152280" cy="129528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295280"/>
              <a:gd name="textAreaBottom" fmla="*/ 1288080 h 1295280"/>
            </a:gdLst>
            <a:ahLst/>
            <a:rect l="textAreaLeft" t="textAreaTop" r="textAreaRight" b="textAreaBottom"/>
            <a:pathLst>
              <a:path w="21600" h="183345">
                <a:moveTo>
                  <a:pt x="3600" y="0"/>
                </a:moveTo>
                <a:arcTo wR="3600" hR="3600" stAng="16200000" swAng="-5400000"/>
                <a:lnTo>
                  <a:pt x="0" y="179745"/>
                </a:lnTo>
                <a:arcTo wR="3600" hR="3600" stAng="10800000" swAng="-5400000"/>
                <a:lnTo>
                  <a:pt x="18000" y="183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19320" y="259092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0"/>
                </a:moveTo>
                <a:lnTo>
                  <a:pt x="816" y="0"/>
                </a:lnTo>
                <a:lnTo>
                  <a:pt x="816" y="240"/>
                </a:lnTo>
                <a:lnTo>
                  <a:pt x="1296" y="240"/>
                </a:lnTo>
                <a:lnTo>
                  <a:pt x="1296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124080" y="2514600"/>
            <a:ext cx="304920" cy="38088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14400" y="2362320"/>
            <a:ext cx="304920" cy="60948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52480" y="2666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209680" y="25146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95280" y="2666880"/>
            <a:ext cx="2095560" cy="851040"/>
          </a:xfrm>
          <a:custGeom>
            <a:avLst/>
            <a:gdLst/>
            <a:ahLst/>
            <a:rect l="l" t="t" r="r" b="b"/>
            <a:pathLst>
              <a:path w="1320" h="536">
                <a:moveTo>
                  <a:pt x="0" y="8"/>
                </a:moveTo>
                <a:cubicBezTo>
                  <a:pt x="52" y="4"/>
                  <a:pt x="104" y="0"/>
                  <a:pt x="144" y="8"/>
                </a:cubicBezTo>
                <a:cubicBezTo>
                  <a:pt x="184" y="16"/>
                  <a:pt x="216" y="0"/>
                  <a:pt x="240" y="56"/>
                </a:cubicBezTo>
                <a:cubicBezTo>
                  <a:pt x="264" y="112"/>
                  <a:pt x="280" y="280"/>
                  <a:pt x="288" y="344"/>
                </a:cubicBezTo>
                <a:cubicBezTo>
                  <a:pt x="296" y="408"/>
                  <a:pt x="280" y="416"/>
                  <a:pt x="288" y="440"/>
                </a:cubicBezTo>
                <a:cubicBezTo>
                  <a:pt x="296" y="464"/>
                  <a:pt x="304" y="480"/>
                  <a:pt x="336" y="488"/>
                </a:cubicBezTo>
                <a:cubicBezTo>
                  <a:pt x="368" y="496"/>
                  <a:pt x="448" y="536"/>
                  <a:pt x="480" y="488"/>
                </a:cubicBezTo>
                <a:cubicBezTo>
                  <a:pt x="512" y="440"/>
                  <a:pt x="504" y="272"/>
                  <a:pt x="528" y="200"/>
                </a:cubicBezTo>
                <a:cubicBezTo>
                  <a:pt x="552" y="128"/>
                  <a:pt x="600" y="64"/>
                  <a:pt x="624" y="56"/>
                </a:cubicBezTo>
                <a:cubicBezTo>
                  <a:pt x="648" y="48"/>
                  <a:pt x="648" y="112"/>
                  <a:pt x="672" y="152"/>
                </a:cubicBezTo>
                <a:cubicBezTo>
                  <a:pt x="696" y="192"/>
                  <a:pt x="688" y="272"/>
                  <a:pt x="768" y="296"/>
                </a:cubicBezTo>
                <a:cubicBezTo>
                  <a:pt x="848" y="320"/>
                  <a:pt x="1064" y="304"/>
                  <a:pt x="1152" y="296"/>
                </a:cubicBezTo>
                <a:cubicBezTo>
                  <a:pt x="1240" y="288"/>
                  <a:pt x="1272" y="280"/>
                  <a:pt x="1296" y="248"/>
                </a:cubicBezTo>
                <a:cubicBezTo>
                  <a:pt x="1320" y="216"/>
                  <a:pt x="1308" y="160"/>
                  <a:pt x="1296" y="104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4920" y="4191120"/>
            <a:ext cx="3429000" cy="2286000"/>
          </a:xfrm>
          <a:custGeom>
            <a:avLst/>
            <a:gdLst/>
            <a:ahLst/>
            <a:rect l="l" t="t" r="r" b="b"/>
            <a:pathLst>
              <a:path w="2112" h="1440">
                <a:moveTo>
                  <a:pt x="96" y="0"/>
                </a:moveTo>
                <a:lnTo>
                  <a:pt x="2016" y="0"/>
                </a:lnTo>
                <a:lnTo>
                  <a:pt x="2016" y="96"/>
                </a:lnTo>
                <a:lnTo>
                  <a:pt x="2112" y="96"/>
                </a:lnTo>
                <a:lnTo>
                  <a:pt x="2112" y="1344"/>
                </a:lnTo>
                <a:lnTo>
                  <a:pt x="2016" y="1344"/>
                </a:lnTo>
                <a:lnTo>
                  <a:pt x="2016" y="1440"/>
                </a:lnTo>
                <a:lnTo>
                  <a:pt x="0" y="1440"/>
                </a:lnTo>
                <a:lnTo>
                  <a:pt x="0" y="0"/>
                </a:lnTo>
                <a:lnTo>
                  <a:pt x="96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00200" y="5105520"/>
            <a:ext cx="2133720" cy="75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4648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29000" y="4800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429000" y="5562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429000" y="5715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29000" y="5943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020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模拟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60339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Times New Roman"/>
              </a:rPr>
              <a:t>数字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4800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4920" y="4495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变换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71600" y="4724280"/>
            <a:ext cx="1143000" cy="914400"/>
          </a:xfrm>
          <a:custGeom>
            <a:avLst/>
            <a:gdLst/>
            <a:ahLst/>
            <a:rect l="l" t="t" r="r" b="b"/>
            <a:pathLst>
              <a:path w="720" h="576">
                <a:moveTo>
                  <a:pt x="720" y="576"/>
                </a:moveTo>
                <a:lnTo>
                  <a:pt x="0" y="576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2590920" y="5257440"/>
            <a:ext cx="137160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1066680" y="571464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29200" y="2514600"/>
            <a:ext cx="320040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477120" y="2743200"/>
            <a:ext cx="75960" cy="1523880"/>
          </a:xfrm>
          <a:prstGeom prst="rect">
            <a:avLst/>
          </a:prstGeom>
          <a:noFill/>
          <a:ln w="284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257800" y="3352680"/>
            <a:ext cx="2514240" cy="152640"/>
            <a:chOff x="5257800" y="3352680"/>
            <a:chExt cx="2514240" cy="152640"/>
          </a:xfrm>
        </p:grpSpPr>
        <p:sp>
          <p:nvSpPr>
            <p:cNvPr id="1030" name=""/>
            <p:cNvSpPr/>
            <p:nvPr/>
          </p:nvSpPr>
          <p:spPr>
            <a:xfrm>
              <a:off x="5257800" y="3352680"/>
              <a:ext cx="179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47440" y="3429000"/>
              <a:ext cx="23346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92400" y="3352680"/>
              <a:ext cx="179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8305920" y="2743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059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458200" y="2743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534520" y="3276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3412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69608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4120" y="22860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485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75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172200" y="464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934320" y="464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172200" y="4800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95880" y="486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2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616120"/>
            <a:ext cx="2286000" cy="660600"/>
          </a:xfrm>
          <a:custGeom>
            <a:avLst/>
            <a:gdLst/>
            <a:ahLst/>
            <a:rect l="l" t="t" r="r" b="b"/>
            <a:pathLst>
              <a:path w="1440" h="416">
                <a:moveTo>
                  <a:pt x="1440" y="368"/>
                </a:moveTo>
                <a:cubicBezTo>
                  <a:pt x="1352" y="380"/>
                  <a:pt x="1264" y="392"/>
                  <a:pt x="1200" y="368"/>
                </a:cubicBezTo>
                <a:cubicBezTo>
                  <a:pt x="1136" y="344"/>
                  <a:pt x="1120" y="280"/>
                  <a:pt x="1056" y="224"/>
                </a:cubicBezTo>
                <a:cubicBezTo>
                  <a:pt x="992" y="168"/>
                  <a:pt x="896" y="64"/>
                  <a:pt x="816" y="32"/>
                </a:cubicBezTo>
                <a:cubicBezTo>
                  <a:pt x="736" y="0"/>
                  <a:pt x="656" y="8"/>
                  <a:pt x="576" y="32"/>
                </a:cubicBezTo>
                <a:cubicBezTo>
                  <a:pt x="496" y="56"/>
                  <a:pt x="408" y="120"/>
                  <a:pt x="336" y="176"/>
                </a:cubicBezTo>
                <a:cubicBezTo>
                  <a:pt x="264" y="232"/>
                  <a:pt x="200" y="328"/>
                  <a:pt x="144" y="368"/>
                </a:cubicBezTo>
                <a:cubicBezTo>
                  <a:pt x="88" y="408"/>
                  <a:pt x="44" y="412"/>
                  <a:pt x="0" y="416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5486400" y="3606840"/>
            <a:ext cx="2286000" cy="660240"/>
          </a:xfrm>
          <a:custGeom>
            <a:avLst/>
            <a:gdLst/>
            <a:ahLst/>
            <a:rect l="l" t="t" r="r" b="b"/>
            <a:pathLst>
              <a:path w="1440" h="416">
                <a:moveTo>
                  <a:pt x="1440" y="368"/>
                </a:moveTo>
                <a:cubicBezTo>
                  <a:pt x="1352" y="380"/>
                  <a:pt x="1264" y="392"/>
                  <a:pt x="1200" y="368"/>
                </a:cubicBezTo>
                <a:cubicBezTo>
                  <a:pt x="1136" y="344"/>
                  <a:pt x="1120" y="280"/>
                  <a:pt x="1056" y="224"/>
                </a:cubicBezTo>
                <a:cubicBezTo>
                  <a:pt x="992" y="168"/>
                  <a:pt x="896" y="64"/>
                  <a:pt x="816" y="32"/>
                </a:cubicBezTo>
                <a:cubicBezTo>
                  <a:pt x="736" y="0"/>
                  <a:pt x="656" y="8"/>
                  <a:pt x="576" y="32"/>
                </a:cubicBezTo>
                <a:cubicBezTo>
                  <a:pt x="496" y="56"/>
                  <a:pt x="408" y="120"/>
                  <a:pt x="336" y="176"/>
                </a:cubicBezTo>
                <a:cubicBezTo>
                  <a:pt x="264" y="232"/>
                  <a:pt x="200" y="328"/>
                  <a:pt x="144" y="368"/>
                </a:cubicBezTo>
                <a:cubicBezTo>
                  <a:pt x="88" y="408"/>
                  <a:pt x="44" y="412"/>
                  <a:pt x="0" y="416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4120" y="5410080"/>
            <a:ext cx="2971800" cy="1066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  :       0 ~ 10c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AB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:   15 ~ 7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1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0" y="2971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注意过孔的阻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3" name=""/>
          <p:cNvSpPr/>
          <p:nvPr/>
        </p:nvSpPr>
        <p:spPr>
          <a:xfrm>
            <a:off x="5791320" y="3124080"/>
            <a:ext cx="1295280" cy="13716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371600"/>
              <a:gd name="textAreaBottom" fmla="*/ 1308600 h 1371600"/>
            </a:gdLst>
            <a:ahLst/>
            <a:rect l="textAreaLeft" t="textAreaTop" r="textAreaRight" b="textAreaBottom"/>
            <a:pathLst>
              <a:path w="21600" h="22872">
                <a:moveTo>
                  <a:pt x="3600" y="0"/>
                </a:moveTo>
                <a:arcTo wR="3600" hR="3600" stAng="16200000" swAng="-5400000"/>
                <a:lnTo>
                  <a:pt x="0" y="19272"/>
                </a:lnTo>
                <a:arcTo wR="3600" hR="3600" stAng="10800000" swAng="-5400000"/>
                <a:lnTo>
                  <a:pt x="18000" y="228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447920" y="37339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47920" y="32767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447920" y="35053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76520" y="37339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676520" y="35053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76520" y="39625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76520" y="41911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05120" y="41911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5120" y="39625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5120" y="37339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05120" y="35053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76720"/>
            <a:ext cx="75960" cy="75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95280" y="2590920"/>
            <a:ext cx="2514600" cy="2361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32767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14400" y="41148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3808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3808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907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238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6765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524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276720"/>
            <a:ext cx="1295640" cy="101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48520" y="2971800"/>
            <a:ext cx="30456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324480" y="4572000"/>
            <a:ext cx="304920" cy="763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638680" y="3581280"/>
            <a:ext cx="76320" cy="3049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62920" y="3581280"/>
            <a:ext cx="75960" cy="304920"/>
          </a:xfrm>
          <a:prstGeom prst="rect">
            <a:avLst/>
          </a:prstGeom>
          <a:solidFill>
            <a:srgbClr val="00e4a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19920" y="3505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六层板的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9" name=""/>
          <p:cNvSpPr/>
          <p:nvPr/>
        </p:nvSpPr>
        <p:spPr>
          <a:xfrm>
            <a:off x="3124080" y="2133720"/>
            <a:ext cx="350532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24080" y="2254320"/>
            <a:ext cx="3505320" cy="122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124080" y="3106800"/>
            <a:ext cx="3505320" cy="122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124080" y="2376360"/>
            <a:ext cx="3505320" cy="122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24080" y="2619360"/>
            <a:ext cx="350532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124080" y="2498760"/>
            <a:ext cx="3505320" cy="122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24080" y="2741760"/>
            <a:ext cx="3505320" cy="122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124080" y="2863800"/>
            <a:ext cx="3505320" cy="1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2984400"/>
            <a:ext cx="3505320" cy="12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3228840"/>
            <a:ext cx="3505320" cy="12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124080" y="3349800"/>
            <a:ext cx="3505320" cy="122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3733920"/>
            <a:ext cx="350532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124080" y="3846600"/>
            <a:ext cx="3505320" cy="11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124080" y="4413240"/>
            <a:ext cx="3505320" cy="112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24080" y="3960720"/>
            <a:ext cx="350532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24080" y="4073400"/>
            <a:ext cx="3505320" cy="11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4299120"/>
            <a:ext cx="3505320" cy="11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4863960"/>
            <a:ext cx="350532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124080" y="4524480"/>
            <a:ext cx="3505320" cy="11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124080" y="4751280"/>
            <a:ext cx="3505320" cy="11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124080" y="4637160"/>
            <a:ext cx="35053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4080" y="4186080"/>
            <a:ext cx="3505320" cy="113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24080" y="5181480"/>
            <a:ext cx="3505320" cy="12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24080" y="5310360"/>
            <a:ext cx="3505320" cy="129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24080" y="5983200"/>
            <a:ext cx="3505320" cy="130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5697360"/>
            <a:ext cx="350532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5568840"/>
            <a:ext cx="3505320" cy="128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124080" y="5827680"/>
            <a:ext cx="3505320" cy="155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24080" y="6113520"/>
            <a:ext cx="3505320" cy="128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24080" y="6370560"/>
            <a:ext cx="3505320" cy="130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24080" y="6500880"/>
            <a:ext cx="3505320" cy="128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5440320"/>
            <a:ext cx="3505320" cy="130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6242040"/>
            <a:ext cx="3505320" cy="128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3200" y="21337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43200" y="289548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43200" y="403848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81680" y="3809880"/>
            <a:ext cx="381240" cy="1143000"/>
          </a:xfrm>
          <a:custGeom>
            <a:avLst/>
            <a:gdLst>
              <a:gd name="textAreaLeft" fmla="*/ 0 w 381240"/>
              <a:gd name="textAreaRight" fmla="*/ 137520 w 3812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371600" y="2209680"/>
            <a:ext cx="11430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71600" y="2971800"/>
            <a:ext cx="11430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不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95280" y="4038480"/>
            <a:ext cx="11430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315200" y="4114800"/>
            <a:ext cx="11430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不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8600" y="5470560"/>
            <a:ext cx="2666880" cy="703800"/>
          </a:xfrm>
          <a:prstGeom prst="rect">
            <a:avLst/>
          </a:prstGeom>
          <a:solidFill>
            <a:srgbClr val="c0e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这种非典型布线具有最好的电磁兼容特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934320" y="2133720"/>
            <a:ext cx="1523880" cy="459720"/>
          </a:xfrm>
          <a:prstGeom prst="rect">
            <a:avLst/>
          </a:prstGeom>
          <a:solidFill>
            <a:srgbClr val="ccf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注意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6705360" y="251460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705720" y="2666880"/>
            <a:ext cx="76176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6705360" y="2666880"/>
            <a:ext cx="106668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八层板的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6" name=""/>
          <p:cNvSpPr/>
          <p:nvPr/>
        </p:nvSpPr>
        <p:spPr>
          <a:xfrm>
            <a:off x="2438280" y="2486160"/>
            <a:ext cx="2971800" cy="12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438280" y="2606760"/>
            <a:ext cx="2971800" cy="11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38280" y="3441600"/>
            <a:ext cx="2971800" cy="119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38280" y="2725560"/>
            <a:ext cx="2971800" cy="119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2963880"/>
            <a:ext cx="2971800" cy="119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2844720"/>
            <a:ext cx="2971800" cy="11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438280" y="3083040"/>
            <a:ext cx="2971800" cy="120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38280" y="3203640"/>
            <a:ext cx="2971800" cy="119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438280" y="3322800"/>
            <a:ext cx="2971800" cy="11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438280" y="3560760"/>
            <a:ext cx="2971800" cy="11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438280" y="2367000"/>
            <a:ext cx="2971800" cy="11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38280" y="2247840"/>
            <a:ext cx="2971800" cy="119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38280" y="3800520"/>
            <a:ext cx="2971800" cy="11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438280" y="3679920"/>
            <a:ext cx="2971800" cy="12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438280" y="3919680"/>
            <a:ext cx="2971800" cy="11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438280" y="47242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38280" y="5295960"/>
            <a:ext cx="3048120" cy="114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38280" y="4610160"/>
            <a:ext cx="3048120" cy="114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38280" y="4838760"/>
            <a:ext cx="30481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38280" y="49528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38280" y="51814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38280" y="5524560"/>
            <a:ext cx="30481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38280" y="54100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438280" y="56386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38280" y="44956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438280" y="4381560"/>
            <a:ext cx="30481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438280" y="5867280"/>
            <a:ext cx="3048120" cy="114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438280" y="5981760"/>
            <a:ext cx="304812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5067360"/>
            <a:ext cx="3048120" cy="114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438280" y="5753160"/>
            <a:ext cx="3048120" cy="114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057400" y="224784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62720" y="2552760"/>
            <a:ext cx="304560" cy="533520"/>
          </a:xfrm>
          <a:custGeom>
            <a:avLst/>
            <a:gdLst>
              <a:gd name="textAreaLeft" fmla="*/ 0 w 304560"/>
              <a:gd name="textAreaRight" fmla="*/ 10980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562720" y="3619440"/>
            <a:ext cx="380880" cy="457200"/>
          </a:xfrm>
          <a:custGeom>
            <a:avLst/>
            <a:gdLst>
              <a:gd name="textAreaLeft" fmla="*/ 0 w 380880"/>
              <a:gd name="textAreaRight" fmla="*/ 137520 w 3808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5800" y="2629080"/>
            <a:ext cx="129528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较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9920" y="2629080"/>
            <a:ext cx="129528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最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19920" y="3619440"/>
            <a:ext cx="129528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8680" y="4457880"/>
            <a:ext cx="304920" cy="53316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638680" y="552456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095880" y="4533840"/>
            <a:ext cx="129564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95880" y="5600880"/>
            <a:ext cx="129564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920" y="4915080"/>
            <a:ext cx="1752480" cy="459720"/>
          </a:xfrm>
          <a:prstGeom prst="rect">
            <a:avLst/>
          </a:prstGeom>
          <a:solidFill>
            <a:srgbClr val="dce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电源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781680" y="3505320"/>
            <a:ext cx="381240" cy="1143000"/>
          </a:xfrm>
          <a:custGeom>
            <a:avLst/>
            <a:gdLst>
              <a:gd name="textAreaLeft" fmla="*/ 0 w 381240"/>
              <a:gd name="textAreaRight" fmla="*/ 137520 w 3812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934320" y="1828800"/>
            <a:ext cx="1523880" cy="459720"/>
          </a:xfrm>
          <a:prstGeom prst="rect">
            <a:avLst/>
          </a:prstGeom>
          <a:solidFill>
            <a:srgbClr val="ccf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注意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5486400" y="2209680"/>
            <a:ext cx="1752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5486040" y="2362320"/>
            <a:ext cx="1981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5486400" y="2362320"/>
            <a:ext cx="22860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十层板的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>
            <a:off x="2286000" y="2954160"/>
            <a:ext cx="403848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286000" y="2776680"/>
            <a:ext cx="4038480" cy="177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86000" y="3672000"/>
            <a:ext cx="4038480" cy="17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6000" y="313524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86000" y="241776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6000" y="2306520"/>
            <a:ext cx="4038480" cy="177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86000" y="2598840"/>
            <a:ext cx="4038480" cy="17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286000" y="3313080"/>
            <a:ext cx="4038480" cy="177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86000" y="349416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86000" y="385272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420840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0" y="492444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0" y="4030560"/>
            <a:ext cx="4038480" cy="177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0" y="4565520"/>
            <a:ext cx="4038480" cy="17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86000" y="4386240"/>
            <a:ext cx="403848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86000" y="4743360"/>
            <a:ext cx="4038480" cy="177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6000" y="5102280"/>
            <a:ext cx="4038480" cy="17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0" y="5283360"/>
            <a:ext cx="4038480" cy="177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286000" y="5460840"/>
            <a:ext cx="4038480" cy="177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629400" y="2362320"/>
            <a:ext cx="457200" cy="76176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629400" y="335268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05720" y="480060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315200" y="2514600"/>
            <a:ext cx="13716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315200" y="4952880"/>
            <a:ext cx="13716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很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315200" y="3657600"/>
            <a:ext cx="1371600" cy="459720"/>
          </a:xfrm>
          <a:prstGeom prst="rect">
            <a:avLst/>
          </a:prstGeom>
          <a:solidFill>
            <a:srgbClr val="87e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较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04920" y="5410080"/>
            <a:ext cx="1523880" cy="459720"/>
          </a:xfrm>
          <a:prstGeom prst="rect">
            <a:avLst/>
          </a:prstGeom>
          <a:solidFill>
            <a:srgbClr val="ccf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注意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219320" y="472392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143000" y="3276720"/>
            <a:ext cx="106668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边缘的一些问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2" name=""/>
          <p:cNvSpPr/>
          <p:nvPr/>
        </p:nvSpPr>
        <p:spPr>
          <a:xfrm>
            <a:off x="609480" y="2743200"/>
            <a:ext cx="3124440" cy="121932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96" y="768"/>
                </a:moveTo>
                <a:lnTo>
                  <a:pt x="1392" y="768"/>
                </a:lnTo>
                <a:lnTo>
                  <a:pt x="1488" y="624"/>
                </a:lnTo>
                <a:lnTo>
                  <a:pt x="1632" y="624"/>
                </a:lnTo>
                <a:lnTo>
                  <a:pt x="1968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9480" y="2666880"/>
            <a:ext cx="3124440" cy="121932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96" y="768"/>
                </a:moveTo>
                <a:lnTo>
                  <a:pt x="1392" y="768"/>
                </a:lnTo>
                <a:lnTo>
                  <a:pt x="1488" y="624"/>
                </a:lnTo>
                <a:lnTo>
                  <a:pt x="1632" y="624"/>
                </a:lnTo>
                <a:lnTo>
                  <a:pt x="196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285640" y="36576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057040" y="36576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1828440" y="36576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362320" y="274320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528"/>
                </a:moveTo>
                <a:lnTo>
                  <a:pt x="48" y="432"/>
                </a:lnTo>
                <a:lnTo>
                  <a:pt x="480" y="432"/>
                </a:lnTo>
                <a:lnTo>
                  <a:pt x="672" y="48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09880" y="32004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815000">
            <a:off x="2985840" y="2278080"/>
            <a:ext cx="731880" cy="1805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257800" y="3124080"/>
            <a:ext cx="1828800" cy="304920"/>
          </a:xfrm>
          <a:custGeom>
            <a:avLst/>
            <a:gdLst/>
            <a:ahLst/>
            <a:rect l="l" t="t" r="r" b="b"/>
            <a:pathLst>
              <a:path w="1152" h="192">
                <a:moveTo>
                  <a:pt x="0" y="192"/>
                </a:moveTo>
                <a:lnTo>
                  <a:pt x="1152" y="192"/>
                </a:lnTo>
                <a:lnTo>
                  <a:pt x="1152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29400" y="3048120"/>
            <a:ext cx="304920" cy="759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029200" y="342900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1008" y="0"/>
                </a:moveTo>
                <a:lnTo>
                  <a:pt x="1008" y="96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6324480" y="3429000"/>
            <a:ext cx="15264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6171840" y="3429000"/>
            <a:ext cx="15228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01956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647676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58672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5714640" y="3429000"/>
            <a:ext cx="15228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5562360" y="3429000"/>
            <a:ext cx="152280" cy="152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54100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181480" y="31240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92" y="0"/>
                </a:moveTo>
                <a:cubicBezTo>
                  <a:pt x="180" y="40"/>
                  <a:pt x="168" y="80"/>
                  <a:pt x="144" y="96"/>
                </a:cubicBezTo>
                <a:cubicBezTo>
                  <a:pt x="120" y="112"/>
                  <a:pt x="72" y="80"/>
                  <a:pt x="48" y="96"/>
                </a:cubicBezTo>
                <a:cubicBezTo>
                  <a:pt x="24" y="112"/>
                  <a:pt x="12" y="15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086600" y="3048120"/>
            <a:ext cx="88920" cy="457200"/>
          </a:xfrm>
          <a:custGeom>
            <a:avLst/>
            <a:gdLst/>
            <a:ahLst/>
            <a:rect l="l" t="t" r="r" b="b"/>
            <a:pathLst>
              <a:path w="56" h="336">
                <a:moveTo>
                  <a:pt x="0" y="0"/>
                </a:moveTo>
                <a:cubicBezTo>
                  <a:pt x="20" y="28"/>
                  <a:pt x="40" y="56"/>
                  <a:pt x="48" y="96"/>
                </a:cubicBezTo>
                <a:cubicBezTo>
                  <a:pt x="56" y="136"/>
                  <a:pt x="56" y="200"/>
                  <a:pt x="48" y="240"/>
                </a:cubicBezTo>
                <a:cubicBezTo>
                  <a:pt x="40" y="280"/>
                  <a:pt x="20" y="308"/>
                  <a:pt x="0" y="336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86600" y="2895480"/>
            <a:ext cx="304920" cy="838440"/>
          </a:xfrm>
          <a:custGeom>
            <a:avLst/>
            <a:gdLst/>
            <a:ahLst/>
            <a:rect l="l" t="t" r="r" b="b"/>
            <a:pathLst>
              <a:path w="56" h="336">
                <a:moveTo>
                  <a:pt x="0" y="0"/>
                </a:moveTo>
                <a:cubicBezTo>
                  <a:pt x="20" y="28"/>
                  <a:pt x="40" y="56"/>
                  <a:pt x="48" y="96"/>
                </a:cubicBezTo>
                <a:cubicBezTo>
                  <a:pt x="56" y="136"/>
                  <a:pt x="56" y="200"/>
                  <a:pt x="48" y="240"/>
                </a:cubicBezTo>
                <a:cubicBezTo>
                  <a:pt x="40" y="280"/>
                  <a:pt x="20" y="308"/>
                  <a:pt x="0" y="336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238880" y="2819520"/>
            <a:ext cx="304920" cy="1066680"/>
          </a:xfrm>
          <a:custGeom>
            <a:avLst/>
            <a:gdLst/>
            <a:ahLst/>
            <a:rect l="l" t="t" r="r" b="b"/>
            <a:pathLst>
              <a:path w="56" h="336">
                <a:moveTo>
                  <a:pt x="0" y="0"/>
                </a:moveTo>
                <a:cubicBezTo>
                  <a:pt x="20" y="28"/>
                  <a:pt x="40" y="56"/>
                  <a:pt x="48" y="96"/>
                </a:cubicBezTo>
                <a:cubicBezTo>
                  <a:pt x="56" y="136"/>
                  <a:pt x="56" y="200"/>
                  <a:pt x="48" y="240"/>
                </a:cubicBezTo>
                <a:cubicBezTo>
                  <a:pt x="40" y="280"/>
                  <a:pt x="20" y="308"/>
                  <a:pt x="0" y="336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3520" y="52578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0" y="144"/>
                </a:moveTo>
                <a:lnTo>
                  <a:pt x="1296" y="144"/>
                </a:lnTo>
                <a:lnTo>
                  <a:pt x="1296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00400" y="50292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0" y="144"/>
                </a:moveTo>
                <a:lnTo>
                  <a:pt x="1296" y="144"/>
                </a:lnTo>
                <a:lnTo>
                  <a:pt x="1296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19920" y="52578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0" y="144"/>
                </a:moveTo>
                <a:lnTo>
                  <a:pt x="1296" y="144"/>
                </a:lnTo>
                <a:lnTo>
                  <a:pt x="1296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9480" y="4800600"/>
            <a:ext cx="1371600" cy="2286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0" y="144"/>
                </a:moveTo>
                <a:lnTo>
                  <a:pt x="864" y="144"/>
                </a:lnTo>
                <a:lnTo>
                  <a:pt x="864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343400" y="4800600"/>
            <a:ext cx="457200" cy="228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236196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22093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9807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17521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5235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12949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10663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8377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00400" y="52578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1296" y="0"/>
                </a:moveTo>
                <a:lnTo>
                  <a:pt x="1296" y="144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9525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464796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34304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411444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88584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5809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27636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080" y="502920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lnTo>
                  <a:pt x="384" y="0"/>
                </a:lnTo>
                <a:lnTo>
                  <a:pt x="384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10280" y="4800600"/>
            <a:ext cx="457200" cy="228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19920" y="5029200"/>
            <a:ext cx="2057400" cy="228600"/>
          </a:xfrm>
          <a:custGeom>
            <a:avLst/>
            <a:gdLst/>
            <a:ahLst/>
            <a:rect l="l" t="t" r="r" b="b"/>
            <a:pathLst>
              <a:path w="1296" h="144">
                <a:moveTo>
                  <a:pt x="0" y="144"/>
                </a:moveTo>
                <a:lnTo>
                  <a:pt x="1296" y="144"/>
                </a:lnTo>
                <a:lnTo>
                  <a:pt x="1296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43800" y="4800600"/>
            <a:ext cx="4572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784836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6957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74671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72385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70099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67813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6552720" y="5257800"/>
            <a:ext cx="228600" cy="228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63241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6095520" y="5257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772400" y="5029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080" y="4876920"/>
            <a:ext cx="266760" cy="380880"/>
          </a:xfrm>
          <a:custGeom>
            <a:avLst/>
            <a:gdLst/>
            <a:ahLst/>
            <a:rect l="l" t="t" r="r" b="b"/>
            <a:pathLst>
              <a:path w="168" h="240">
                <a:moveTo>
                  <a:pt x="0" y="0"/>
                </a:moveTo>
                <a:cubicBezTo>
                  <a:pt x="60" y="52"/>
                  <a:pt x="120" y="104"/>
                  <a:pt x="144" y="144"/>
                </a:cubicBezTo>
                <a:cubicBezTo>
                  <a:pt x="168" y="184"/>
                  <a:pt x="156" y="212"/>
                  <a:pt x="144" y="240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981080" y="487692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52" y="8"/>
                  <a:pt x="104" y="16"/>
                  <a:pt x="144" y="48"/>
                </a:cubicBezTo>
                <a:cubicBezTo>
                  <a:pt x="184" y="80"/>
                  <a:pt x="224" y="160"/>
                  <a:pt x="240" y="192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981080" y="480060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cubicBezTo>
                  <a:pt x="92" y="24"/>
                  <a:pt x="184" y="48"/>
                  <a:pt x="240" y="96"/>
                </a:cubicBezTo>
                <a:cubicBezTo>
                  <a:pt x="296" y="144"/>
                  <a:pt x="316" y="216"/>
                  <a:pt x="336" y="288"/>
                </a:cubicBezTo>
              </a:path>
            </a:pathLst>
          </a:custGeom>
          <a:noFill/>
          <a:ln w="38160">
            <a:solidFill>
              <a:srgbClr val="ff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330800" y="502920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56" y="0"/>
                </a:moveTo>
                <a:cubicBezTo>
                  <a:pt x="36" y="12"/>
                  <a:pt x="16" y="24"/>
                  <a:pt x="8" y="48"/>
                </a:cubicBezTo>
                <a:cubicBezTo>
                  <a:pt x="0" y="72"/>
                  <a:pt x="4" y="108"/>
                  <a:pt x="8" y="14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114800" y="49528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cubicBezTo>
                  <a:pt x="108" y="28"/>
                  <a:pt x="72" y="56"/>
                  <a:pt x="48" y="96"/>
                </a:cubicBezTo>
                <a:cubicBezTo>
                  <a:pt x="24" y="136"/>
                  <a:pt x="12" y="188"/>
                  <a:pt x="0" y="24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495288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164" y="24"/>
                  <a:pt x="88" y="48"/>
                  <a:pt x="48" y="96"/>
                </a:cubicBezTo>
                <a:cubicBezTo>
                  <a:pt x="8" y="144"/>
                  <a:pt x="4" y="216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4800600" y="495288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164" y="24"/>
                  <a:pt x="88" y="48"/>
                  <a:pt x="48" y="96"/>
                </a:cubicBezTo>
                <a:cubicBezTo>
                  <a:pt x="8" y="144"/>
                  <a:pt x="4" y="216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4799880" y="49528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cubicBezTo>
                  <a:pt x="108" y="28"/>
                  <a:pt x="72" y="56"/>
                  <a:pt x="48" y="96"/>
                </a:cubicBezTo>
                <a:cubicBezTo>
                  <a:pt x="24" y="136"/>
                  <a:pt x="12" y="188"/>
                  <a:pt x="0" y="24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4787280" y="502920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56" y="0"/>
                </a:moveTo>
                <a:cubicBezTo>
                  <a:pt x="36" y="12"/>
                  <a:pt x="16" y="24"/>
                  <a:pt x="8" y="48"/>
                </a:cubicBezTo>
                <a:cubicBezTo>
                  <a:pt x="0" y="72"/>
                  <a:pt x="4" y="108"/>
                  <a:pt x="8" y="14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705720" y="495288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164" y="24"/>
                  <a:pt x="88" y="48"/>
                  <a:pt x="48" y="96"/>
                </a:cubicBezTo>
                <a:cubicBezTo>
                  <a:pt x="8" y="144"/>
                  <a:pt x="4" y="216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7391520" y="4952880"/>
            <a:ext cx="38088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164" y="24"/>
                  <a:pt x="88" y="48"/>
                  <a:pt x="48" y="96"/>
                </a:cubicBezTo>
                <a:cubicBezTo>
                  <a:pt x="8" y="144"/>
                  <a:pt x="4" y="216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34320" y="49528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cubicBezTo>
                  <a:pt x="108" y="28"/>
                  <a:pt x="72" y="56"/>
                  <a:pt x="48" y="96"/>
                </a:cubicBezTo>
                <a:cubicBezTo>
                  <a:pt x="24" y="136"/>
                  <a:pt x="12" y="188"/>
                  <a:pt x="0" y="24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7314480" y="49528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cubicBezTo>
                  <a:pt x="108" y="28"/>
                  <a:pt x="72" y="56"/>
                  <a:pt x="48" y="96"/>
                </a:cubicBezTo>
                <a:cubicBezTo>
                  <a:pt x="24" y="136"/>
                  <a:pt x="12" y="188"/>
                  <a:pt x="0" y="24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86600" y="502920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56" y="0"/>
                </a:moveTo>
                <a:cubicBezTo>
                  <a:pt x="36" y="12"/>
                  <a:pt x="16" y="24"/>
                  <a:pt x="8" y="48"/>
                </a:cubicBezTo>
                <a:cubicBezTo>
                  <a:pt x="0" y="72"/>
                  <a:pt x="4" y="108"/>
                  <a:pt x="8" y="14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01880" y="502920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56" y="0"/>
                </a:moveTo>
                <a:cubicBezTo>
                  <a:pt x="36" y="12"/>
                  <a:pt x="16" y="24"/>
                  <a:pt x="8" y="48"/>
                </a:cubicBezTo>
                <a:cubicBezTo>
                  <a:pt x="0" y="72"/>
                  <a:pt x="4" y="108"/>
                  <a:pt x="8" y="14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38080" y="1981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关键线（时钟、射频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23880" y="2362320"/>
            <a:ext cx="16765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67280" y="2209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产生较强辐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无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flipV="1">
            <a:off x="6781320" y="350532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914400" y="43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源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480" y="5576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线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81080" y="5105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59092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81080" y="5791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810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4876560" y="3809880"/>
            <a:ext cx="685800" cy="83844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172200" y="3733920"/>
            <a:ext cx="762120" cy="914400"/>
          </a:xfrm>
          <a:prstGeom prst="line">
            <a:avLst/>
          </a:prstGeom>
          <a:ln w="381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钟频率越高辐射越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6252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扁平电缆的使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"/>
          <p:cNvSpPr/>
          <p:nvPr/>
        </p:nvSpPr>
        <p:spPr>
          <a:xfrm>
            <a:off x="1219320" y="3471840"/>
            <a:ext cx="3063600" cy="33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1932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511280" y="3471840"/>
            <a:ext cx="2919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03240" y="3471840"/>
            <a:ext cx="29052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8608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97036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54280" y="3471840"/>
            <a:ext cx="29052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093760" y="3471840"/>
            <a:ext cx="2923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678040" y="3471840"/>
            <a:ext cx="2923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262320" y="3471840"/>
            <a:ext cx="2919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3712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44800" y="3471840"/>
            <a:ext cx="2923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159520" y="3471840"/>
            <a:ext cx="2919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33960" y="3471840"/>
            <a:ext cx="2923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910560" y="3471840"/>
            <a:ext cx="2919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867200" y="3471840"/>
            <a:ext cx="29232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867200" y="3471840"/>
            <a:ext cx="3210120" cy="33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51480" y="3471840"/>
            <a:ext cx="2905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6280" y="3471840"/>
            <a:ext cx="2919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202520" y="3471840"/>
            <a:ext cx="2905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618240" y="3471840"/>
            <a:ext cx="29232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9304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42000" y="3471840"/>
            <a:ext cx="291960" cy="33804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85000" y="3471840"/>
            <a:ext cx="29232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39920" y="228600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最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33960" y="228600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较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080" y="5581800"/>
            <a:ext cx="350532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40440" y="5581800"/>
            <a:ext cx="3186000" cy="35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38080" y="5581800"/>
            <a:ext cx="3193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15740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7492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9388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112840" y="5581800"/>
            <a:ext cx="3193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3216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74968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06864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387600" y="5581800"/>
            <a:ext cx="3193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0692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24440" y="5581800"/>
            <a:ext cx="318960" cy="358560"/>
          </a:xfrm>
          <a:prstGeom prst="ellipse">
            <a:avLst/>
          </a:prstGeom>
          <a:solidFill>
            <a:srgbClr val="b4433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4044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5940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7692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5880" y="5581800"/>
            <a:ext cx="3193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1520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3272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05168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370640" y="5581800"/>
            <a:ext cx="3193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89960" y="5581800"/>
            <a:ext cx="31752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007480" y="5581800"/>
            <a:ext cx="31896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40440" y="5940360"/>
            <a:ext cx="3186000" cy="3240"/>
          </a:xfrm>
          <a:prstGeom prst="line">
            <a:avLst/>
          </a:prstGeom>
          <a:ln w="76320">
            <a:solidFill>
              <a:srgbClr val="b44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09680" y="47242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10080" y="4724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较好，但端接困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避免面积较大的地线回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>
            <a:off x="1295280" y="3276720"/>
            <a:ext cx="1447920" cy="5331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144" y="0"/>
                </a:moveTo>
                <a:lnTo>
                  <a:pt x="0" y="336"/>
                </a:lnTo>
                <a:lnTo>
                  <a:pt x="672" y="336"/>
                </a:lnTo>
                <a:lnTo>
                  <a:pt x="816" y="0"/>
                </a:lnTo>
                <a:lnTo>
                  <a:pt x="14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371600" y="3809880"/>
            <a:ext cx="152280" cy="76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523880" y="3733560"/>
            <a:ext cx="76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371600" y="3657600"/>
            <a:ext cx="152280" cy="152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60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96" y="0"/>
                </a:lnTo>
                <a:lnTo>
                  <a:pt x="192" y="0"/>
                </a:lnTo>
                <a:lnTo>
                  <a:pt x="96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3352680"/>
            <a:ext cx="15264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0"/>
                </a:moveTo>
                <a:lnTo>
                  <a:pt x="96" y="96"/>
                </a:lnTo>
                <a:lnTo>
                  <a:pt x="0" y="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8600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96" y="0"/>
                </a:lnTo>
                <a:lnTo>
                  <a:pt x="192" y="0"/>
                </a:lnTo>
                <a:lnTo>
                  <a:pt x="96" y="192"/>
                </a:lnTo>
                <a:lnTo>
                  <a:pt x="0" y="19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971800" y="365760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96" y="0"/>
                </a:lnTo>
                <a:lnTo>
                  <a:pt x="192" y="0"/>
                </a:lnTo>
                <a:lnTo>
                  <a:pt x="96" y="192"/>
                </a:lnTo>
                <a:lnTo>
                  <a:pt x="0" y="19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971800" y="3962520"/>
            <a:ext cx="152280" cy="7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24080" y="3581280"/>
            <a:ext cx="15264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0" y="288"/>
                </a:moveTo>
                <a:lnTo>
                  <a:pt x="96" y="96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90920" y="3352680"/>
            <a:ext cx="609480" cy="38124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88" y="28"/>
                  <a:pt x="176" y="56"/>
                  <a:pt x="240" y="96"/>
                </a:cubicBezTo>
                <a:cubicBezTo>
                  <a:pt x="304" y="136"/>
                  <a:pt x="344" y="188"/>
                  <a:pt x="384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514600" y="3429000"/>
            <a:ext cx="609480" cy="30492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88" y="28"/>
                  <a:pt x="176" y="56"/>
                  <a:pt x="240" y="96"/>
                </a:cubicBezTo>
                <a:cubicBezTo>
                  <a:pt x="304" y="136"/>
                  <a:pt x="344" y="188"/>
                  <a:pt x="384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438280" y="3505320"/>
            <a:ext cx="685800" cy="30456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88" y="28"/>
                  <a:pt x="176" y="56"/>
                  <a:pt x="240" y="96"/>
                </a:cubicBezTo>
                <a:cubicBezTo>
                  <a:pt x="304" y="136"/>
                  <a:pt x="344" y="188"/>
                  <a:pt x="384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438280" y="3581280"/>
            <a:ext cx="685800" cy="30492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88" y="28"/>
                  <a:pt x="176" y="56"/>
                  <a:pt x="240" y="96"/>
                </a:cubicBezTo>
                <a:cubicBezTo>
                  <a:pt x="304" y="136"/>
                  <a:pt x="344" y="188"/>
                  <a:pt x="384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920" y="3048120"/>
            <a:ext cx="3429000" cy="1371600"/>
          </a:xfrm>
          <a:custGeom>
            <a:avLst/>
            <a:gdLst/>
            <a:ahLst/>
            <a:rect l="l" t="t" r="r" b="b"/>
            <a:pathLst>
              <a:path w="1968" h="864">
                <a:moveTo>
                  <a:pt x="384" y="0"/>
                </a:moveTo>
                <a:lnTo>
                  <a:pt x="0" y="864"/>
                </a:lnTo>
                <a:lnTo>
                  <a:pt x="1632" y="864"/>
                </a:lnTo>
                <a:lnTo>
                  <a:pt x="1968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rot="5400000">
            <a:off x="5486400" y="3200400"/>
            <a:ext cx="38088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rot="16200000">
            <a:off x="5409000" y="3962520"/>
            <a:ext cx="38124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867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48" y="0"/>
                </a:moveTo>
                <a:lnTo>
                  <a:pt x="768" y="0"/>
                </a:lnTo>
                <a:lnTo>
                  <a:pt x="768" y="480"/>
                </a:lnTo>
                <a:lnTo>
                  <a:pt x="0" y="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34340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43400" y="3048120"/>
            <a:ext cx="3048120" cy="1676160"/>
          </a:xfrm>
          <a:custGeom>
            <a:avLst/>
            <a:gdLst/>
            <a:ahLst/>
            <a:rect l="l" t="t" r="r" b="b"/>
            <a:pathLst>
              <a:path w="1920" h="1056">
                <a:moveTo>
                  <a:pt x="0" y="0"/>
                </a:moveTo>
                <a:lnTo>
                  <a:pt x="1920" y="0"/>
                </a:lnTo>
                <a:lnTo>
                  <a:pt x="1920" y="1056"/>
                </a:lnTo>
                <a:lnTo>
                  <a:pt x="0" y="10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34340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086600" y="3657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495680" y="52578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一部分信号回流经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86400" y="472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197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343400" y="26510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48640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406760" y="3162240"/>
            <a:ext cx="1079640" cy="1447920"/>
          </a:xfrm>
          <a:custGeom>
            <a:avLst/>
            <a:gdLst/>
            <a:ahLst/>
            <a:rect l="l" t="t" r="r" b="b"/>
            <a:pathLst>
              <a:path w="680" h="912">
                <a:moveTo>
                  <a:pt x="680" y="888"/>
                </a:moveTo>
                <a:cubicBezTo>
                  <a:pt x="564" y="896"/>
                  <a:pt x="448" y="904"/>
                  <a:pt x="344" y="888"/>
                </a:cubicBezTo>
                <a:cubicBezTo>
                  <a:pt x="240" y="872"/>
                  <a:pt x="112" y="912"/>
                  <a:pt x="56" y="792"/>
                </a:cubicBezTo>
                <a:cubicBezTo>
                  <a:pt x="0" y="672"/>
                  <a:pt x="0" y="296"/>
                  <a:pt x="8" y="168"/>
                </a:cubicBezTo>
                <a:cubicBezTo>
                  <a:pt x="16" y="40"/>
                  <a:pt x="40" y="48"/>
                  <a:pt x="104" y="24"/>
                </a:cubicBezTo>
                <a:cubicBezTo>
                  <a:pt x="168" y="0"/>
                  <a:pt x="304" y="24"/>
                  <a:pt x="392" y="24"/>
                </a:cubicBezTo>
                <a:cubicBezTo>
                  <a:pt x="480" y="24"/>
                  <a:pt x="556" y="24"/>
                  <a:pt x="632" y="2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391520" y="47084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扁平电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7620120" y="3886200"/>
            <a:ext cx="3808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58000" y="3657600"/>
            <a:ext cx="8380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219320" y="35053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685800" y="4038120"/>
            <a:ext cx="6858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7200" y="4952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这两处都有地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676520" y="3809880"/>
            <a:ext cx="106668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注意隐蔽的辐射环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>
            <a:off x="1295280" y="3886200"/>
            <a:ext cx="3124440" cy="1523880"/>
          </a:xfrm>
          <a:prstGeom prst="parallelogram">
            <a:avLst>
              <a:gd name="adj" fmla="val 5125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4920" y="5257800"/>
            <a:ext cx="160020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990720" y="2895480"/>
            <a:ext cx="533160" cy="182880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48" y="1152"/>
                </a:moveTo>
                <a:lnTo>
                  <a:pt x="336" y="528"/>
                </a:lnTo>
                <a:lnTo>
                  <a:pt x="288" y="0"/>
                </a:lnTo>
                <a:lnTo>
                  <a:pt x="0" y="672"/>
                </a:lnTo>
                <a:lnTo>
                  <a:pt x="48" y="1152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19320" y="42670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cubicBezTo>
                  <a:pt x="40" y="96"/>
                  <a:pt x="80" y="192"/>
                  <a:pt x="144" y="240"/>
                </a:cubicBezTo>
                <a:cubicBezTo>
                  <a:pt x="208" y="288"/>
                  <a:pt x="296" y="288"/>
                  <a:pt x="384" y="28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143000" y="434340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cubicBezTo>
                  <a:pt x="40" y="96"/>
                  <a:pt x="80" y="192"/>
                  <a:pt x="144" y="240"/>
                </a:cubicBezTo>
                <a:cubicBezTo>
                  <a:pt x="208" y="288"/>
                  <a:pt x="296" y="288"/>
                  <a:pt x="384" y="288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rot="1390200">
            <a:off x="1782720" y="4714560"/>
            <a:ext cx="76320" cy="1522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1390200">
            <a:off x="1112400" y="4184640"/>
            <a:ext cx="76320" cy="2286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86000" y="2666880"/>
            <a:ext cx="14479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86000" y="3200400"/>
            <a:ext cx="35568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192" y="0"/>
                </a:moveTo>
                <a:cubicBezTo>
                  <a:pt x="208" y="68"/>
                  <a:pt x="224" y="136"/>
                  <a:pt x="192" y="240"/>
                </a:cubicBezTo>
                <a:cubicBezTo>
                  <a:pt x="160" y="344"/>
                  <a:pt x="80" y="484"/>
                  <a:pt x="0" y="62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90920" y="3200400"/>
            <a:ext cx="35532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192" y="0"/>
                </a:moveTo>
                <a:cubicBezTo>
                  <a:pt x="208" y="68"/>
                  <a:pt x="224" y="136"/>
                  <a:pt x="192" y="240"/>
                </a:cubicBezTo>
                <a:cubicBezTo>
                  <a:pt x="160" y="344"/>
                  <a:pt x="80" y="484"/>
                  <a:pt x="0" y="62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514600" y="3124080"/>
            <a:ext cx="4572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16400" y="3124080"/>
            <a:ext cx="164880" cy="914400"/>
          </a:xfrm>
          <a:custGeom>
            <a:avLst/>
            <a:gdLst/>
            <a:ahLst/>
            <a:rect l="l" t="t" r="r" b="b"/>
            <a:pathLst>
              <a:path w="104" h="576">
                <a:moveTo>
                  <a:pt x="8" y="0"/>
                </a:moveTo>
                <a:cubicBezTo>
                  <a:pt x="56" y="92"/>
                  <a:pt x="104" y="184"/>
                  <a:pt x="104" y="240"/>
                </a:cubicBezTo>
                <a:cubicBezTo>
                  <a:pt x="104" y="296"/>
                  <a:pt x="16" y="280"/>
                  <a:pt x="8" y="336"/>
                </a:cubicBezTo>
                <a:cubicBezTo>
                  <a:pt x="0" y="392"/>
                  <a:pt x="28" y="484"/>
                  <a:pt x="56" y="576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92360" y="3124080"/>
            <a:ext cx="165240" cy="914400"/>
          </a:xfrm>
          <a:custGeom>
            <a:avLst/>
            <a:gdLst/>
            <a:ahLst/>
            <a:rect l="l" t="t" r="r" b="b"/>
            <a:pathLst>
              <a:path w="104" h="576">
                <a:moveTo>
                  <a:pt x="8" y="0"/>
                </a:moveTo>
                <a:cubicBezTo>
                  <a:pt x="56" y="92"/>
                  <a:pt x="104" y="184"/>
                  <a:pt x="104" y="240"/>
                </a:cubicBezTo>
                <a:cubicBezTo>
                  <a:pt x="104" y="296"/>
                  <a:pt x="16" y="280"/>
                  <a:pt x="8" y="336"/>
                </a:cubicBezTo>
                <a:cubicBezTo>
                  <a:pt x="0" y="392"/>
                  <a:pt x="28" y="484"/>
                  <a:pt x="56" y="576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429000" y="3962520"/>
            <a:ext cx="15228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3048120"/>
            <a:ext cx="15228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752480" y="5638680"/>
            <a:ext cx="763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752480" y="5410080"/>
            <a:ext cx="1067040" cy="52092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28800" y="5410080"/>
            <a:ext cx="1066680" cy="59688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2480" y="5334120"/>
            <a:ext cx="1067040" cy="52056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666880" y="5334120"/>
            <a:ext cx="3049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447920" y="3276720"/>
            <a:ext cx="759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86000" y="2743200"/>
            <a:ext cx="7632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23880" y="274320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0" y="384"/>
                </a:moveTo>
                <a:cubicBezTo>
                  <a:pt x="32" y="272"/>
                  <a:pt x="64" y="160"/>
                  <a:pt x="144" y="96"/>
                </a:cubicBezTo>
                <a:cubicBezTo>
                  <a:pt x="224" y="32"/>
                  <a:pt x="352" y="16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523880" y="2895480"/>
            <a:ext cx="762120" cy="60984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0" y="384"/>
                </a:moveTo>
                <a:cubicBezTo>
                  <a:pt x="32" y="272"/>
                  <a:pt x="64" y="160"/>
                  <a:pt x="144" y="96"/>
                </a:cubicBezTo>
                <a:cubicBezTo>
                  <a:pt x="224" y="32"/>
                  <a:pt x="352" y="16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47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143000" y="464796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286000" y="4114800"/>
            <a:ext cx="4572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371600" y="24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信号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58128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765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信号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3352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562720" y="3886200"/>
            <a:ext cx="3124080" cy="1523880"/>
          </a:xfrm>
          <a:prstGeom prst="parallelogram">
            <a:avLst>
              <a:gd name="adj" fmla="val 5125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0" y="5257800"/>
            <a:ext cx="160020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57800" y="2895480"/>
            <a:ext cx="533520" cy="1828800"/>
          </a:xfrm>
          <a:custGeom>
            <a:avLst/>
            <a:gdLst/>
            <a:ahLst/>
            <a:rect l="l" t="t" r="r" b="b"/>
            <a:pathLst>
              <a:path w="336" h="1152">
                <a:moveTo>
                  <a:pt x="48" y="1152"/>
                </a:moveTo>
                <a:lnTo>
                  <a:pt x="336" y="528"/>
                </a:lnTo>
                <a:lnTo>
                  <a:pt x="288" y="0"/>
                </a:lnTo>
                <a:lnTo>
                  <a:pt x="0" y="672"/>
                </a:lnTo>
                <a:lnTo>
                  <a:pt x="48" y="1152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53080" y="2666880"/>
            <a:ext cx="14479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553080" y="3200400"/>
            <a:ext cx="35568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192" y="0"/>
                </a:moveTo>
                <a:cubicBezTo>
                  <a:pt x="208" y="68"/>
                  <a:pt x="224" y="136"/>
                  <a:pt x="192" y="240"/>
                </a:cubicBezTo>
                <a:cubicBezTo>
                  <a:pt x="160" y="344"/>
                  <a:pt x="80" y="484"/>
                  <a:pt x="0" y="62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858000" y="3200400"/>
            <a:ext cx="35568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192" y="0"/>
                </a:moveTo>
                <a:cubicBezTo>
                  <a:pt x="208" y="68"/>
                  <a:pt x="224" y="136"/>
                  <a:pt x="192" y="240"/>
                </a:cubicBezTo>
                <a:cubicBezTo>
                  <a:pt x="160" y="344"/>
                  <a:pt x="80" y="484"/>
                  <a:pt x="0" y="62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781680" y="3124080"/>
            <a:ext cx="4572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391520" y="3124080"/>
            <a:ext cx="164880" cy="914400"/>
          </a:xfrm>
          <a:custGeom>
            <a:avLst/>
            <a:gdLst/>
            <a:ahLst/>
            <a:rect l="l" t="t" r="r" b="b"/>
            <a:pathLst>
              <a:path w="104" h="576">
                <a:moveTo>
                  <a:pt x="8" y="0"/>
                </a:moveTo>
                <a:cubicBezTo>
                  <a:pt x="56" y="92"/>
                  <a:pt x="104" y="184"/>
                  <a:pt x="104" y="240"/>
                </a:cubicBezTo>
                <a:cubicBezTo>
                  <a:pt x="104" y="296"/>
                  <a:pt x="16" y="280"/>
                  <a:pt x="8" y="336"/>
                </a:cubicBezTo>
                <a:cubicBezTo>
                  <a:pt x="0" y="392"/>
                  <a:pt x="28" y="484"/>
                  <a:pt x="56" y="576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467480" y="3124080"/>
            <a:ext cx="165240" cy="914400"/>
          </a:xfrm>
          <a:custGeom>
            <a:avLst/>
            <a:gdLst/>
            <a:ahLst/>
            <a:rect l="l" t="t" r="r" b="b"/>
            <a:pathLst>
              <a:path w="104" h="576">
                <a:moveTo>
                  <a:pt x="8" y="0"/>
                </a:moveTo>
                <a:cubicBezTo>
                  <a:pt x="56" y="92"/>
                  <a:pt x="104" y="184"/>
                  <a:pt x="104" y="240"/>
                </a:cubicBezTo>
                <a:cubicBezTo>
                  <a:pt x="104" y="296"/>
                  <a:pt x="16" y="280"/>
                  <a:pt x="8" y="336"/>
                </a:cubicBezTo>
                <a:cubicBezTo>
                  <a:pt x="0" y="392"/>
                  <a:pt x="28" y="484"/>
                  <a:pt x="56" y="576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391520" y="3962520"/>
            <a:ext cx="15228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391520" y="3048120"/>
            <a:ext cx="15228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5638680"/>
            <a:ext cx="759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19920" y="5410080"/>
            <a:ext cx="1066680" cy="52092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095880" y="5410080"/>
            <a:ext cx="1067040" cy="59688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19920" y="5334120"/>
            <a:ext cx="1066680" cy="52056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240"/>
                </a:moveTo>
                <a:cubicBezTo>
                  <a:pt x="160" y="284"/>
                  <a:pt x="320" y="328"/>
                  <a:pt x="432" y="288"/>
                </a:cubicBezTo>
                <a:cubicBezTo>
                  <a:pt x="544" y="248"/>
                  <a:pt x="624" y="56"/>
                  <a:pt x="672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934320" y="5334120"/>
            <a:ext cx="30456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715000" y="3276720"/>
            <a:ext cx="7632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53080" y="2743200"/>
            <a:ext cx="7632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791320" y="2743200"/>
            <a:ext cx="76176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0" y="384"/>
                </a:moveTo>
                <a:cubicBezTo>
                  <a:pt x="32" y="272"/>
                  <a:pt x="64" y="160"/>
                  <a:pt x="144" y="96"/>
                </a:cubicBezTo>
                <a:cubicBezTo>
                  <a:pt x="224" y="32"/>
                  <a:pt x="352" y="16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791320" y="2895480"/>
            <a:ext cx="761760" cy="60984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0" y="384"/>
                </a:moveTo>
                <a:cubicBezTo>
                  <a:pt x="32" y="272"/>
                  <a:pt x="64" y="160"/>
                  <a:pt x="144" y="96"/>
                </a:cubicBezTo>
                <a:cubicBezTo>
                  <a:pt x="224" y="32"/>
                  <a:pt x="352" y="16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553080" y="4114800"/>
            <a:ext cx="4572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29200" y="21477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信号线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48720" y="3429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地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0060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电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791320" y="2971800"/>
            <a:ext cx="76176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528" y="0"/>
                </a:moveTo>
                <a:cubicBezTo>
                  <a:pt x="444" y="24"/>
                  <a:pt x="360" y="48"/>
                  <a:pt x="288" y="96"/>
                </a:cubicBezTo>
                <a:cubicBezTo>
                  <a:pt x="216" y="144"/>
                  <a:pt x="144" y="240"/>
                  <a:pt x="96" y="288"/>
                </a:cubicBezTo>
                <a:cubicBezTo>
                  <a:pt x="48" y="336"/>
                  <a:pt x="24" y="360"/>
                  <a:pt x="0" y="384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873600" y="1905120"/>
            <a:ext cx="1079280" cy="4952880"/>
          </a:xfrm>
          <a:custGeom>
            <a:avLst/>
            <a:gdLst/>
            <a:ahLst/>
            <a:rect l="l" t="t" r="r" b="b"/>
            <a:pathLst>
              <a:path w="680" h="3120">
                <a:moveTo>
                  <a:pt x="344" y="0"/>
                </a:moveTo>
                <a:cubicBezTo>
                  <a:pt x="440" y="164"/>
                  <a:pt x="536" y="328"/>
                  <a:pt x="584" y="528"/>
                </a:cubicBezTo>
                <a:cubicBezTo>
                  <a:pt x="632" y="728"/>
                  <a:pt x="680" y="968"/>
                  <a:pt x="632" y="1200"/>
                </a:cubicBezTo>
                <a:cubicBezTo>
                  <a:pt x="584" y="1432"/>
                  <a:pt x="400" y="1680"/>
                  <a:pt x="296" y="1920"/>
                </a:cubicBezTo>
                <a:cubicBezTo>
                  <a:pt x="192" y="2160"/>
                  <a:pt x="0" y="2440"/>
                  <a:pt x="8" y="2640"/>
                </a:cubicBezTo>
                <a:cubicBezTo>
                  <a:pt x="16" y="2840"/>
                  <a:pt x="180" y="2980"/>
                  <a:pt x="344" y="3120"/>
                </a:cubicBezTo>
              </a:path>
            </a:pathLst>
          </a:custGeom>
          <a:noFill/>
          <a:ln w="38160">
            <a:solidFill>
              <a:srgbClr val="cc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7848360" y="3429000"/>
            <a:ext cx="609480" cy="0"/>
          </a:xfrm>
          <a:prstGeom prst="line">
            <a:avLst/>
          </a:prstGeom>
          <a:ln w="28440">
            <a:solidFill>
              <a:srgbClr val="007c5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直流线的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1676520" y="2514600"/>
            <a:ext cx="5562360" cy="335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676520" y="3124080"/>
            <a:ext cx="4572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15000" y="2895480"/>
            <a:ext cx="990720" cy="2514600"/>
          </a:xfrm>
          <a:prstGeom prst="rect">
            <a:avLst/>
          </a:prstGeom>
          <a:solidFill>
            <a:srgbClr val="ccf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2895480"/>
            <a:ext cx="990360" cy="2514600"/>
          </a:xfrm>
          <a:prstGeom prst="rect">
            <a:avLst/>
          </a:prstGeom>
          <a:solidFill>
            <a:srgbClr val="ccf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24080" y="2895480"/>
            <a:ext cx="990720" cy="2514600"/>
          </a:xfrm>
          <a:prstGeom prst="rect">
            <a:avLst/>
          </a:prstGeom>
          <a:solidFill>
            <a:srgbClr val="ccf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981080" y="2666880"/>
            <a:ext cx="4419720" cy="609840"/>
          </a:xfrm>
          <a:custGeom>
            <a:avLst/>
            <a:gdLst/>
            <a:ahLst/>
            <a:rect l="l" t="t" r="r" b="b"/>
            <a:pathLst>
              <a:path w="2784" h="384">
                <a:moveTo>
                  <a:pt x="0" y="384"/>
                </a:moveTo>
                <a:lnTo>
                  <a:pt x="240" y="384"/>
                </a:lnTo>
                <a:lnTo>
                  <a:pt x="240" y="0"/>
                </a:lnTo>
                <a:lnTo>
                  <a:pt x="2784" y="0"/>
                </a:lnTo>
                <a:lnTo>
                  <a:pt x="2784" y="240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981080" y="3505320"/>
            <a:ext cx="4419720" cy="2209680"/>
          </a:xfrm>
          <a:custGeom>
            <a:avLst/>
            <a:gdLst/>
            <a:ahLst/>
            <a:rect l="l" t="t" r="r" b="b"/>
            <a:pathLst>
              <a:path w="2784" h="1344">
                <a:moveTo>
                  <a:pt x="0" y="0"/>
                </a:moveTo>
                <a:lnTo>
                  <a:pt x="240" y="0"/>
                </a:lnTo>
                <a:lnTo>
                  <a:pt x="240" y="1344"/>
                </a:lnTo>
                <a:lnTo>
                  <a:pt x="2784" y="1344"/>
                </a:lnTo>
                <a:lnTo>
                  <a:pt x="2784" y="1056"/>
                </a:ln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876920" y="26668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33920" y="26668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9880" y="5334120"/>
            <a:ext cx="0" cy="3808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876920" y="5334120"/>
            <a:ext cx="0" cy="3808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082560" y="3124080"/>
            <a:ext cx="36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710960" y="3124080"/>
            <a:ext cx="36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15320" y="3124080"/>
            <a:ext cx="36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676520" y="4191120"/>
            <a:ext cx="4572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133720" y="2819520"/>
            <a:ext cx="3962160" cy="1600200"/>
          </a:xfrm>
          <a:custGeom>
            <a:avLst/>
            <a:gdLst/>
            <a:ahLst/>
            <a:rect l="l" t="t" r="r" b="b"/>
            <a:pathLst>
              <a:path w="2496" h="1008">
                <a:moveTo>
                  <a:pt x="0" y="1008"/>
                </a:moveTo>
                <a:lnTo>
                  <a:pt x="240" y="1008"/>
                </a:lnTo>
                <a:lnTo>
                  <a:pt x="240" y="0"/>
                </a:lnTo>
                <a:lnTo>
                  <a:pt x="2496" y="0"/>
                </a:lnTo>
                <a:lnTo>
                  <a:pt x="2496" y="144"/>
                </a:lnTo>
              </a:path>
            </a:pathLst>
          </a:custGeom>
          <a:noFill/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648320" y="2819520"/>
            <a:ext cx="0" cy="228600"/>
          </a:xfrm>
          <a:prstGeom prst="line">
            <a:avLst/>
          </a:prstGeom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352680" y="2819520"/>
            <a:ext cx="0" cy="228600"/>
          </a:xfrm>
          <a:prstGeom prst="line">
            <a:avLst/>
          </a:prstGeom>
          <a:ln w="57240">
            <a:solidFill>
              <a:srgbClr val="00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133720" y="4876920"/>
            <a:ext cx="3886200" cy="685800"/>
          </a:xfrm>
          <a:custGeom>
            <a:avLst/>
            <a:gdLst/>
            <a:ahLst/>
            <a:rect l="l" t="t" r="r" b="b"/>
            <a:pathLst>
              <a:path w="2448" h="432">
                <a:moveTo>
                  <a:pt x="0" y="0"/>
                </a:moveTo>
                <a:lnTo>
                  <a:pt x="240" y="0"/>
                </a:lnTo>
                <a:lnTo>
                  <a:pt x="240" y="432"/>
                </a:lnTo>
                <a:lnTo>
                  <a:pt x="2448" y="432"/>
                </a:lnTo>
                <a:lnTo>
                  <a:pt x="2448" y="240"/>
                </a:ln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648320" y="5257800"/>
            <a:ext cx="0" cy="3049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429000" y="5257800"/>
            <a:ext cx="0" cy="3049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775640" y="1910160"/>
            <a:ext cx="54612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直流线也会产生射频辐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外拖电缆的共模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>
            <a:off x="914400" y="2514600"/>
            <a:ext cx="1600200" cy="12952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rot="5400000">
            <a:off x="1409040" y="2628720"/>
            <a:ext cx="609840" cy="685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057400" y="2971800"/>
            <a:ext cx="4495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rot="5400000">
            <a:off x="6590520" y="2628720"/>
            <a:ext cx="609840" cy="685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676520" y="31240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71600" y="35053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324480" y="33526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752480" y="3124080"/>
            <a:ext cx="4724640" cy="381240"/>
          </a:xfrm>
          <a:custGeom>
            <a:avLst/>
            <a:gdLst/>
            <a:ahLst/>
            <a:rect l="l" t="t" r="r" b="b"/>
            <a:pathLst>
              <a:path w="3120" h="288">
                <a:moveTo>
                  <a:pt x="0" y="288"/>
                </a:moveTo>
                <a:lnTo>
                  <a:pt x="192" y="192"/>
                </a:lnTo>
                <a:lnTo>
                  <a:pt x="192" y="0"/>
                </a:lnTo>
                <a:lnTo>
                  <a:pt x="2928" y="0"/>
                </a:lnTo>
                <a:lnTo>
                  <a:pt x="3120" y="19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553080" y="320040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400800" y="3581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400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0880" y="4343400"/>
            <a:ext cx="815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3808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854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9903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2952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5998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19047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2096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25142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8191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1240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34286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37335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40384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43430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46479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9528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52574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55623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58672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1718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64767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67816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70862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739116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7696080" y="434340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8000640" y="434340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086600" y="33526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934320" y="38098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00400" y="2819520"/>
            <a:ext cx="1447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81280" y="327672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752480" y="35053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181480" y="3657600"/>
            <a:ext cx="1625760" cy="533520"/>
          </a:xfrm>
          <a:custGeom>
            <a:avLst/>
            <a:gdLst/>
            <a:ahLst/>
            <a:rect l="l" t="t" r="r" b="b"/>
            <a:pathLst>
              <a:path w="1024" h="688">
                <a:moveTo>
                  <a:pt x="1008" y="0"/>
                </a:moveTo>
                <a:cubicBezTo>
                  <a:pt x="1016" y="120"/>
                  <a:pt x="1024" y="240"/>
                  <a:pt x="1008" y="336"/>
                </a:cubicBezTo>
                <a:cubicBezTo>
                  <a:pt x="992" y="432"/>
                  <a:pt x="1000" y="520"/>
                  <a:pt x="912" y="576"/>
                </a:cubicBezTo>
                <a:cubicBezTo>
                  <a:pt x="824" y="632"/>
                  <a:pt x="632" y="656"/>
                  <a:pt x="480" y="672"/>
                </a:cubicBezTo>
                <a:cubicBezTo>
                  <a:pt x="328" y="688"/>
                  <a:pt x="164" y="680"/>
                  <a:pt x="0" y="67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200400" y="30481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019920" y="335268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800600" y="3809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72428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38880" y="38098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086600" y="4038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86600" y="41148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238880" y="41148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391520" y="39625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943600" y="2514600"/>
            <a:ext cx="1600200" cy="12952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553080" y="33526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647800" y="5014800"/>
            <a:ext cx="420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尽管共模成份的比例很小，但是由于辐射环路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仍然是主要的辐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无关”的电缆也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rcRect l="0" t="3838" r="0" b="0"/>
          <a:stretch/>
        </p:blipFill>
        <p:spPr>
          <a:xfrm>
            <a:off x="1600200" y="1905120"/>
            <a:ext cx="54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914400" y="4025880"/>
            <a:ext cx="3276720" cy="237492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4876920" y="4021200"/>
            <a:ext cx="3581280" cy="23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无关电缆辐射机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6" name=""/>
          <p:cNvSpPr/>
          <p:nvPr/>
        </p:nvSpPr>
        <p:spPr>
          <a:xfrm>
            <a:off x="1219320" y="2514600"/>
            <a:ext cx="2286000" cy="1447920"/>
          </a:xfrm>
          <a:custGeom>
            <a:avLst/>
            <a:gdLst/>
            <a:ahLst/>
            <a:rect l="l" t="t" r="r" b="b"/>
            <a:pathLst>
              <a:path w="1008" h="1104">
                <a:moveTo>
                  <a:pt x="1008" y="336"/>
                </a:moveTo>
                <a:lnTo>
                  <a:pt x="1008" y="0"/>
                </a:lnTo>
                <a:lnTo>
                  <a:pt x="0" y="0"/>
                </a:lnTo>
                <a:lnTo>
                  <a:pt x="0" y="1104"/>
                </a:lnTo>
                <a:lnTo>
                  <a:pt x="1008" y="1104"/>
                </a:lnTo>
                <a:lnTo>
                  <a:pt x="1008" y="67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600200" y="35053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438280" y="3200400"/>
            <a:ext cx="4038840" cy="304920"/>
          </a:xfrm>
          <a:custGeom>
            <a:avLst/>
            <a:gdLst/>
            <a:ahLst/>
            <a:rect l="l" t="t" r="r" b="b"/>
            <a:pathLst>
              <a:path w="2544" h="336">
                <a:moveTo>
                  <a:pt x="0" y="336"/>
                </a:moveTo>
                <a:lnTo>
                  <a:pt x="48" y="0"/>
                </a:lnTo>
                <a:lnTo>
                  <a:pt x="2544" y="0"/>
                </a:lnTo>
                <a:lnTo>
                  <a:pt x="2544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943600" y="2514600"/>
            <a:ext cx="1295280" cy="129528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240"/>
                </a:moveTo>
                <a:lnTo>
                  <a:pt x="0" y="0"/>
                </a:lnTo>
                <a:lnTo>
                  <a:pt x="816" y="0"/>
                </a:lnTo>
                <a:lnTo>
                  <a:pt x="816" y="960"/>
                </a:lnTo>
                <a:lnTo>
                  <a:pt x="0" y="960"/>
                </a:lnTo>
                <a:lnTo>
                  <a:pt x="0" y="62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48520" y="3505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2819520"/>
            <a:ext cx="533160" cy="304560"/>
          </a:xfrm>
          <a:prstGeom prst="lightningBolt">
            <a:avLst/>
          </a:prstGeom>
          <a:solidFill>
            <a:srgbClr val="cc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819520" y="32767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819520" y="35053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9880" y="3314880"/>
            <a:ext cx="2374920" cy="1104840"/>
          </a:xfrm>
          <a:custGeom>
            <a:avLst/>
            <a:gdLst/>
            <a:ahLst/>
            <a:rect l="l" t="t" r="r" b="b"/>
            <a:pathLst>
              <a:path w="1496" h="696">
                <a:moveTo>
                  <a:pt x="0" y="24"/>
                </a:moveTo>
                <a:cubicBezTo>
                  <a:pt x="216" y="12"/>
                  <a:pt x="432" y="0"/>
                  <a:pt x="624" y="24"/>
                </a:cubicBezTo>
                <a:cubicBezTo>
                  <a:pt x="816" y="48"/>
                  <a:pt x="1016" y="96"/>
                  <a:pt x="1152" y="168"/>
                </a:cubicBezTo>
                <a:cubicBezTo>
                  <a:pt x="1288" y="240"/>
                  <a:pt x="1384" y="368"/>
                  <a:pt x="1440" y="456"/>
                </a:cubicBezTo>
                <a:cubicBezTo>
                  <a:pt x="1496" y="544"/>
                  <a:pt x="1492" y="620"/>
                  <a:pt x="1488" y="69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876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机箱内的所有信号都会通过电缆辐射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也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1"/>
          <a:stretch/>
        </p:blipFill>
        <p:spPr>
          <a:xfrm>
            <a:off x="914400" y="2035080"/>
            <a:ext cx="5486400" cy="207972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4648320" y="4079880"/>
            <a:ext cx="3733560" cy="2397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368280" y="416268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不接地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385120" y="42595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接上地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" descr=""/>
          <p:cNvPicPr/>
          <p:nvPr/>
        </p:nvPicPr>
        <p:blipFill>
          <a:blip r:embed="rId3"/>
          <a:stretch/>
        </p:blipFill>
        <p:spPr>
          <a:xfrm>
            <a:off x="990720" y="4135320"/>
            <a:ext cx="3352680" cy="2265480"/>
          </a:xfrm>
          <a:prstGeom prst="rect">
            <a:avLst/>
          </a:prstGeom>
          <a:ln w="0">
            <a:noFill/>
          </a:ln>
        </p:spPr>
      </p:pic>
      <p:sp>
        <p:nvSpPr>
          <p:cNvPr id="1552" name=""/>
          <p:cNvSpPr/>
          <p:nvPr/>
        </p:nvSpPr>
        <p:spPr>
          <a:xfrm>
            <a:off x="6933600" y="2209680"/>
            <a:ext cx="1648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你喜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电缆屏蔽层接地吗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620120" y="240516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辐射产生的原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1"/>
          <a:srcRect l="0" t="2223" r="0" b="0"/>
          <a:stretch/>
        </p:blipFill>
        <p:spPr>
          <a:xfrm>
            <a:off x="914400" y="2438280"/>
            <a:ext cx="6543720" cy="333864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>
            <a:off x="184572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地线噪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4512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电源线电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93812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信号回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36636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电源回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共模电流估算（两端设备都接地的情况）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1" name=""/>
          <p:cNvSpPr/>
          <p:nvPr/>
        </p:nvSpPr>
        <p:spPr>
          <a:xfrm>
            <a:off x="40384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048120" y="1905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09480" y="579132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路板不接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= R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+ j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+ R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 1/ j</a:t>
            </a: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853920" y="2347920"/>
            <a:ext cx="1557360" cy="168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319720" y="2286000"/>
            <a:ext cx="1555920" cy="199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523880" y="3429000"/>
            <a:ext cx="6480" cy="35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260360" y="3782880"/>
            <a:ext cx="54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130800" y="3220920"/>
            <a:ext cx="0" cy="37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657760" y="3595680"/>
            <a:ext cx="87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861160" y="3657600"/>
            <a:ext cx="0" cy="12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726160" y="3782880"/>
            <a:ext cx="27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726160" y="3844800"/>
            <a:ext cx="27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861160" y="3844800"/>
            <a:ext cx="0" cy="436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80880" y="4842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38052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5052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92196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119196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146340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1733400" y="4842000"/>
            <a:ext cx="1368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200448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227448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254592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281592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308736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3357720" y="4842000"/>
            <a:ext cx="1346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3629160" y="4842000"/>
            <a:ext cx="1346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389844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416988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443988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470988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98132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5251320" y="4842000"/>
            <a:ext cx="1368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552240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579240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606384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333840" y="4842000"/>
            <a:ext cx="1364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605280" y="4842000"/>
            <a:ext cx="13500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875640" y="4842000"/>
            <a:ext cx="1346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7147080" y="4842000"/>
            <a:ext cx="13464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598760" y="3782880"/>
            <a:ext cx="0" cy="1059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388120" y="365760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411280" y="415620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328760" y="3054240"/>
            <a:ext cx="404640" cy="374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523880" y="2666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530360" y="2535120"/>
            <a:ext cx="1557360" cy="187560"/>
          </a:xfrm>
          <a:custGeom>
            <a:avLst/>
            <a:gdLst/>
            <a:ahLst/>
            <a:rect l="l" t="t" r="r" b="b"/>
            <a:pathLst>
              <a:path w="1104" h="144">
                <a:moveTo>
                  <a:pt x="0" y="144"/>
                </a:moveTo>
                <a:lnTo>
                  <a:pt x="0" y="0"/>
                </a:lnTo>
                <a:lnTo>
                  <a:pt x="11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087720" y="2473200"/>
            <a:ext cx="541440" cy="123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98800" y="2411280"/>
            <a:ext cx="13500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33800" y="2411280"/>
            <a:ext cx="13644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70240" y="2411280"/>
            <a:ext cx="13500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629160" y="2535120"/>
            <a:ext cx="26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63800" y="2597040"/>
            <a:ext cx="7448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05240" y="2535120"/>
            <a:ext cx="1825560" cy="24948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064200" y="2784600"/>
            <a:ext cx="135000" cy="43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87720" y="3346560"/>
            <a:ext cx="541440" cy="123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033800" y="3220920"/>
            <a:ext cx="13644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70240" y="3220920"/>
            <a:ext cx="13500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98800" y="3220920"/>
            <a:ext cx="135000" cy="311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530360" y="3408480"/>
            <a:ext cx="1557360" cy="374400"/>
          </a:xfrm>
          <a:custGeom>
            <a:avLst/>
            <a:gdLst/>
            <a:ahLst/>
            <a:rect l="l" t="t" r="r" b="b"/>
            <a:pathLst>
              <a:path w="1104" h="288">
                <a:moveTo>
                  <a:pt x="0" y="288"/>
                </a:moveTo>
                <a:lnTo>
                  <a:pt x="432" y="0"/>
                </a:lnTo>
                <a:lnTo>
                  <a:pt x="11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305240" y="3408480"/>
            <a:ext cx="1758960" cy="187200"/>
          </a:xfrm>
          <a:custGeom>
            <a:avLst/>
            <a:gdLst/>
            <a:ahLst/>
            <a:rect l="l" t="t" r="r" b="b"/>
            <a:pathLst>
              <a:path w="1728" h="144">
                <a:moveTo>
                  <a:pt x="0" y="0"/>
                </a:moveTo>
                <a:lnTo>
                  <a:pt x="1392" y="0"/>
                </a:lnTo>
                <a:lnTo>
                  <a:pt x="1728" y="14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763800" y="3159000"/>
            <a:ext cx="7448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629160" y="3408480"/>
            <a:ext cx="26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87720" y="353232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98800" y="35323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334200" y="3595680"/>
            <a:ext cx="0" cy="18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334200" y="3782880"/>
            <a:ext cx="136440" cy="1059120"/>
          </a:xfrm>
          <a:custGeom>
            <a:avLst/>
            <a:gdLst/>
            <a:ahLst/>
            <a:rect l="l" t="t" r="r" b="b"/>
            <a:pathLst>
              <a:path w="96" h="384">
                <a:moveTo>
                  <a:pt x="96" y="0"/>
                </a:moveTo>
                <a:lnTo>
                  <a:pt x="0" y="144"/>
                </a:lnTo>
                <a:lnTo>
                  <a:pt x="0" y="38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790640" y="2327400"/>
            <a:ext cx="4927680" cy="2347920"/>
          </a:xfrm>
          <a:custGeom>
            <a:avLst/>
            <a:gdLst/>
            <a:ahLst/>
            <a:rect l="l" t="t" r="r" b="b"/>
            <a:pathLst>
              <a:path w="3496" h="1808">
                <a:moveTo>
                  <a:pt x="2120" y="16"/>
                </a:moveTo>
                <a:cubicBezTo>
                  <a:pt x="2408" y="8"/>
                  <a:pt x="2696" y="0"/>
                  <a:pt x="2888" y="16"/>
                </a:cubicBezTo>
                <a:cubicBezTo>
                  <a:pt x="3080" y="32"/>
                  <a:pt x="3176" y="32"/>
                  <a:pt x="3272" y="112"/>
                </a:cubicBezTo>
                <a:cubicBezTo>
                  <a:pt x="3368" y="192"/>
                  <a:pt x="3432" y="288"/>
                  <a:pt x="3464" y="496"/>
                </a:cubicBezTo>
                <a:cubicBezTo>
                  <a:pt x="3496" y="704"/>
                  <a:pt x="3480" y="1160"/>
                  <a:pt x="3464" y="1360"/>
                </a:cubicBezTo>
                <a:cubicBezTo>
                  <a:pt x="3448" y="1560"/>
                  <a:pt x="3432" y="1624"/>
                  <a:pt x="3368" y="1696"/>
                </a:cubicBezTo>
                <a:cubicBezTo>
                  <a:pt x="3304" y="1768"/>
                  <a:pt x="3440" y="1776"/>
                  <a:pt x="3080" y="1792"/>
                </a:cubicBezTo>
                <a:cubicBezTo>
                  <a:pt x="2720" y="1808"/>
                  <a:pt x="1688" y="1808"/>
                  <a:pt x="1208" y="1792"/>
                </a:cubicBezTo>
                <a:cubicBezTo>
                  <a:pt x="728" y="1776"/>
                  <a:pt x="400" y="1760"/>
                  <a:pt x="200" y="1696"/>
                </a:cubicBezTo>
                <a:cubicBezTo>
                  <a:pt x="0" y="1632"/>
                  <a:pt x="4" y="1520"/>
                  <a:pt x="8" y="140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60360" y="2925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99200" y="2784600"/>
            <a:ext cx="67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85800" y="51958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线路板接地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= R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+ j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+ R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86200" y="1828800"/>
            <a:ext cx="685800" cy="533520"/>
          </a:xfrm>
          <a:prstGeom prst="ellipse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495680" y="1803240"/>
            <a:ext cx="3353040" cy="1092240"/>
          </a:xfrm>
          <a:custGeom>
            <a:avLst/>
            <a:gdLst/>
            <a:ahLst/>
            <a:rect l="l" t="t" r="r" b="b"/>
            <a:pathLst>
              <a:path w="2112" h="688">
                <a:moveTo>
                  <a:pt x="0" y="112"/>
                </a:moveTo>
                <a:cubicBezTo>
                  <a:pt x="180" y="56"/>
                  <a:pt x="360" y="0"/>
                  <a:pt x="624" y="16"/>
                </a:cubicBezTo>
                <a:cubicBezTo>
                  <a:pt x="888" y="32"/>
                  <a:pt x="1376" y="120"/>
                  <a:pt x="1584" y="208"/>
                </a:cubicBezTo>
                <a:cubicBezTo>
                  <a:pt x="1792" y="296"/>
                  <a:pt x="1784" y="464"/>
                  <a:pt x="1872" y="544"/>
                </a:cubicBezTo>
                <a:cubicBezTo>
                  <a:pt x="1960" y="624"/>
                  <a:pt x="2036" y="656"/>
                  <a:pt x="2112" y="688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846560" y="26668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7524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和电源线上的噪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428840" y="20574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2367000"/>
            <a:ext cx="1522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062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976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57240" y="32050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58632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281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95480" y="3504960"/>
            <a:ext cx="76212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733920" y="4653000"/>
            <a:ext cx="3045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503388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6530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79800">
            <a:off x="3885840" y="404316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3814920"/>
            <a:ext cx="0" cy="22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2721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42721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262480"/>
            <a:ext cx="0" cy="121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66294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670572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6548400"/>
            <a:ext cx="45720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9528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90920" y="3738600"/>
            <a:ext cx="3045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2443320"/>
            <a:ext cx="1522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0528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11948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3738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348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033880"/>
            <a:ext cx="15264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2000" y="4038480"/>
            <a:ext cx="62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057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52520" y="2438280"/>
            <a:ext cx="15228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28840" y="2057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884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1120" y="3581280"/>
            <a:ext cx="3808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9000" y="3581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66720" y="35812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4440" y="35812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8640" y="3581280"/>
            <a:ext cx="38124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7600" y="4038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733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2819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105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495680"/>
            <a:ext cx="403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3120" y="4495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53120" y="5257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00840" y="5029200"/>
            <a:ext cx="399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8672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56386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438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5105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514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2600" y="20574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1880" y="2171880"/>
            <a:ext cx="1701720" cy="1714320"/>
          </a:xfrm>
          <a:custGeom>
            <a:avLst/>
            <a:gdLst/>
            <a:ahLst/>
            <a:rect l="l" t="t" r="r" b="b"/>
            <a:pathLst>
              <a:path w="1072" h="1080">
                <a:moveTo>
                  <a:pt x="1072" y="24"/>
                </a:moveTo>
                <a:cubicBezTo>
                  <a:pt x="840" y="12"/>
                  <a:pt x="608" y="0"/>
                  <a:pt x="448" y="24"/>
                </a:cubicBezTo>
                <a:cubicBezTo>
                  <a:pt x="288" y="48"/>
                  <a:pt x="184" y="72"/>
                  <a:pt x="112" y="168"/>
                </a:cubicBezTo>
                <a:cubicBezTo>
                  <a:pt x="40" y="264"/>
                  <a:pt x="32" y="448"/>
                  <a:pt x="16" y="600"/>
                </a:cubicBezTo>
                <a:cubicBezTo>
                  <a:pt x="0" y="752"/>
                  <a:pt x="8" y="916"/>
                  <a:pt x="16" y="108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4876920"/>
            <a:ext cx="1522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44956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51240" y="4419720"/>
            <a:ext cx="91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驱动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57880" y="3276720"/>
            <a:ext cx="3390840" cy="2057400"/>
          </a:xfrm>
          <a:custGeom>
            <a:avLst/>
            <a:gdLst/>
            <a:ahLst/>
            <a:rect l="l" t="t" r="r" b="b"/>
            <a:pathLst>
              <a:path w="2136" h="1296">
                <a:moveTo>
                  <a:pt x="24" y="0"/>
                </a:moveTo>
                <a:cubicBezTo>
                  <a:pt x="12" y="148"/>
                  <a:pt x="0" y="296"/>
                  <a:pt x="24" y="384"/>
                </a:cubicBezTo>
                <a:cubicBezTo>
                  <a:pt x="48" y="472"/>
                  <a:pt x="120" y="496"/>
                  <a:pt x="168" y="528"/>
                </a:cubicBezTo>
                <a:cubicBezTo>
                  <a:pt x="216" y="560"/>
                  <a:pt x="96" y="568"/>
                  <a:pt x="312" y="576"/>
                </a:cubicBezTo>
                <a:cubicBezTo>
                  <a:pt x="528" y="584"/>
                  <a:pt x="1192" y="536"/>
                  <a:pt x="1464" y="576"/>
                </a:cubicBezTo>
                <a:cubicBezTo>
                  <a:pt x="1736" y="616"/>
                  <a:pt x="1832" y="696"/>
                  <a:pt x="1944" y="816"/>
                </a:cubicBezTo>
                <a:cubicBezTo>
                  <a:pt x="2056" y="936"/>
                  <a:pt x="2096" y="1116"/>
                  <a:pt x="2136" y="1296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4140360"/>
            <a:ext cx="800280" cy="1422360"/>
          </a:xfrm>
          <a:custGeom>
            <a:avLst/>
            <a:gdLst/>
            <a:ahLst/>
            <a:rect l="l" t="t" r="r" b="b"/>
            <a:pathLst>
              <a:path w="504" h="896">
                <a:moveTo>
                  <a:pt x="0" y="32"/>
                </a:moveTo>
                <a:cubicBezTo>
                  <a:pt x="128" y="16"/>
                  <a:pt x="256" y="0"/>
                  <a:pt x="336" y="80"/>
                </a:cubicBezTo>
                <a:cubicBezTo>
                  <a:pt x="416" y="160"/>
                  <a:pt x="456" y="376"/>
                  <a:pt x="480" y="512"/>
                </a:cubicBezTo>
                <a:cubicBezTo>
                  <a:pt x="504" y="648"/>
                  <a:pt x="492" y="772"/>
                  <a:pt x="480" y="896"/>
                </a:cubicBezTo>
              </a:path>
            </a:pathLst>
          </a:custGeom>
          <a:noFill/>
          <a:ln w="57240">
            <a:solidFill>
              <a:srgbClr val="cc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1240" y="4635360"/>
            <a:ext cx="1422360" cy="1536840"/>
          </a:xfrm>
          <a:custGeom>
            <a:avLst/>
            <a:gdLst/>
            <a:ahLst/>
            <a:rect l="l" t="t" r="r" b="b"/>
            <a:pathLst>
              <a:path w="896" h="968">
                <a:moveTo>
                  <a:pt x="896" y="392"/>
                </a:moveTo>
                <a:cubicBezTo>
                  <a:pt x="884" y="276"/>
                  <a:pt x="872" y="160"/>
                  <a:pt x="848" y="104"/>
                </a:cubicBezTo>
                <a:cubicBezTo>
                  <a:pt x="824" y="48"/>
                  <a:pt x="856" y="64"/>
                  <a:pt x="752" y="56"/>
                </a:cubicBezTo>
                <a:cubicBezTo>
                  <a:pt x="648" y="48"/>
                  <a:pt x="344" y="0"/>
                  <a:pt x="224" y="56"/>
                </a:cubicBezTo>
                <a:cubicBezTo>
                  <a:pt x="104" y="112"/>
                  <a:pt x="64" y="240"/>
                  <a:pt x="32" y="392"/>
                </a:cubicBezTo>
                <a:cubicBezTo>
                  <a:pt x="0" y="544"/>
                  <a:pt x="16" y="756"/>
                  <a:pt x="32" y="968"/>
                </a:cubicBezTo>
              </a:path>
            </a:pathLst>
          </a:custGeom>
          <a:noFill/>
          <a:ln w="57240">
            <a:solidFill>
              <a:srgbClr val="0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2096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886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</a:rPr>
              <a:t>驱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51814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cc3399"/>
                </a:solidFill>
                <a:latin typeface="Times New Roman"/>
              </a:rPr>
              <a:t>充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6019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8080"/>
                </a:solidFill>
                <a:latin typeface="Times New Roman"/>
              </a:rPr>
              <a:t>放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5867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5791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00840" y="5181480"/>
            <a:ext cx="399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共模电流主要由寄生电容产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1523880" y="23623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523880" y="54864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23880" y="2895480"/>
            <a:ext cx="52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57800" y="25909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248520" y="25909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23880" y="3048120"/>
            <a:ext cx="5867640" cy="1447560"/>
          </a:xfrm>
          <a:custGeom>
            <a:avLst/>
            <a:gdLst/>
            <a:ahLst/>
            <a:rect l="l" t="t" r="r" b="b"/>
            <a:pathLst>
              <a:path w="3696" h="912">
                <a:moveTo>
                  <a:pt x="0" y="0"/>
                </a:moveTo>
                <a:cubicBezTo>
                  <a:pt x="260" y="4"/>
                  <a:pt x="520" y="8"/>
                  <a:pt x="768" y="48"/>
                </a:cubicBezTo>
                <a:cubicBezTo>
                  <a:pt x="1016" y="88"/>
                  <a:pt x="1192" y="200"/>
                  <a:pt x="1488" y="240"/>
                </a:cubicBezTo>
                <a:cubicBezTo>
                  <a:pt x="1784" y="280"/>
                  <a:pt x="2312" y="296"/>
                  <a:pt x="2544" y="288"/>
                </a:cubicBezTo>
                <a:cubicBezTo>
                  <a:pt x="2776" y="280"/>
                  <a:pt x="2808" y="232"/>
                  <a:pt x="2880" y="192"/>
                </a:cubicBezTo>
                <a:cubicBezTo>
                  <a:pt x="2952" y="152"/>
                  <a:pt x="2952" y="56"/>
                  <a:pt x="2976" y="48"/>
                </a:cubicBezTo>
                <a:cubicBezTo>
                  <a:pt x="3000" y="40"/>
                  <a:pt x="2984" y="88"/>
                  <a:pt x="3024" y="144"/>
                </a:cubicBezTo>
                <a:cubicBezTo>
                  <a:pt x="3064" y="200"/>
                  <a:pt x="3104" y="256"/>
                  <a:pt x="3216" y="384"/>
                </a:cubicBezTo>
                <a:cubicBezTo>
                  <a:pt x="3328" y="512"/>
                  <a:pt x="3512" y="712"/>
                  <a:pt x="3696" y="912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600200" y="2908440"/>
            <a:ext cx="4648320" cy="2349360"/>
          </a:xfrm>
          <a:custGeom>
            <a:avLst/>
            <a:gdLst/>
            <a:ahLst/>
            <a:rect l="l" t="t" r="r" b="b"/>
            <a:pathLst>
              <a:path w="2928" h="1480">
                <a:moveTo>
                  <a:pt x="0" y="1480"/>
                </a:moveTo>
                <a:cubicBezTo>
                  <a:pt x="276" y="1344"/>
                  <a:pt x="552" y="1208"/>
                  <a:pt x="816" y="1048"/>
                </a:cubicBezTo>
                <a:cubicBezTo>
                  <a:pt x="1080" y="888"/>
                  <a:pt x="1392" y="680"/>
                  <a:pt x="1584" y="520"/>
                </a:cubicBezTo>
                <a:cubicBezTo>
                  <a:pt x="1776" y="360"/>
                  <a:pt x="1872" y="168"/>
                  <a:pt x="1968" y="88"/>
                </a:cubicBezTo>
                <a:cubicBezTo>
                  <a:pt x="2064" y="8"/>
                  <a:pt x="2096" y="0"/>
                  <a:pt x="2160" y="40"/>
                </a:cubicBezTo>
                <a:cubicBezTo>
                  <a:pt x="2224" y="80"/>
                  <a:pt x="2256" y="240"/>
                  <a:pt x="2352" y="328"/>
                </a:cubicBezTo>
                <a:cubicBezTo>
                  <a:pt x="2448" y="416"/>
                  <a:pt x="2640" y="520"/>
                  <a:pt x="2736" y="568"/>
                </a:cubicBezTo>
                <a:cubicBezTo>
                  <a:pt x="2832" y="616"/>
                  <a:pt x="2880" y="616"/>
                  <a:pt x="2928" y="61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86000" y="2921040"/>
            <a:ext cx="5105520" cy="2413080"/>
          </a:xfrm>
          <a:custGeom>
            <a:avLst/>
            <a:gdLst/>
            <a:ahLst/>
            <a:rect l="l" t="t" r="r" b="b"/>
            <a:pathLst>
              <a:path w="3216" h="1520">
                <a:moveTo>
                  <a:pt x="0" y="1520"/>
                </a:moveTo>
                <a:cubicBezTo>
                  <a:pt x="292" y="1416"/>
                  <a:pt x="584" y="1312"/>
                  <a:pt x="864" y="1088"/>
                </a:cubicBezTo>
                <a:cubicBezTo>
                  <a:pt x="1144" y="864"/>
                  <a:pt x="1512" y="352"/>
                  <a:pt x="1680" y="176"/>
                </a:cubicBezTo>
                <a:cubicBezTo>
                  <a:pt x="1848" y="0"/>
                  <a:pt x="1816" y="40"/>
                  <a:pt x="1872" y="32"/>
                </a:cubicBezTo>
                <a:cubicBezTo>
                  <a:pt x="1928" y="24"/>
                  <a:pt x="1936" y="64"/>
                  <a:pt x="2016" y="128"/>
                </a:cubicBezTo>
                <a:cubicBezTo>
                  <a:pt x="2096" y="192"/>
                  <a:pt x="2240" y="344"/>
                  <a:pt x="2352" y="416"/>
                </a:cubicBezTo>
                <a:cubicBezTo>
                  <a:pt x="2464" y="488"/>
                  <a:pt x="2592" y="552"/>
                  <a:pt x="2688" y="560"/>
                </a:cubicBezTo>
                <a:cubicBezTo>
                  <a:pt x="2784" y="568"/>
                  <a:pt x="2864" y="472"/>
                  <a:pt x="2928" y="464"/>
                </a:cubicBezTo>
                <a:cubicBezTo>
                  <a:pt x="2992" y="456"/>
                  <a:pt x="3040" y="464"/>
                  <a:pt x="3072" y="512"/>
                </a:cubicBezTo>
                <a:cubicBezTo>
                  <a:pt x="3104" y="560"/>
                  <a:pt x="3096" y="688"/>
                  <a:pt x="3120" y="752"/>
                </a:cubicBezTo>
                <a:cubicBezTo>
                  <a:pt x="3144" y="816"/>
                  <a:pt x="3180" y="856"/>
                  <a:pt x="3216" y="896"/>
                </a:cubicBezTo>
              </a:path>
            </a:pathLst>
          </a:cu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351960" y="2209680"/>
            <a:ext cx="10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915560" y="3276720"/>
            <a:ext cx="8665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线路板接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037960" y="3900600"/>
            <a:ext cx="1003680" cy="368280"/>
          </a:xfrm>
          <a:prstGeom prst="rect">
            <a:avLst/>
          </a:prstGeom>
          <a:noFill/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ahoma"/>
              </a:rPr>
              <a:t>线路板不接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429440" y="4343400"/>
            <a:ext cx="8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较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362760" y="4800600"/>
            <a:ext cx="8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C</a:t>
            </a:r>
            <a:r>
              <a:rPr b="1" lang="zh-CN" sz="2000" spc="-1" strike="noStrike" baseline="-25000">
                <a:solidFill>
                  <a:srgbClr val="cc3300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较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 flipV="1">
            <a:off x="3962520" y="3962160"/>
            <a:ext cx="38088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326360" y="5562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频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98400" y="2438280"/>
            <a:ext cx="54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共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电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悬浮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3" name=""/>
          <p:cNvSpPr/>
          <p:nvPr/>
        </p:nvSpPr>
        <p:spPr>
          <a:xfrm>
            <a:off x="1371600" y="2057400"/>
            <a:ext cx="1523880" cy="106668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743200" y="2463840"/>
            <a:ext cx="4038480" cy="965160"/>
          </a:xfrm>
          <a:custGeom>
            <a:avLst/>
            <a:gdLst/>
            <a:ahLst/>
            <a:rect l="l" t="t" r="r" b="b"/>
            <a:pathLst>
              <a:path w="2544" h="608">
                <a:moveTo>
                  <a:pt x="0" y="72"/>
                </a:moveTo>
                <a:cubicBezTo>
                  <a:pt x="16" y="36"/>
                  <a:pt x="32" y="0"/>
                  <a:pt x="192" y="24"/>
                </a:cubicBezTo>
                <a:cubicBezTo>
                  <a:pt x="352" y="48"/>
                  <a:pt x="760" y="120"/>
                  <a:pt x="960" y="216"/>
                </a:cubicBezTo>
                <a:cubicBezTo>
                  <a:pt x="1160" y="312"/>
                  <a:pt x="1128" y="608"/>
                  <a:pt x="1392" y="600"/>
                </a:cubicBezTo>
                <a:cubicBezTo>
                  <a:pt x="1656" y="592"/>
                  <a:pt x="2100" y="380"/>
                  <a:pt x="2544" y="168"/>
                </a:cubicBezTo>
              </a:path>
            </a:pathLst>
          </a:custGeom>
          <a:noFill/>
          <a:ln w="7632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276720" y="2311560"/>
            <a:ext cx="2819160" cy="965160"/>
          </a:xfrm>
          <a:custGeom>
            <a:avLst/>
            <a:gdLst/>
            <a:ahLst/>
            <a:rect l="l" t="t" r="r" b="b"/>
            <a:pathLst>
              <a:path w="1776" h="608">
                <a:moveTo>
                  <a:pt x="0" y="0"/>
                </a:moveTo>
                <a:cubicBezTo>
                  <a:pt x="216" y="24"/>
                  <a:pt x="432" y="48"/>
                  <a:pt x="624" y="144"/>
                </a:cubicBezTo>
                <a:cubicBezTo>
                  <a:pt x="816" y="240"/>
                  <a:pt x="960" y="544"/>
                  <a:pt x="1152" y="576"/>
                </a:cubicBezTo>
                <a:cubicBezTo>
                  <a:pt x="1344" y="608"/>
                  <a:pt x="1560" y="472"/>
                  <a:pt x="1776" y="33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029200" y="21337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7200" y="3733920"/>
            <a:ext cx="838188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近场区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E = 1430I L  / (f D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             </a:t>
            </a:r>
            <a:r>
              <a:rPr b="0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V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远场区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E = 0.63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I L f  / D                 </a:t>
            </a:r>
            <a:r>
              <a:rPr b="0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V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考虑地面反射：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E = 1.26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I L f  / D                 </a:t>
            </a:r>
            <a:r>
              <a:rPr b="0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V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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：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E = 120I  / D  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V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4008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缆长度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共模电流的测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"/>
          <p:cNvSpPr/>
          <p:nvPr/>
        </p:nvSpPr>
        <p:spPr>
          <a:xfrm>
            <a:off x="1617840" y="3429000"/>
            <a:ext cx="21808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079880" y="3276720"/>
            <a:ext cx="21096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290840" y="3429000"/>
            <a:ext cx="2391120" cy="609480"/>
          </a:xfrm>
          <a:custGeom>
            <a:avLst/>
            <a:gdLst/>
            <a:ahLst/>
            <a:rect l="l" t="t" r="r" b="b"/>
            <a:pathLst>
              <a:path w="1584" h="288">
                <a:moveTo>
                  <a:pt x="0" y="0"/>
                </a:moveTo>
                <a:cubicBezTo>
                  <a:pt x="100" y="84"/>
                  <a:pt x="200" y="168"/>
                  <a:pt x="336" y="192"/>
                </a:cubicBezTo>
                <a:cubicBezTo>
                  <a:pt x="472" y="216"/>
                  <a:pt x="656" y="160"/>
                  <a:pt x="816" y="144"/>
                </a:cubicBezTo>
                <a:cubicBezTo>
                  <a:pt x="976" y="128"/>
                  <a:pt x="1168" y="72"/>
                  <a:pt x="1296" y="96"/>
                </a:cubicBezTo>
                <a:cubicBezTo>
                  <a:pt x="1424" y="120"/>
                  <a:pt x="1504" y="204"/>
                  <a:pt x="1584" y="28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rot="429600">
            <a:off x="1969920" y="2057400"/>
            <a:ext cx="133524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0"/>
                </a:moveTo>
                <a:lnTo>
                  <a:pt x="192" y="0"/>
                </a:lnTo>
                <a:lnTo>
                  <a:pt x="432" y="192"/>
                </a:lnTo>
                <a:lnTo>
                  <a:pt x="912" y="336"/>
                </a:lnTo>
                <a:lnTo>
                  <a:pt x="912" y="768"/>
                </a:lnTo>
                <a:lnTo>
                  <a:pt x="480" y="768"/>
                </a:lnTo>
                <a:lnTo>
                  <a:pt x="432" y="816"/>
                </a:lnTo>
                <a:lnTo>
                  <a:pt x="0" y="816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039760" y="3276720"/>
            <a:ext cx="703440" cy="152280"/>
          </a:xfrm>
          <a:prstGeom prst="ellipse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305160" y="2971800"/>
            <a:ext cx="879480" cy="838080"/>
          </a:xfrm>
          <a:custGeom>
            <a:avLst/>
            <a:gdLst/>
            <a:ahLst/>
            <a:rect l="l" t="t" r="r" b="b"/>
            <a:pathLst>
              <a:path w="600" h="528">
                <a:moveTo>
                  <a:pt x="0" y="0"/>
                </a:moveTo>
                <a:cubicBezTo>
                  <a:pt x="12" y="16"/>
                  <a:pt x="24" y="32"/>
                  <a:pt x="96" y="48"/>
                </a:cubicBezTo>
                <a:cubicBezTo>
                  <a:pt x="168" y="64"/>
                  <a:pt x="352" y="80"/>
                  <a:pt x="432" y="96"/>
                </a:cubicBezTo>
                <a:cubicBezTo>
                  <a:pt x="512" y="112"/>
                  <a:pt x="552" y="96"/>
                  <a:pt x="576" y="144"/>
                </a:cubicBezTo>
                <a:cubicBezTo>
                  <a:pt x="600" y="192"/>
                  <a:pt x="592" y="336"/>
                  <a:pt x="576" y="384"/>
                </a:cubicBezTo>
                <a:cubicBezTo>
                  <a:pt x="560" y="432"/>
                  <a:pt x="520" y="408"/>
                  <a:pt x="480" y="432"/>
                </a:cubicBezTo>
                <a:cubicBezTo>
                  <a:pt x="440" y="456"/>
                  <a:pt x="388" y="492"/>
                  <a:pt x="336" y="52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2181240" y="2057400"/>
            <a:ext cx="1396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400800" y="3276720"/>
            <a:ext cx="1336680" cy="9144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962760" y="3429000"/>
            <a:ext cx="633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611760" y="3962520"/>
            <a:ext cx="141480" cy="152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34040" y="3568680"/>
            <a:ext cx="492120" cy="317520"/>
          </a:xfrm>
          <a:custGeom>
            <a:avLst/>
            <a:gdLst/>
            <a:ahLst/>
            <a:rect l="l" t="t" r="r" b="b"/>
            <a:pathLst>
              <a:path w="336" h="200">
                <a:moveTo>
                  <a:pt x="0" y="200"/>
                </a:moveTo>
                <a:cubicBezTo>
                  <a:pt x="12" y="192"/>
                  <a:pt x="24" y="184"/>
                  <a:pt x="48" y="152"/>
                </a:cubicBezTo>
                <a:cubicBezTo>
                  <a:pt x="72" y="120"/>
                  <a:pt x="112" y="16"/>
                  <a:pt x="144" y="8"/>
                </a:cubicBezTo>
                <a:cubicBezTo>
                  <a:pt x="176" y="0"/>
                  <a:pt x="208" y="72"/>
                  <a:pt x="240" y="104"/>
                </a:cubicBezTo>
                <a:cubicBezTo>
                  <a:pt x="272" y="136"/>
                  <a:pt x="304" y="168"/>
                  <a:pt x="336" y="20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707000" y="2057400"/>
            <a:ext cx="1617480" cy="533520"/>
          </a:xfrm>
          <a:prstGeom prst="wedgeRoundRectCallout">
            <a:avLst>
              <a:gd name="adj1" fmla="val -71393"/>
              <a:gd name="adj2" fmla="val 1949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电流卡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频谱分析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696080" y="46483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7619760" y="40381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581280" y="2819520"/>
            <a:ext cx="685800" cy="30456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cubicBezTo>
                  <a:pt x="108" y="8"/>
                  <a:pt x="216" y="16"/>
                  <a:pt x="288" y="48"/>
                </a:cubicBezTo>
                <a:cubicBezTo>
                  <a:pt x="360" y="80"/>
                  <a:pt x="396" y="136"/>
                  <a:pt x="432" y="192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81280" y="2133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581280" y="5029200"/>
            <a:ext cx="1219320" cy="1219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809880" y="5257800"/>
            <a:ext cx="762120" cy="762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362320" y="4915080"/>
            <a:ext cx="1562040" cy="647640"/>
          </a:xfrm>
          <a:custGeom>
            <a:avLst/>
            <a:gdLst/>
            <a:ahLst/>
            <a:rect l="l" t="t" r="r" b="b"/>
            <a:pathLst>
              <a:path w="984" h="408">
                <a:moveTo>
                  <a:pt x="0" y="24"/>
                </a:moveTo>
                <a:cubicBezTo>
                  <a:pt x="188" y="12"/>
                  <a:pt x="376" y="0"/>
                  <a:pt x="528" y="24"/>
                </a:cubicBezTo>
                <a:cubicBezTo>
                  <a:pt x="680" y="48"/>
                  <a:pt x="840" y="120"/>
                  <a:pt x="912" y="168"/>
                </a:cubicBezTo>
                <a:cubicBezTo>
                  <a:pt x="984" y="216"/>
                  <a:pt x="960" y="272"/>
                  <a:pt x="960" y="312"/>
                </a:cubicBezTo>
                <a:cubicBezTo>
                  <a:pt x="960" y="352"/>
                  <a:pt x="936" y="380"/>
                  <a:pt x="912" y="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133720" y="5791320"/>
            <a:ext cx="1523880" cy="152280"/>
          </a:xfrm>
          <a:custGeom>
            <a:avLst/>
            <a:gdLst/>
            <a:ahLst/>
            <a:rect l="l" t="t" r="r" b="b"/>
            <a:pathLst>
              <a:path w="960" h="96">
                <a:moveTo>
                  <a:pt x="960" y="0"/>
                </a:moveTo>
                <a:cubicBezTo>
                  <a:pt x="896" y="16"/>
                  <a:pt x="832" y="32"/>
                  <a:pt x="672" y="48"/>
                </a:cubicBezTo>
                <a:cubicBezTo>
                  <a:pt x="512" y="64"/>
                  <a:pt x="256" y="80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470480" y="5410080"/>
            <a:ext cx="406440" cy="533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0" y="0"/>
                </a:moveTo>
                <a:cubicBezTo>
                  <a:pt x="4" y="60"/>
                  <a:pt x="8" y="120"/>
                  <a:pt x="48" y="144"/>
                </a:cubicBezTo>
                <a:cubicBezTo>
                  <a:pt x="88" y="168"/>
                  <a:pt x="224" y="112"/>
                  <a:pt x="240" y="144"/>
                </a:cubicBezTo>
                <a:cubicBezTo>
                  <a:pt x="256" y="176"/>
                  <a:pt x="200" y="256"/>
                  <a:pt x="144" y="3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191120" y="5943600"/>
            <a:ext cx="1828800" cy="304920"/>
          </a:xfrm>
          <a:custGeom>
            <a:avLst/>
            <a:gdLst/>
            <a:ahLst/>
            <a:rect l="l" t="t" r="r" b="b"/>
            <a:pathLst>
              <a:path w="1208" h="576">
                <a:moveTo>
                  <a:pt x="152" y="0"/>
                </a:moveTo>
                <a:cubicBezTo>
                  <a:pt x="112" y="12"/>
                  <a:pt x="72" y="24"/>
                  <a:pt x="56" y="48"/>
                </a:cubicBezTo>
                <a:cubicBezTo>
                  <a:pt x="40" y="72"/>
                  <a:pt x="0" y="96"/>
                  <a:pt x="56" y="144"/>
                </a:cubicBezTo>
                <a:cubicBezTo>
                  <a:pt x="112" y="192"/>
                  <a:pt x="200" y="264"/>
                  <a:pt x="392" y="336"/>
                </a:cubicBezTo>
                <a:cubicBezTo>
                  <a:pt x="584" y="408"/>
                  <a:pt x="896" y="492"/>
                  <a:pt x="1208" y="57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648320" y="5104800"/>
            <a:ext cx="1676160" cy="15228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48"/>
                </a:moveTo>
                <a:cubicBezTo>
                  <a:pt x="40" y="24"/>
                  <a:pt x="80" y="0"/>
                  <a:pt x="240" y="48"/>
                </a:cubicBezTo>
                <a:cubicBezTo>
                  <a:pt x="400" y="96"/>
                  <a:pt x="680" y="216"/>
                  <a:pt x="960" y="3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5909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990720" y="5013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被测电流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91320" y="5257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rot="21211200">
            <a:off x="5867280" y="5486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248520" y="548640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传输阻抗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= V /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67080" y="3657600"/>
            <a:ext cx="304920" cy="121932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60" y="76"/>
                  <a:pt x="120" y="152"/>
                  <a:pt x="192" y="192"/>
                </a:cubicBezTo>
                <a:cubicBezTo>
                  <a:pt x="264" y="232"/>
                  <a:pt x="352" y="200"/>
                  <a:pt x="432" y="240"/>
                </a:cubicBezTo>
                <a:cubicBezTo>
                  <a:pt x="512" y="280"/>
                  <a:pt x="592" y="356"/>
                  <a:pt x="672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442520" y="802800"/>
            <a:ext cx="7207560" cy="77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怎样减小共模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057400" y="251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905120" y="2438280"/>
            <a:ext cx="4876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 = 1.26 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   L   f   /  D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9880" y="2438280"/>
            <a:ext cx="457200" cy="762120"/>
          </a:xfrm>
          <a:prstGeom prst="ellipse">
            <a:avLst/>
          </a:prstGeom>
          <a:noFill/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57200" y="403848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共模滤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共模扼流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减小共模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8600" y="3657600"/>
            <a:ext cx="2362320" cy="2362320"/>
          </a:xfrm>
          <a:prstGeom prst="ellipse">
            <a:avLst/>
          </a:prstGeom>
          <a:noFill/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133720" y="2971800"/>
            <a:ext cx="167616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1056" y="0"/>
                </a:moveTo>
                <a:cubicBezTo>
                  <a:pt x="832" y="72"/>
                  <a:pt x="608" y="144"/>
                  <a:pt x="432" y="240"/>
                </a:cubicBezTo>
                <a:cubicBezTo>
                  <a:pt x="256" y="336"/>
                  <a:pt x="128" y="456"/>
                  <a:pt x="0" y="576"/>
                </a:cubicBezTo>
              </a:path>
            </a:pathLst>
          </a:custGeom>
          <a:noFill/>
          <a:ln w="57240">
            <a:solidFill>
              <a:srgbClr val="0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3526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用尽量短的电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048120" y="3809880"/>
            <a:ext cx="1981080" cy="12193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267080" y="30481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95680" y="2362320"/>
            <a:ext cx="457200" cy="761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05520" y="2362320"/>
            <a:ext cx="457200" cy="761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867280" y="4419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模滤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715000" y="4343400"/>
            <a:ext cx="18288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10080" y="304812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cubicBezTo>
                  <a:pt x="68" y="140"/>
                  <a:pt x="136" y="280"/>
                  <a:pt x="240" y="384"/>
                </a:cubicBezTo>
                <a:cubicBezTo>
                  <a:pt x="344" y="488"/>
                  <a:pt x="544" y="552"/>
                  <a:pt x="624" y="624"/>
                </a:cubicBezTo>
                <a:cubicBezTo>
                  <a:pt x="704" y="696"/>
                  <a:pt x="712" y="756"/>
                  <a:pt x="720" y="81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343400" y="5562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电缆屏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38480" y="5257800"/>
            <a:ext cx="2210040" cy="914400"/>
          </a:xfrm>
          <a:prstGeom prst="ellipse">
            <a:avLst/>
          </a:prstGeom>
          <a:noFill/>
          <a:ln w="572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实验电路的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733400" y="4172040"/>
            <a:ext cx="5200920" cy="2457360"/>
          </a:xfrm>
          <a:prstGeom prst="rect">
            <a:avLst/>
          </a:prstGeom>
          <a:ln w="0">
            <a:noFill/>
          </a:ln>
        </p:spPr>
      </p:pic>
      <p:pic>
        <p:nvPicPr>
          <p:cNvPr id="1709" name="" descr=""/>
          <p:cNvPicPr/>
          <p:nvPr/>
        </p:nvPicPr>
        <p:blipFill>
          <a:blip r:embed="rId2"/>
          <a:stretch/>
        </p:blipFill>
        <p:spPr>
          <a:xfrm>
            <a:off x="1028880" y="1981080"/>
            <a:ext cx="65149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改善地线减小共模电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1209600" y="2079720"/>
            <a:ext cx="5496120" cy="211140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2"/>
          <a:stretch/>
        </p:blipFill>
        <p:spPr>
          <a:xfrm>
            <a:off x="1219320" y="4286160"/>
            <a:ext cx="5181480" cy="2114640"/>
          </a:xfrm>
          <a:prstGeom prst="rect">
            <a:avLst/>
          </a:prstGeom>
          <a:ln w="0">
            <a:noFill/>
          </a:ln>
        </p:spPr>
      </p:pic>
      <p:sp>
        <p:nvSpPr>
          <p:cNvPr id="1713" name=""/>
          <p:cNvSpPr/>
          <p:nvPr/>
        </p:nvSpPr>
        <p:spPr>
          <a:xfrm>
            <a:off x="5029200" y="3581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192" y="0"/>
                </a:moveTo>
                <a:cubicBezTo>
                  <a:pt x="160" y="84"/>
                  <a:pt x="128" y="168"/>
                  <a:pt x="96" y="240"/>
                </a:cubicBezTo>
                <a:cubicBezTo>
                  <a:pt x="64" y="312"/>
                  <a:pt x="32" y="372"/>
                  <a:pt x="0" y="432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减小空间感应的共模电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1209600" y="2079720"/>
            <a:ext cx="5496120" cy="2111400"/>
          </a:xfrm>
          <a:prstGeom prst="rect">
            <a:avLst/>
          </a:prstGeom>
          <a:ln w="0">
            <a:noFill/>
          </a:ln>
        </p:spPr>
      </p:pic>
      <p:sp>
        <p:nvSpPr>
          <p:cNvPr id="1716" name=""/>
          <p:cNvSpPr/>
          <p:nvPr/>
        </p:nvSpPr>
        <p:spPr>
          <a:xfrm>
            <a:off x="3352680" y="2590920"/>
            <a:ext cx="838440" cy="533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91120" y="2870280"/>
            <a:ext cx="304560" cy="1396800"/>
          </a:xfrm>
          <a:custGeom>
            <a:avLst/>
            <a:gdLst/>
            <a:ahLst/>
            <a:rect l="l" t="t" r="r" b="b"/>
            <a:pathLst>
              <a:path w="2304" h="1024">
                <a:moveTo>
                  <a:pt x="0" y="16"/>
                </a:moveTo>
                <a:cubicBezTo>
                  <a:pt x="176" y="8"/>
                  <a:pt x="352" y="0"/>
                  <a:pt x="672" y="112"/>
                </a:cubicBezTo>
                <a:cubicBezTo>
                  <a:pt x="992" y="224"/>
                  <a:pt x="1648" y="536"/>
                  <a:pt x="1920" y="688"/>
                </a:cubicBezTo>
                <a:cubicBezTo>
                  <a:pt x="2192" y="840"/>
                  <a:pt x="2248" y="932"/>
                  <a:pt x="2304" y="102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1352520" y="4343400"/>
            <a:ext cx="520056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两个措施同时采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1"/>
          <a:stretch/>
        </p:blipFill>
        <p:spPr>
          <a:xfrm>
            <a:off x="1209600" y="2079720"/>
            <a:ext cx="5496120" cy="211140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3352680" y="2590920"/>
            <a:ext cx="838440" cy="533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91120" y="2870280"/>
            <a:ext cx="533160" cy="1473120"/>
          </a:xfrm>
          <a:custGeom>
            <a:avLst/>
            <a:gdLst/>
            <a:ahLst/>
            <a:rect l="l" t="t" r="r" b="b"/>
            <a:pathLst>
              <a:path w="2304" h="1024">
                <a:moveTo>
                  <a:pt x="0" y="16"/>
                </a:moveTo>
                <a:cubicBezTo>
                  <a:pt x="176" y="8"/>
                  <a:pt x="352" y="0"/>
                  <a:pt x="672" y="112"/>
                </a:cubicBezTo>
                <a:cubicBezTo>
                  <a:pt x="992" y="224"/>
                  <a:pt x="1648" y="536"/>
                  <a:pt x="1920" y="688"/>
                </a:cubicBezTo>
                <a:cubicBezTo>
                  <a:pt x="2192" y="840"/>
                  <a:pt x="2248" y="932"/>
                  <a:pt x="2304" y="102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4800600" y="3581280"/>
            <a:ext cx="393840" cy="685800"/>
          </a:xfrm>
          <a:custGeom>
            <a:avLst/>
            <a:gdLst/>
            <a:ahLst/>
            <a:rect l="l" t="t" r="r" b="b"/>
            <a:pathLst>
              <a:path w="1384" h="576">
                <a:moveTo>
                  <a:pt x="40" y="0"/>
                </a:moveTo>
                <a:cubicBezTo>
                  <a:pt x="20" y="116"/>
                  <a:pt x="0" y="232"/>
                  <a:pt x="88" y="288"/>
                </a:cubicBezTo>
                <a:cubicBezTo>
                  <a:pt x="176" y="344"/>
                  <a:pt x="392" y="320"/>
                  <a:pt x="568" y="336"/>
                </a:cubicBezTo>
                <a:cubicBezTo>
                  <a:pt x="744" y="352"/>
                  <a:pt x="1008" y="344"/>
                  <a:pt x="1144" y="384"/>
                </a:cubicBezTo>
                <a:cubicBezTo>
                  <a:pt x="1280" y="424"/>
                  <a:pt x="1332" y="500"/>
                  <a:pt x="1384" y="57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5219640" cy="20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滤除高频成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76320" y="2101680"/>
            <a:ext cx="5867280" cy="231480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2"/>
          <a:srcRect l="12500" t="0" r="0" b="0"/>
          <a:stretch/>
        </p:blipFill>
        <p:spPr>
          <a:xfrm>
            <a:off x="6248520" y="2057400"/>
            <a:ext cx="2666880" cy="234324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3"/>
          <a:stretch/>
        </p:blipFill>
        <p:spPr>
          <a:xfrm>
            <a:off x="152280" y="4605480"/>
            <a:ext cx="5867640" cy="210024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590560" cy="23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滤波器电容量的选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 rot="5400000">
            <a:off x="1333080" y="1963800"/>
            <a:ext cx="762120" cy="1143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09880" y="2687760"/>
            <a:ext cx="15264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0" y="2535120"/>
            <a:ext cx="1600200" cy="15264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0"/>
                </a:moveTo>
                <a:lnTo>
                  <a:pt x="1008" y="0"/>
                </a:lnTo>
                <a:lnTo>
                  <a:pt x="1008" y="9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600200" y="2763720"/>
            <a:ext cx="2286000" cy="83844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0"/>
                </a:moveTo>
                <a:lnTo>
                  <a:pt x="0" y="528"/>
                </a:lnTo>
                <a:lnTo>
                  <a:pt x="1440" y="528"/>
                </a:lnTo>
                <a:lnTo>
                  <a:pt x="1440" y="38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438280" y="2840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590920" y="25351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438280" y="2916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438280" y="32209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438280" y="3297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590920" y="291636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590920" y="329724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590920" y="3068640"/>
            <a:ext cx="53316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336" y="0"/>
                </a:lnTo>
                <a:lnTo>
                  <a:pt x="336" y="48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895480" y="38307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971800" y="3906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048120" y="398304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962520" y="2763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负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43000" y="2290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86400" y="215424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lnTo>
                  <a:pt x="336" y="384"/>
                </a:lnTo>
                <a:lnTo>
                  <a:pt x="336" y="0"/>
                </a:lnTo>
                <a:lnTo>
                  <a:pt x="864" y="0"/>
                </a:lnTo>
                <a:lnTo>
                  <a:pt x="864" y="384"/>
                </a:lnTo>
                <a:lnTo>
                  <a:pt x="1296" y="384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3220920"/>
            <a:ext cx="2057400" cy="60984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384"/>
                </a:moveTo>
                <a:lnTo>
                  <a:pt x="336" y="384"/>
                </a:lnTo>
                <a:lnTo>
                  <a:pt x="336" y="0"/>
                </a:lnTo>
                <a:lnTo>
                  <a:pt x="864" y="0"/>
                </a:lnTo>
                <a:lnTo>
                  <a:pt x="864" y="384"/>
                </a:lnTo>
                <a:lnTo>
                  <a:pt x="1296" y="384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94360" y="2103480"/>
            <a:ext cx="1092240" cy="660240"/>
          </a:xfrm>
          <a:custGeom>
            <a:avLst/>
            <a:gdLst/>
            <a:ahLst/>
            <a:rect l="l" t="t" r="r" b="b"/>
            <a:pathLst>
              <a:path w="688" h="416">
                <a:moveTo>
                  <a:pt x="16" y="416"/>
                </a:moveTo>
                <a:cubicBezTo>
                  <a:pt x="8" y="352"/>
                  <a:pt x="0" y="288"/>
                  <a:pt x="16" y="224"/>
                </a:cubicBezTo>
                <a:cubicBezTo>
                  <a:pt x="32" y="160"/>
                  <a:pt x="64" y="64"/>
                  <a:pt x="112" y="32"/>
                </a:cubicBezTo>
                <a:cubicBezTo>
                  <a:pt x="160" y="0"/>
                  <a:pt x="256" y="32"/>
                  <a:pt x="304" y="32"/>
                </a:cubicBezTo>
                <a:cubicBezTo>
                  <a:pt x="352" y="32"/>
                  <a:pt x="360" y="24"/>
                  <a:pt x="400" y="32"/>
                </a:cubicBezTo>
                <a:cubicBezTo>
                  <a:pt x="440" y="40"/>
                  <a:pt x="520" y="56"/>
                  <a:pt x="544" y="80"/>
                </a:cubicBezTo>
                <a:cubicBezTo>
                  <a:pt x="568" y="104"/>
                  <a:pt x="536" y="136"/>
                  <a:pt x="544" y="176"/>
                </a:cubicBezTo>
                <a:cubicBezTo>
                  <a:pt x="552" y="216"/>
                  <a:pt x="568" y="280"/>
                  <a:pt x="592" y="320"/>
                </a:cubicBezTo>
                <a:cubicBezTo>
                  <a:pt x="616" y="360"/>
                  <a:pt x="652" y="388"/>
                  <a:pt x="688" y="41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019920" y="317016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368"/>
                </a:moveTo>
                <a:cubicBezTo>
                  <a:pt x="8" y="320"/>
                  <a:pt x="16" y="272"/>
                  <a:pt x="48" y="224"/>
                </a:cubicBezTo>
                <a:cubicBezTo>
                  <a:pt x="80" y="176"/>
                  <a:pt x="128" y="112"/>
                  <a:pt x="192" y="80"/>
                </a:cubicBezTo>
                <a:cubicBezTo>
                  <a:pt x="256" y="48"/>
                  <a:pt x="376" y="40"/>
                  <a:pt x="432" y="32"/>
                </a:cubicBezTo>
                <a:cubicBezTo>
                  <a:pt x="488" y="24"/>
                  <a:pt x="504" y="0"/>
                  <a:pt x="528" y="32"/>
                </a:cubicBezTo>
                <a:cubicBezTo>
                  <a:pt x="552" y="64"/>
                  <a:pt x="560" y="176"/>
                  <a:pt x="576" y="224"/>
                </a:cubicBezTo>
                <a:cubicBezTo>
                  <a:pt x="592" y="272"/>
                  <a:pt x="600" y="288"/>
                  <a:pt x="624" y="320"/>
                </a:cubicBezTo>
                <a:cubicBezTo>
                  <a:pt x="648" y="352"/>
                  <a:pt x="680" y="400"/>
                  <a:pt x="720" y="416"/>
                </a:cubicBezTo>
                <a:cubicBezTo>
                  <a:pt x="760" y="432"/>
                  <a:pt x="812" y="424"/>
                  <a:pt x="864" y="41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467480" y="21542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容合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467480" y="3311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容过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4" name=""/>
          <p:cNvGraphicFramePr/>
          <p:nvPr/>
        </p:nvGraphicFramePr>
        <p:xfrm>
          <a:off x="380880" y="4038480"/>
          <a:ext cx="8229600" cy="2646360"/>
        </p:xfrm>
        <a:graphic>
          <a:graphicData uri="http://schemas.openxmlformats.org/drawingml/2006/table">
            <a:tbl>
              <a:tblPr/>
              <a:tblGrid>
                <a:gridCol w="1644480"/>
                <a:gridCol w="1648080"/>
                <a:gridCol w="1644480"/>
                <a:gridCol w="1648080"/>
                <a:gridCol w="164448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速接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~ 100k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速接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低速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上升时间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带宽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0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总阻抗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~15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最大电容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0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源线、地线噪声电压波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37160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58128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41972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548640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81080"/>
            <a:ext cx="6477120" cy="685800"/>
          </a:xfrm>
          <a:custGeom>
            <a:avLst/>
            <a:gdLst/>
            <a:ahLst/>
            <a:rect l="l" t="t" r="r" b="b"/>
            <a:pathLst>
              <a:path w="4080" h="432">
                <a:moveTo>
                  <a:pt x="0" y="432"/>
                </a:moveTo>
                <a:lnTo>
                  <a:pt x="720" y="432"/>
                </a:lnTo>
                <a:lnTo>
                  <a:pt x="960" y="0"/>
                </a:lnTo>
                <a:lnTo>
                  <a:pt x="1440" y="0"/>
                </a:lnTo>
                <a:lnTo>
                  <a:pt x="1680" y="432"/>
                </a:lnTo>
                <a:lnTo>
                  <a:pt x="2592" y="432"/>
                </a:lnTo>
                <a:lnTo>
                  <a:pt x="2784" y="0"/>
                </a:lnTo>
                <a:lnTo>
                  <a:pt x="3360" y="0"/>
                </a:lnTo>
                <a:lnTo>
                  <a:pt x="3552" y="432"/>
                </a:lnTo>
                <a:lnTo>
                  <a:pt x="4080" y="432"/>
                </a:lnTo>
              </a:path>
            </a:pathLst>
          </a:custGeom>
          <a:noFill/>
          <a:ln w="7632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590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2057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1981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590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590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0574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2590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895480"/>
            <a:ext cx="6248520" cy="457200"/>
          </a:xfrm>
          <a:custGeom>
            <a:avLst/>
            <a:gdLst/>
            <a:ahLst/>
            <a:rect l="l" t="t" r="r" b="b"/>
            <a:pathLst>
              <a:path w="3936" h="288">
                <a:moveTo>
                  <a:pt x="0" y="288"/>
                </a:moveTo>
                <a:lnTo>
                  <a:pt x="720" y="288"/>
                </a:lnTo>
                <a:lnTo>
                  <a:pt x="816" y="0"/>
                </a:lnTo>
                <a:lnTo>
                  <a:pt x="960" y="288"/>
                </a:lnTo>
                <a:lnTo>
                  <a:pt x="1440" y="288"/>
                </a:lnTo>
                <a:lnTo>
                  <a:pt x="1536" y="144"/>
                </a:lnTo>
                <a:lnTo>
                  <a:pt x="1680" y="288"/>
                </a:lnTo>
                <a:lnTo>
                  <a:pt x="2592" y="288"/>
                </a:lnTo>
                <a:lnTo>
                  <a:pt x="2688" y="0"/>
                </a:lnTo>
                <a:lnTo>
                  <a:pt x="2784" y="288"/>
                </a:lnTo>
                <a:lnTo>
                  <a:pt x="3360" y="288"/>
                </a:lnTo>
                <a:lnTo>
                  <a:pt x="3456" y="144"/>
                </a:lnTo>
                <a:lnTo>
                  <a:pt x="3552" y="288"/>
                </a:lnTo>
                <a:lnTo>
                  <a:pt x="3936" y="28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2767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114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624852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867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4800600"/>
            <a:ext cx="6248520" cy="457200"/>
          </a:xfrm>
          <a:custGeom>
            <a:avLst/>
            <a:gdLst/>
            <a:ahLst/>
            <a:rect l="l" t="t" r="r" b="b"/>
            <a:pathLst>
              <a:path w="3936" h="288">
                <a:moveTo>
                  <a:pt x="0" y="288"/>
                </a:moveTo>
                <a:lnTo>
                  <a:pt x="720" y="288"/>
                </a:lnTo>
                <a:lnTo>
                  <a:pt x="816" y="96"/>
                </a:lnTo>
                <a:lnTo>
                  <a:pt x="960" y="288"/>
                </a:lnTo>
                <a:lnTo>
                  <a:pt x="1440" y="288"/>
                </a:lnTo>
                <a:lnTo>
                  <a:pt x="1536" y="0"/>
                </a:lnTo>
                <a:lnTo>
                  <a:pt x="1680" y="288"/>
                </a:lnTo>
                <a:lnTo>
                  <a:pt x="2592" y="288"/>
                </a:lnTo>
                <a:lnTo>
                  <a:pt x="2688" y="96"/>
                </a:lnTo>
                <a:lnTo>
                  <a:pt x="2784" y="288"/>
                </a:lnTo>
                <a:lnTo>
                  <a:pt x="3360" y="288"/>
                </a:lnTo>
                <a:lnTo>
                  <a:pt x="3456" y="0"/>
                </a:lnTo>
                <a:lnTo>
                  <a:pt x="3552" y="288"/>
                </a:lnTo>
                <a:lnTo>
                  <a:pt x="3936" y="2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962520"/>
            <a:ext cx="5105520" cy="838080"/>
          </a:xfrm>
          <a:custGeom>
            <a:avLst/>
            <a:gdLst/>
            <a:ahLst/>
            <a:rect l="l" t="t" r="r" b="b"/>
            <a:pathLst>
              <a:path w="3216" h="528">
                <a:moveTo>
                  <a:pt x="0" y="288"/>
                </a:moveTo>
                <a:lnTo>
                  <a:pt x="48" y="528"/>
                </a:lnTo>
                <a:lnTo>
                  <a:pt x="192" y="0"/>
                </a:lnTo>
                <a:lnTo>
                  <a:pt x="240" y="288"/>
                </a:lnTo>
                <a:lnTo>
                  <a:pt x="720" y="288"/>
                </a:lnTo>
                <a:lnTo>
                  <a:pt x="768" y="528"/>
                </a:lnTo>
                <a:lnTo>
                  <a:pt x="864" y="48"/>
                </a:lnTo>
                <a:lnTo>
                  <a:pt x="960" y="288"/>
                </a:lnTo>
                <a:lnTo>
                  <a:pt x="1872" y="288"/>
                </a:lnTo>
                <a:lnTo>
                  <a:pt x="1920" y="528"/>
                </a:lnTo>
                <a:lnTo>
                  <a:pt x="2016" y="0"/>
                </a:lnTo>
                <a:lnTo>
                  <a:pt x="2064" y="288"/>
                </a:lnTo>
                <a:lnTo>
                  <a:pt x="2640" y="288"/>
                </a:lnTo>
                <a:lnTo>
                  <a:pt x="2688" y="480"/>
                </a:lnTo>
                <a:lnTo>
                  <a:pt x="2784" y="48"/>
                </a:lnTo>
                <a:lnTo>
                  <a:pt x="2832" y="288"/>
                </a:lnTo>
                <a:lnTo>
                  <a:pt x="3216" y="28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514600" y="5866560"/>
            <a:ext cx="5105520" cy="838440"/>
          </a:xfrm>
          <a:custGeom>
            <a:avLst/>
            <a:gdLst/>
            <a:ahLst/>
            <a:rect l="l" t="t" r="r" b="b"/>
            <a:pathLst>
              <a:path w="3216" h="528">
                <a:moveTo>
                  <a:pt x="0" y="288"/>
                </a:moveTo>
                <a:lnTo>
                  <a:pt x="48" y="528"/>
                </a:lnTo>
                <a:lnTo>
                  <a:pt x="192" y="0"/>
                </a:lnTo>
                <a:lnTo>
                  <a:pt x="240" y="288"/>
                </a:lnTo>
                <a:lnTo>
                  <a:pt x="720" y="288"/>
                </a:lnTo>
                <a:lnTo>
                  <a:pt x="768" y="528"/>
                </a:lnTo>
                <a:lnTo>
                  <a:pt x="864" y="48"/>
                </a:lnTo>
                <a:lnTo>
                  <a:pt x="960" y="288"/>
                </a:lnTo>
                <a:lnTo>
                  <a:pt x="1872" y="288"/>
                </a:lnTo>
                <a:lnTo>
                  <a:pt x="1920" y="528"/>
                </a:lnTo>
                <a:lnTo>
                  <a:pt x="2016" y="0"/>
                </a:lnTo>
                <a:lnTo>
                  <a:pt x="2064" y="288"/>
                </a:lnTo>
                <a:lnTo>
                  <a:pt x="2640" y="288"/>
                </a:lnTo>
                <a:lnTo>
                  <a:pt x="2688" y="480"/>
                </a:lnTo>
                <a:lnTo>
                  <a:pt x="2784" y="48"/>
                </a:lnTo>
                <a:lnTo>
                  <a:pt x="2832" y="288"/>
                </a:lnTo>
                <a:lnTo>
                  <a:pt x="3216" y="2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平衡接口电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 rot="5400000">
            <a:off x="1028520" y="3085920"/>
            <a:ext cx="1981080" cy="1905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rot="5400000">
            <a:off x="6210000" y="3162240"/>
            <a:ext cx="1752840" cy="16761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09680" y="3276720"/>
            <a:ext cx="4038840" cy="30456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lnTo>
                  <a:pt x="0" y="0"/>
                </a:lnTo>
                <a:lnTo>
                  <a:pt x="201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209680" y="4494960"/>
            <a:ext cx="4038840" cy="30492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lnTo>
                  <a:pt x="0" y="0"/>
                </a:lnTo>
                <a:lnTo>
                  <a:pt x="201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752480" y="358128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752480" y="373392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96"/>
                </a:moveTo>
                <a:lnTo>
                  <a:pt x="96" y="96"/>
                </a:lnTo>
                <a:lnTo>
                  <a:pt x="96" y="0"/>
                </a:lnTo>
                <a:lnTo>
                  <a:pt x="192" y="0"/>
                </a:lnTo>
                <a:lnTo>
                  <a:pt x="192" y="96"/>
                </a:lnTo>
                <a:lnTo>
                  <a:pt x="288" y="96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752480" y="403848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752480" y="419040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96"/>
                </a:moveTo>
                <a:lnTo>
                  <a:pt x="96" y="96"/>
                </a:lnTo>
                <a:lnTo>
                  <a:pt x="96" y="0"/>
                </a:lnTo>
                <a:lnTo>
                  <a:pt x="192" y="0"/>
                </a:lnTo>
                <a:lnTo>
                  <a:pt x="192" y="96"/>
                </a:lnTo>
                <a:lnTo>
                  <a:pt x="288" y="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828800" y="22860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371600" y="1889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V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371600" y="5699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V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828800" y="4648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33520" y="4038480"/>
            <a:ext cx="1371600" cy="2362320"/>
          </a:xfrm>
          <a:custGeom>
            <a:avLst/>
            <a:gdLst/>
            <a:ahLst/>
            <a:rect l="l" t="t" r="r" b="b"/>
            <a:pathLst>
              <a:path w="768" h="1536">
                <a:moveTo>
                  <a:pt x="768" y="0"/>
                </a:moveTo>
                <a:lnTo>
                  <a:pt x="0" y="0"/>
                </a:lnTo>
                <a:lnTo>
                  <a:pt x="0" y="15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029200" y="3505320"/>
            <a:ext cx="1522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029200" y="4191120"/>
            <a:ext cx="1522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05520" y="32767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10552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105520" y="38862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038480"/>
            <a:ext cx="304920" cy="2362320"/>
          </a:xfrm>
          <a:custGeom>
            <a:avLst/>
            <a:gdLst/>
            <a:ahLst/>
            <a:rect l="l" t="t" r="r" b="b"/>
            <a:pathLst>
              <a:path w="384" h="1440">
                <a:moveTo>
                  <a:pt x="384" y="0"/>
                </a:moveTo>
                <a:lnTo>
                  <a:pt x="0" y="0"/>
                </a:lnTo>
                <a:lnTo>
                  <a:pt x="0" y="144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4920" y="64008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88840" y="3429000"/>
            <a:ext cx="3670560" cy="2743200"/>
          </a:xfrm>
          <a:custGeom>
            <a:avLst/>
            <a:gdLst/>
            <a:ahLst/>
            <a:rect l="l" t="t" r="r" b="b"/>
            <a:pathLst>
              <a:path w="2312" h="1880">
                <a:moveTo>
                  <a:pt x="976" y="40"/>
                </a:moveTo>
                <a:cubicBezTo>
                  <a:pt x="1396" y="20"/>
                  <a:pt x="1816" y="0"/>
                  <a:pt x="2032" y="40"/>
                </a:cubicBezTo>
                <a:cubicBezTo>
                  <a:pt x="2248" y="80"/>
                  <a:pt x="2232" y="104"/>
                  <a:pt x="2272" y="280"/>
                </a:cubicBezTo>
                <a:cubicBezTo>
                  <a:pt x="2312" y="456"/>
                  <a:pt x="2304" y="880"/>
                  <a:pt x="2272" y="1096"/>
                </a:cubicBezTo>
                <a:cubicBezTo>
                  <a:pt x="2240" y="1312"/>
                  <a:pt x="2224" y="1464"/>
                  <a:pt x="2080" y="1576"/>
                </a:cubicBezTo>
                <a:cubicBezTo>
                  <a:pt x="1936" y="1688"/>
                  <a:pt x="1688" y="1728"/>
                  <a:pt x="1408" y="1768"/>
                </a:cubicBezTo>
                <a:cubicBezTo>
                  <a:pt x="1128" y="1808"/>
                  <a:pt x="624" y="1880"/>
                  <a:pt x="400" y="1816"/>
                </a:cubicBezTo>
                <a:cubicBezTo>
                  <a:pt x="176" y="1752"/>
                  <a:pt x="128" y="1568"/>
                  <a:pt x="64" y="1384"/>
                </a:cubicBezTo>
                <a:cubicBezTo>
                  <a:pt x="0" y="1200"/>
                  <a:pt x="8" y="956"/>
                  <a:pt x="16" y="712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85800" y="4457880"/>
            <a:ext cx="3924360" cy="1879560"/>
          </a:xfrm>
          <a:custGeom>
            <a:avLst/>
            <a:gdLst/>
            <a:ahLst/>
            <a:rect l="l" t="t" r="r" b="b"/>
            <a:pathLst>
              <a:path w="2472" h="1184">
                <a:moveTo>
                  <a:pt x="1104" y="72"/>
                </a:moveTo>
                <a:cubicBezTo>
                  <a:pt x="1520" y="36"/>
                  <a:pt x="1936" y="0"/>
                  <a:pt x="2160" y="72"/>
                </a:cubicBezTo>
                <a:cubicBezTo>
                  <a:pt x="2384" y="144"/>
                  <a:pt x="2424" y="368"/>
                  <a:pt x="2448" y="504"/>
                </a:cubicBezTo>
                <a:cubicBezTo>
                  <a:pt x="2472" y="640"/>
                  <a:pt x="2400" y="792"/>
                  <a:pt x="2304" y="888"/>
                </a:cubicBezTo>
                <a:cubicBezTo>
                  <a:pt x="2208" y="984"/>
                  <a:pt x="2160" y="1040"/>
                  <a:pt x="1872" y="1080"/>
                </a:cubicBezTo>
                <a:cubicBezTo>
                  <a:pt x="1584" y="1120"/>
                  <a:pt x="872" y="1184"/>
                  <a:pt x="576" y="1128"/>
                </a:cubicBezTo>
                <a:cubicBezTo>
                  <a:pt x="280" y="1072"/>
                  <a:pt x="192" y="904"/>
                  <a:pt x="96" y="744"/>
                </a:cubicBezTo>
                <a:cubicBezTo>
                  <a:pt x="0" y="584"/>
                  <a:pt x="0" y="376"/>
                  <a:pt x="0" y="16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295280" y="35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295280" y="41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257800" y="351936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257800" y="420516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增加共模回路的阻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1266840" y="1876320"/>
            <a:ext cx="2179800" cy="1067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416560" y="1876320"/>
            <a:ext cx="2179800" cy="1067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617840" y="2486160"/>
            <a:ext cx="1266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697360" y="2409840"/>
            <a:ext cx="133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376440" y="2104920"/>
            <a:ext cx="748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6560" y="2028960"/>
            <a:ext cx="745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743200" y="2168640"/>
            <a:ext cx="63324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0" y="200"/>
                </a:moveTo>
                <a:cubicBezTo>
                  <a:pt x="8" y="144"/>
                  <a:pt x="16" y="88"/>
                  <a:pt x="48" y="56"/>
                </a:cubicBezTo>
                <a:cubicBezTo>
                  <a:pt x="80" y="24"/>
                  <a:pt x="128" y="16"/>
                  <a:pt x="192" y="8"/>
                </a:cubicBezTo>
                <a:cubicBezTo>
                  <a:pt x="256" y="0"/>
                  <a:pt x="392" y="8"/>
                  <a:pt x="432" y="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76440" y="2181240"/>
            <a:ext cx="2040120" cy="228600"/>
          </a:xfrm>
          <a:custGeom>
            <a:avLst/>
            <a:gdLst/>
            <a:ahLst/>
            <a:rect l="l" t="t" r="r" b="b"/>
            <a:pathLst>
              <a:path w="1392" h="192">
                <a:moveTo>
                  <a:pt x="0" y="48"/>
                </a:moveTo>
                <a:cubicBezTo>
                  <a:pt x="84" y="60"/>
                  <a:pt x="168" y="72"/>
                  <a:pt x="288" y="96"/>
                </a:cubicBezTo>
                <a:cubicBezTo>
                  <a:pt x="408" y="120"/>
                  <a:pt x="568" y="192"/>
                  <a:pt x="720" y="192"/>
                </a:cubicBezTo>
                <a:cubicBezTo>
                  <a:pt x="872" y="192"/>
                  <a:pt x="1088" y="128"/>
                  <a:pt x="1200" y="96"/>
                </a:cubicBezTo>
                <a:cubicBezTo>
                  <a:pt x="1312" y="64"/>
                  <a:pt x="1352" y="32"/>
                  <a:pt x="139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486400" y="2104920"/>
            <a:ext cx="3524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52" y="8"/>
                  <a:pt x="104" y="16"/>
                  <a:pt x="144" y="48"/>
                </a:cubicBezTo>
                <a:cubicBezTo>
                  <a:pt x="184" y="80"/>
                  <a:pt x="224" y="160"/>
                  <a:pt x="240" y="19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673360" y="294336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476360" y="4010040"/>
            <a:ext cx="619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30960" y="294336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602080" y="248616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978520" y="240984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892920" y="294336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892920" y="355284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753240" y="332424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753240" y="347652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969920" y="347652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969920" y="362916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109960" y="294336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109960" y="362916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687680" y="20574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330960" y="190512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732040" y="2486160"/>
            <a:ext cx="3141720" cy="1307880"/>
          </a:xfrm>
          <a:custGeom>
            <a:avLst/>
            <a:gdLst/>
            <a:ahLst/>
            <a:rect l="l" t="t" r="r" b="b"/>
            <a:pathLst>
              <a:path w="2144" h="824">
                <a:moveTo>
                  <a:pt x="728" y="48"/>
                </a:moveTo>
                <a:cubicBezTo>
                  <a:pt x="968" y="36"/>
                  <a:pt x="1208" y="24"/>
                  <a:pt x="1400" y="96"/>
                </a:cubicBezTo>
                <a:cubicBezTo>
                  <a:pt x="1592" y="168"/>
                  <a:pt x="1800" y="368"/>
                  <a:pt x="1880" y="480"/>
                </a:cubicBezTo>
                <a:cubicBezTo>
                  <a:pt x="1960" y="592"/>
                  <a:pt x="2144" y="728"/>
                  <a:pt x="1880" y="768"/>
                </a:cubicBezTo>
                <a:cubicBezTo>
                  <a:pt x="1616" y="808"/>
                  <a:pt x="592" y="824"/>
                  <a:pt x="296" y="720"/>
                </a:cubicBezTo>
                <a:cubicBezTo>
                  <a:pt x="0" y="616"/>
                  <a:pt x="88" y="264"/>
                  <a:pt x="104" y="144"/>
                </a:cubicBezTo>
                <a:cubicBezTo>
                  <a:pt x="120" y="24"/>
                  <a:pt x="256" y="12"/>
                  <a:pt x="392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587760" y="30193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共模回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rot="1042800">
            <a:off x="3516120" y="2180880"/>
            <a:ext cx="210960" cy="1522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38080" y="4114800"/>
            <a:ext cx="7925040" cy="263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改善量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20lg(E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 E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 =  20lg ( I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 I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 20lg[(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 Z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 / (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/ Z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20 lg  ( Z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/  Z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CM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20 lg  ( 1+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/  Z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CM1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铁氧体磁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53452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I/O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接口布线的一些要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1295280" y="1981080"/>
            <a:ext cx="53341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28800" y="3505320"/>
            <a:ext cx="4572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6000" y="35812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286000" y="3733920"/>
            <a:ext cx="152280" cy="7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286000" y="388620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286000" y="40384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286000" y="4191120"/>
            <a:ext cx="152280" cy="7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286000" y="434340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86000" y="44956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76520" y="35812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676520" y="3733920"/>
            <a:ext cx="152280" cy="7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76520" y="388620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676520" y="40384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676520" y="4191120"/>
            <a:ext cx="152280" cy="7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676520" y="449568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676520" y="4343400"/>
            <a:ext cx="1522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00400" y="2971800"/>
            <a:ext cx="38088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276720" y="2895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76720" y="3124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362320" y="31240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672" y="0"/>
                </a:move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562720" y="2133720"/>
            <a:ext cx="1066680" cy="175248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672" y="0"/>
                </a:moveTo>
                <a:lnTo>
                  <a:pt x="0" y="0"/>
                </a:lnTo>
                <a:lnTo>
                  <a:pt x="0" y="576"/>
                </a:lnTo>
                <a:lnTo>
                  <a:pt x="672" y="57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486400" y="4038480"/>
            <a:ext cx="1143000" cy="13716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672" y="0"/>
                </a:moveTo>
                <a:lnTo>
                  <a:pt x="0" y="0"/>
                </a:lnTo>
                <a:lnTo>
                  <a:pt x="0" y="576"/>
                </a:lnTo>
                <a:lnTo>
                  <a:pt x="672" y="576"/>
                </a:lnTo>
              </a:path>
            </a:pathLst>
          </a:custGeom>
          <a:noFill/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53080" y="3124080"/>
            <a:ext cx="228600" cy="381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81240"/>
              <a:gd name="textAreaBottom" fmla="*/ 370080 h 381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00800" y="3048120"/>
            <a:ext cx="228600" cy="53316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533160"/>
              <a:gd name="textAreaBottom" fmla="*/ 522000 h 533160"/>
            </a:gdLst>
            <a:ahLst/>
            <a:rect l="textAreaLeft" t="textAreaTop" r="textAreaRight" b="textAreaBottom"/>
            <a:pathLst>
              <a:path w="21600" h="50332">
                <a:moveTo>
                  <a:pt x="3600" y="0"/>
                </a:moveTo>
                <a:arcTo wR="3600" hR="3600" stAng="16200000" swAng="-5400000"/>
                <a:lnTo>
                  <a:pt x="0" y="46732"/>
                </a:lnTo>
                <a:arcTo wR="3600" hR="3600" stAng="10800000" swAng="-5400000"/>
                <a:lnTo>
                  <a:pt x="18000" y="50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410080" y="3048120"/>
            <a:ext cx="228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67280" y="3048120"/>
            <a:ext cx="228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63868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63868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63868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095880" y="312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63868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410080" y="2514600"/>
            <a:ext cx="76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562720" y="2514600"/>
            <a:ext cx="75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486400" y="2514600"/>
            <a:ext cx="76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638680" y="2514600"/>
            <a:ext cx="76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181480" y="26668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181480" y="2590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715000" y="2590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181480" y="2743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62720" y="2514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486400" y="2209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638680" y="2209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181480" y="2286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638680" y="2286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553080" y="4495680"/>
            <a:ext cx="228600" cy="381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81240"/>
              <a:gd name="textAreaBottom" fmla="*/ 370080 h 381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400800" y="4343400"/>
            <a:ext cx="228600" cy="7621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762120"/>
              <a:gd name="textAreaBottom" fmla="*/ 750960 h 762120"/>
            </a:gdLst>
            <a:ahLst/>
            <a:rect l="textAreaLeft" t="textAreaTop" r="textAreaRight" b="textAreaBottom"/>
            <a:pathLst>
              <a:path w="21600" h="71932">
                <a:moveTo>
                  <a:pt x="3600" y="0"/>
                </a:moveTo>
                <a:arcTo wR="3600" hR="3600" stAng="16200000" swAng="-5400000"/>
                <a:lnTo>
                  <a:pt x="0" y="68332"/>
                </a:lnTo>
                <a:arcTo wR="3600" hR="3600" stAng="10800000" swAng="-5400000"/>
                <a:lnTo>
                  <a:pt x="18000" y="7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257800" y="4419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4952880" y="4722840"/>
            <a:ext cx="144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876920" y="4419720"/>
            <a:ext cx="1523880" cy="152280"/>
          </a:xfrm>
          <a:custGeom>
            <a:avLst/>
            <a:gdLst/>
            <a:ahLst/>
            <a:rect l="l" t="t" r="r" b="b"/>
            <a:pathLst>
              <a:path w="960" h="96">
                <a:moveTo>
                  <a:pt x="960" y="0"/>
                </a:moveTo>
                <a:lnTo>
                  <a:pt x="864" y="0"/>
                </a:lnTo>
                <a:lnTo>
                  <a:pt x="864" y="96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800600" y="480060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1008" y="96"/>
                </a:moveTo>
                <a:lnTo>
                  <a:pt x="912" y="96"/>
                </a:lnTo>
                <a:lnTo>
                  <a:pt x="91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7724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干净区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6324480" y="2666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6400800" y="419112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8620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滤波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733920" y="2438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源线连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8620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地线连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35193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信号滤波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238880" y="1828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隔离变压器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光耦隔离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315200" y="5424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086600" y="5958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Times New Roman"/>
              </a:rPr>
              <a:t>壕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 flipV="1">
            <a:off x="6476760" y="5486400"/>
            <a:ext cx="685800" cy="5335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 flipV="1">
            <a:off x="5486400" y="48769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5714640" y="2133720"/>
            <a:ext cx="1600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91320" y="4495680"/>
            <a:ext cx="228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5866920" y="3733920"/>
            <a:ext cx="16765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 flipV="1">
            <a:off x="6019560" y="3276720"/>
            <a:ext cx="1523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472428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5146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钟电路、高速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钟信号远离电缆接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6104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用屏蔽电缆抑制共模辐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838080" y="2171880"/>
            <a:ext cx="1676520" cy="1752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rot="5400000">
            <a:off x="1371240" y="2400120"/>
            <a:ext cx="76176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rot="5400000">
            <a:off x="5829120" y="2514240"/>
            <a:ext cx="685800" cy="609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362320" y="255276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486400" y="2171880"/>
            <a:ext cx="1676520" cy="1752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334120" y="255276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362320" y="255276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362320" y="354348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057400" y="278136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52480" y="2933640"/>
            <a:ext cx="4343400" cy="53352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0" y="0"/>
                </a:moveTo>
                <a:lnTo>
                  <a:pt x="0" y="192"/>
                </a:lnTo>
                <a:lnTo>
                  <a:pt x="192" y="192"/>
                </a:lnTo>
                <a:lnTo>
                  <a:pt x="384" y="96"/>
                </a:lnTo>
                <a:lnTo>
                  <a:pt x="2352" y="96"/>
                </a:lnTo>
                <a:lnTo>
                  <a:pt x="2640" y="240"/>
                </a:lnTo>
                <a:lnTo>
                  <a:pt x="264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295280" y="3390840"/>
            <a:ext cx="38124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657600" y="2832120"/>
            <a:ext cx="1994040" cy="203040"/>
          </a:xfrm>
          <a:custGeom>
            <a:avLst/>
            <a:gdLst/>
            <a:ahLst/>
            <a:rect l="l" t="t" r="r" b="b"/>
            <a:pathLst>
              <a:path w="1256" h="128">
                <a:moveTo>
                  <a:pt x="0" y="16"/>
                </a:moveTo>
                <a:cubicBezTo>
                  <a:pt x="332" y="16"/>
                  <a:pt x="664" y="16"/>
                  <a:pt x="864" y="16"/>
                </a:cubicBezTo>
                <a:cubicBezTo>
                  <a:pt x="1064" y="16"/>
                  <a:pt x="1144" y="0"/>
                  <a:pt x="1200" y="16"/>
                </a:cubicBezTo>
                <a:cubicBezTo>
                  <a:pt x="1256" y="32"/>
                  <a:pt x="1240" y="96"/>
                  <a:pt x="1200" y="112"/>
                </a:cubicBezTo>
                <a:cubicBezTo>
                  <a:pt x="1160" y="128"/>
                  <a:pt x="1000" y="112"/>
                  <a:pt x="960" y="112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971800" y="3238560"/>
            <a:ext cx="3225960" cy="393480"/>
          </a:xfrm>
          <a:custGeom>
            <a:avLst/>
            <a:gdLst/>
            <a:ahLst/>
            <a:rect l="l" t="t" r="r" b="b"/>
            <a:pathLst>
              <a:path w="2032" h="248">
                <a:moveTo>
                  <a:pt x="2016" y="0"/>
                </a:moveTo>
                <a:cubicBezTo>
                  <a:pt x="2024" y="76"/>
                  <a:pt x="2032" y="152"/>
                  <a:pt x="2016" y="192"/>
                </a:cubicBezTo>
                <a:cubicBezTo>
                  <a:pt x="2000" y="232"/>
                  <a:pt x="1960" y="248"/>
                  <a:pt x="1920" y="240"/>
                </a:cubicBezTo>
                <a:cubicBezTo>
                  <a:pt x="1880" y="232"/>
                  <a:pt x="1824" y="168"/>
                  <a:pt x="1776" y="144"/>
                </a:cubicBezTo>
                <a:cubicBezTo>
                  <a:pt x="1728" y="120"/>
                  <a:pt x="1760" y="112"/>
                  <a:pt x="1632" y="96"/>
                </a:cubicBezTo>
                <a:cubicBezTo>
                  <a:pt x="1504" y="80"/>
                  <a:pt x="1280" y="56"/>
                  <a:pt x="1008" y="48"/>
                </a:cubicBezTo>
                <a:cubicBezTo>
                  <a:pt x="736" y="40"/>
                  <a:pt x="368" y="44"/>
                  <a:pt x="0" y="4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523880" y="308628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523880" y="377208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219320" y="343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248520" y="308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72000" y="2795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8080" y="4305240"/>
            <a:ext cx="167652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5400000">
            <a:off x="1371240" y="4533840"/>
            <a:ext cx="762120" cy="7621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5400000">
            <a:off x="6210000" y="4648320"/>
            <a:ext cx="685800" cy="6094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362320" y="4686480"/>
            <a:ext cx="3808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362320" y="468648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62320" y="567684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057400" y="491508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752480" y="5067360"/>
            <a:ext cx="4876920" cy="53352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0" y="0"/>
                </a:moveTo>
                <a:lnTo>
                  <a:pt x="0" y="192"/>
                </a:lnTo>
                <a:lnTo>
                  <a:pt x="192" y="192"/>
                </a:lnTo>
                <a:lnTo>
                  <a:pt x="384" y="96"/>
                </a:lnTo>
                <a:lnTo>
                  <a:pt x="2352" y="96"/>
                </a:lnTo>
                <a:lnTo>
                  <a:pt x="2640" y="240"/>
                </a:lnTo>
                <a:lnTo>
                  <a:pt x="264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295280" y="5524560"/>
            <a:ext cx="38124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523880" y="521964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523880" y="590544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219320" y="55688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705720" y="521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562720" y="4686480"/>
            <a:ext cx="15228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676520" y="5295960"/>
            <a:ext cx="5041800" cy="1409760"/>
          </a:xfrm>
          <a:custGeom>
            <a:avLst/>
            <a:gdLst/>
            <a:ahLst/>
            <a:rect l="l" t="t" r="r" b="b"/>
            <a:pathLst>
              <a:path w="3176" h="888">
                <a:moveTo>
                  <a:pt x="3168" y="0"/>
                </a:moveTo>
                <a:cubicBezTo>
                  <a:pt x="3172" y="96"/>
                  <a:pt x="3176" y="192"/>
                  <a:pt x="3168" y="288"/>
                </a:cubicBezTo>
                <a:cubicBezTo>
                  <a:pt x="3160" y="384"/>
                  <a:pt x="3160" y="488"/>
                  <a:pt x="3120" y="576"/>
                </a:cubicBezTo>
                <a:cubicBezTo>
                  <a:pt x="3080" y="664"/>
                  <a:pt x="3040" y="776"/>
                  <a:pt x="2928" y="816"/>
                </a:cubicBezTo>
                <a:cubicBezTo>
                  <a:pt x="2816" y="856"/>
                  <a:pt x="2840" y="808"/>
                  <a:pt x="2448" y="816"/>
                </a:cubicBezTo>
                <a:cubicBezTo>
                  <a:pt x="2056" y="824"/>
                  <a:pt x="968" y="888"/>
                  <a:pt x="576" y="864"/>
                </a:cubicBezTo>
                <a:cubicBezTo>
                  <a:pt x="184" y="840"/>
                  <a:pt x="192" y="728"/>
                  <a:pt x="96" y="672"/>
                </a:cubicBezTo>
                <a:cubicBezTo>
                  <a:pt x="0" y="616"/>
                  <a:pt x="0" y="572"/>
                  <a:pt x="0" y="52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276720" y="5334120"/>
            <a:ext cx="1955520" cy="241200"/>
          </a:xfrm>
          <a:custGeom>
            <a:avLst/>
            <a:gdLst/>
            <a:ahLst/>
            <a:rect l="l" t="t" r="r" b="b"/>
            <a:pathLst>
              <a:path w="1232" h="152">
                <a:moveTo>
                  <a:pt x="1200" y="0"/>
                </a:moveTo>
                <a:cubicBezTo>
                  <a:pt x="1216" y="36"/>
                  <a:pt x="1232" y="72"/>
                  <a:pt x="1104" y="96"/>
                </a:cubicBezTo>
                <a:cubicBezTo>
                  <a:pt x="976" y="120"/>
                  <a:pt x="616" y="136"/>
                  <a:pt x="432" y="144"/>
                </a:cubicBezTo>
                <a:cubicBezTo>
                  <a:pt x="248" y="152"/>
                  <a:pt x="124" y="148"/>
                  <a:pt x="0" y="144"/>
                </a:cubicBezTo>
              </a:path>
            </a:pathLst>
          </a:custGeom>
          <a:noFill/>
          <a:ln w="38160">
            <a:solidFill>
              <a:srgbClr val="b4433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屏蔽电缆的评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"/>
          <p:cNvSpPr/>
          <p:nvPr/>
        </p:nvSpPr>
        <p:spPr>
          <a:xfrm>
            <a:off x="838080" y="1943280"/>
            <a:ext cx="167652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rot="5400000">
            <a:off x="1371240" y="2171520"/>
            <a:ext cx="761760" cy="762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5829120" y="2285640"/>
            <a:ext cx="685800" cy="6098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362320" y="232416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486400" y="1943280"/>
            <a:ext cx="167652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334120" y="232416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362320" y="232416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362320" y="331488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057400" y="255276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752480" y="2705040"/>
            <a:ext cx="4343400" cy="53352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0" y="0"/>
                </a:moveTo>
                <a:lnTo>
                  <a:pt x="0" y="192"/>
                </a:lnTo>
                <a:lnTo>
                  <a:pt x="192" y="192"/>
                </a:lnTo>
                <a:lnTo>
                  <a:pt x="384" y="96"/>
                </a:lnTo>
                <a:lnTo>
                  <a:pt x="2352" y="96"/>
                </a:lnTo>
                <a:lnTo>
                  <a:pt x="2640" y="240"/>
                </a:lnTo>
                <a:lnTo>
                  <a:pt x="2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295280" y="316224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657600" y="2603520"/>
            <a:ext cx="1994040" cy="203040"/>
          </a:xfrm>
          <a:custGeom>
            <a:avLst/>
            <a:gdLst/>
            <a:ahLst/>
            <a:rect l="l" t="t" r="r" b="b"/>
            <a:pathLst>
              <a:path w="1256" h="128">
                <a:moveTo>
                  <a:pt x="0" y="16"/>
                </a:moveTo>
                <a:cubicBezTo>
                  <a:pt x="332" y="16"/>
                  <a:pt x="664" y="16"/>
                  <a:pt x="864" y="16"/>
                </a:cubicBezTo>
                <a:cubicBezTo>
                  <a:pt x="1064" y="16"/>
                  <a:pt x="1144" y="0"/>
                  <a:pt x="1200" y="16"/>
                </a:cubicBezTo>
                <a:cubicBezTo>
                  <a:pt x="1256" y="32"/>
                  <a:pt x="1240" y="96"/>
                  <a:pt x="1200" y="112"/>
                </a:cubicBezTo>
                <a:cubicBezTo>
                  <a:pt x="1160" y="128"/>
                  <a:pt x="1000" y="112"/>
                  <a:pt x="960" y="112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505320" y="3048120"/>
            <a:ext cx="2692440" cy="355320"/>
          </a:xfrm>
          <a:custGeom>
            <a:avLst/>
            <a:gdLst/>
            <a:ahLst/>
            <a:rect l="l" t="t" r="r" b="b"/>
            <a:pathLst>
              <a:path w="2032" h="248">
                <a:moveTo>
                  <a:pt x="2016" y="0"/>
                </a:moveTo>
                <a:cubicBezTo>
                  <a:pt x="2024" y="76"/>
                  <a:pt x="2032" y="152"/>
                  <a:pt x="2016" y="192"/>
                </a:cubicBezTo>
                <a:cubicBezTo>
                  <a:pt x="2000" y="232"/>
                  <a:pt x="1960" y="248"/>
                  <a:pt x="1920" y="240"/>
                </a:cubicBezTo>
                <a:cubicBezTo>
                  <a:pt x="1880" y="232"/>
                  <a:pt x="1824" y="168"/>
                  <a:pt x="1776" y="144"/>
                </a:cubicBezTo>
                <a:cubicBezTo>
                  <a:pt x="1728" y="120"/>
                  <a:pt x="1760" y="112"/>
                  <a:pt x="1632" y="96"/>
                </a:cubicBezTo>
                <a:cubicBezTo>
                  <a:pt x="1504" y="80"/>
                  <a:pt x="1280" y="56"/>
                  <a:pt x="1008" y="48"/>
                </a:cubicBezTo>
                <a:cubicBezTo>
                  <a:pt x="736" y="40"/>
                  <a:pt x="368" y="44"/>
                  <a:pt x="0" y="4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523880" y="285768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23880" y="354348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219320" y="320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248520" y="2857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572000" y="2567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85800" y="42670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676520" y="3657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324480" y="3657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438280" y="358128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733920" y="3429000"/>
            <a:ext cx="380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3657600"/>
            <a:ext cx="3695760" cy="457200"/>
          </a:xfrm>
          <a:custGeom>
            <a:avLst/>
            <a:gdLst/>
            <a:ahLst/>
            <a:rect l="l" t="t" r="r" b="b"/>
            <a:pathLst>
              <a:path w="2328" h="520">
                <a:moveTo>
                  <a:pt x="1632" y="48"/>
                </a:moveTo>
                <a:cubicBezTo>
                  <a:pt x="1776" y="40"/>
                  <a:pt x="1920" y="32"/>
                  <a:pt x="2016" y="48"/>
                </a:cubicBezTo>
                <a:cubicBezTo>
                  <a:pt x="2112" y="64"/>
                  <a:pt x="2168" y="96"/>
                  <a:pt x="2208" y="144"/>
                </a:cubicBezTo>
                <a:cubicBezTo>
                  <a:pt x="2248" y="192"/>
                  <a:pt x="2264" y="288"/>
                  <a:pt x="2256" y="336"/>
                </a:cubicBezTo>
                <a:cubicBezTo>
                  <a:pt x="2248" y="384"/>
                  <a:pt x="2328" y="408"/>
                  <a:pt x="2160" y="432"/>
                </a:cubicBezTo>
                <a:cubicBezTo>
                  <a:pt x="1992" y="456"/>
                  <a:pt x="1536" y="472"/>
                  <a:pt x="1248" y="480"/>
                </a:cubicBezTo>
                <a:cubicBezTo>
                  <a:pt x="960" y="488"/>
                  <a:pt x="632" y="520"/>
                  <a:pt x="432" y="480"/>
                </a:cubicBezTo>
                <a:cubicBezTo>
                  <a:pt x="232" y="440"/>
                  <a:pt x="96" y="320"/>
                  <a:pt x="48" y="240"/>
                </a:cubicBezTo>
                <a:cubicBezTo>
                  <a:pt x="0" y="160"/>
                  <a:pt x="72" y="80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200400" y="3733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辐射环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19400">
            <a:off x="5334120" y="3962520"/>
            <a:ext cx="609480" cy="4572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2145600">
            <a:off x="2895120" y="1981080"/>
            <a:ext cx="381240" cy="1676520"/>
          </a:xfrm>
          <a:prstGeom prst="ellipse">
            <a:avLst/>
          </a:prstGeom>
          <a:noFill/>
          <a:ln w="38160">
            <a:solidFill>
              <a:srgbClr val="00e4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981080" y="5029200"/>
            <a:ext cx="190512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133720" y="6019920"/>
            <a:ext cx="190476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1080" y="5257800"/>
            <a:ext cx="241560" cy="762120"/>
          </a:xfrm>
          <a:custGeom>
            <a:avLst/>
            <a:gdLst/>
            <a:ahLst/>
            <a:rect l="l" t="t" r="r" b="b"/>
            <a:pathLst>
              <a:path w="152" h="480">
                <a:moveTo>
                  <a:pt x="0" y="0"/>
                </a:moveTo>
                <a:cubicBezTo>
                  <a:pt x="36" y="52"/>
                  <a:pt x="72" y="104"/>
                  <a:pt x="96" y="144"/>
                </a:cubicBezTo>
                <a:cubicBezTo>
                  <a:pt x="120" y="184"/>
                  <a:pt x="136" y="200"/>
                  <a:pt x="144" y="240"/>
                </a:cubicBezTo>
                <a:cubicBezTo>
                  <a:pt x="152" y="280"/>
                  <a:pt x="152" y="344"/>
                  <a:pt x="144" y="384"/>
                </a:cubicBezTo>
                <a:cubicBezTo>
                  <a:pt x="136" y="424"/>
                  <a:pt x="116" y="452"/>
                  <a:pt x="96" y="4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5257800"/>
            <a:ext cx="22860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36" y="40"/>
                  <a:pt x="72" y="80"/>
                  <a:pt x="96" y="144"/>
                </a:cubicBezTo>
                <a:cubicBezTo>
                  <a:pt x="120" y="208"/>
                  <a:pt x="144" y="328"/>
                  <a:pt x="144" y="384"/>
                </a:cubicBezTo>
                <a:cubicBezTo>
                  <a:pt x="144" y="440"/>
                  <a:pt x="120" y="460"/>
                  <a:pt x="96" y="4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5029200"/>
            <a:ext cx="444600" cy="1219320"/>
          </a:xfrm>
          <a:custGeom>
            <a:avLst/>
            <a:gdLst/>
            <a:ahLst/>
            <a:rect l="l" t="t" r="r" b="b"/>
            <a:pathLst>
              <a:path w="280" h="768">
                <a:moveTo>
                  <a:pt x="0" y="0"/>
                </a:moveTo>
                <a:cubicBezTo>
                  <a:pt x="100" y="88"/>
                  <a:pt x="200" y="176"/>
                  <a:pt x="240" y="288"/>
                </a:cubicBezTo>
                <a:cubicBezTo>
                  <a:pt x="280" y="400"/>
                  <a:pt x="264" y="592"/>
                  <a:pt x="240" y="672"/>
                </a:cubicBezTo>
                <a:cubicBezTo>
                  <a:pt x="216" y="752"/>
                  <a:pt x="156" y="760"/>
                  <a:pt x="96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523880" y="55627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600200" y="57913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981080" y="601992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362320" y="63244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09880" y="63244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362320" y="647712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95480" y="63244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676520" y="58672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943600" y="54864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914400" y="4648320"/>
            <a:ext cx="4191120" cy="2133360"/>
          </a:xfrm>
          <a:prstGeom prst="ellipse">
            <a:avLst/>
          </a:prstGeom>
          <a:noFill/>
          <a:ln w="38160">
            <a:solidFill>
              <a:srgbClr val="00e4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511280" y="3124080"/>
            <a:ext cx="1155600" cy="1752840"/>
          </a:xfrm>
          <a:custGeom>
            <a:avLst/>
            <a:gdLst/>
            <a:ahLst/>
            <a:rect l="l" t="t" r="r" b="b"/>
            <a:pathLst>
              <a:path w="728" h="1104">
                <a:moveTo>
                  <a:pt x="728" y="0"/>
                </a:moveTo>
                <a:cubicBezTo>
                  <a:pt x="592" y="0"/>
                  <a:pt x="456" y="0"/>
                  <a:pt x="344" y="144"/>
                </a:cubicBezTo>
                <a:cubicBezTo>
                  <a:pt x="232" y="288"/>
                  <a:pt x="112" y="704"/>
                  <a:pt x="56" y="864"/>
                </a:cubicBezTo>
                <a:cubicBezTo>
                  <a:pt x="0" y="1024"/>
                  <a:pt x="4" y="1064"/>
                  <a:pt x="8" y="1104"/>
                </a:cubicBezTo>
              </a:path>
            </a:pathLst>
          </a:custGeom>
          <a:noFill/>
          <a:ln cap="rnd" w="38160">
            <a:solidFill>
              <a:srgbClr val="00e4a8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不同屏蔽层的传输阻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2209680" y="1905120"/>
            <a:ext cx="495324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209680" y="25146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209680" y="312408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209680" y="37339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209680" y="49528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209680" y="54864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04812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886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72428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56272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905120" y="6172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4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5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4008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37160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3880" y="5318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600200" y="4800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752480" y="4114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67652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600200" y="29559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523880" y="2362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447920" y="1752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16200000">
            <a:off x="-303480" y="3884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输阻抗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/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543800" y="6095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209680" y="1905120"/>
            <a:ext cx="4191120" cy="1473120"/>
          </a:xfrm>
          <a:custGeom>
            <a:avLst/>
            <a:gdLst/>
            <a:ahLst/>
            <a:rect l="l" t="t" r="r" b="b"/>
            <a:pathLst>
              <a:path w="2640" h="1024">
                <a:moveTo>
                  <a:pt x="0" y="1008"/>
                </a:moveTo>
                <a:cubicBezTo>
                  <a:pt x="460" y="1016"/>
                  <a:pt x="920" y="1024"/>
                  <a:pt x="1200" y="1008"/>
                </a:cubicBezTo>
                <a:cubicBezTo>
                  <a:pt x="1480" y="992"/>
                  <a:pt x="1512" y="1000"/>
                  <a:pt x="1680" y="912"/>
                </a:cubicBezTo>
                <a:cubicBezTo>
                  <a:pt x="1848" y="824"/>
                  <a:pt x="2048" y="632"/>
                  <a:pt x="2208" y="480"/>
                </a:cubicBezTo>
                <a:cubicBezTo>
                  <a:pt x="2368" y="328"/>
                  <a:pt x="2504" y="164"/>
                  <a:pt x="26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209680" y="2057400"/>
            <a:ext cx="4800600" cy="1574640"/>
          </a:xfrm>
          <a:custGeom>
            <a:avLst/>
            <a:gdLst/>
            <a:ahLst/>
            <a:rect l="l" t="t" r="r" b="b"/>
            <a:pathLst>
              <a:path w="3024" h="992">
                <a:moveTo>
                  <a:pt x="0" y="960"/>
                </a:moveTo>
                <a:cubicBezTo>
                  <a:pt x="680" y="976"/>
                  <a:pt x="1360" y="992"/>
                  <a:pt x="1728" y="960"/>
                </a:cubicBezTo>
                <a:cubicBezTo>
                  <a:pt x="2096" y="928"/>
                  <a:pt x="2080" y="840"/>
                  <a:pt x="2208" y="768"/>
                </a:cubicBezTo>
                <a:cubicBezTo>
                  <a:pt x="2336" y="696"/>
                  <a:pt x="2360" y="656"/>
                  <a:pt x="2496" y="528"/>
                </a:cubicBezTo>
                <a:cubicBezTo>
                  <a:pt x="2632" y="400"/>
                  <a:pt x="2828" y="200"/>
                  <a:pt x="3024" y="0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209680" y="2666880"/>
            <a:ext cx="4953240" cy="1371600"/>
          </a:xfrm>
          <a:custGeom>
            <a:avLst/>
            <a:gdLst/>
            <a:ahLst/>
            <a:rect l="l" t="t" r="r" b="b"/>
            <a:pathLst>
              <a:path w="3120" h="864">
                <a:moveTo>
                  <a:pt x="0" y="576"/>
                </a:moveTo>
                <a:cubicBezTo>
                  <a:pt x="496" y="596"/>
                  <a:pt x="992" y="616"/>
                  <a:pt x="1248" y="624"/>
                </a:cubicBezTo>
                <a:cubicBezTo>
                  <a:pt x="1504" y="632"/>
                  <a:pt x="1440" y="608"/>
                  <a:pt x="1536" y="624"/>
                </a:cubicBezTo>
                <a:cubicBezTo>
                  <a:pt x="1632" y="640"/>
                  <a:pt x="1720" y="680"/>
                  <a:pt x="1824" y="720"/>
                </a:cubicBezTo>
                <a:cubicBezTo>
                  <a:pt x="1928" y="760"/>
                  <a:pt x="2064" y="864"/>
                  <a:pt x="2160" y="864"/>
                </a:cubicBezTo>
                <a:cubicBezTo>
                  <a:pt x="2256" y="864"/>
                  <a:pt x="2296" y="800"/>
                  <a:pt x="2400" y="720"/>
                </a:cubicBezTo>
                <a:cubicBezTo>
                  <a:pt x="2504" y="640"/>
                  <a:pt x="2664" y="504"/>
                  <a:pt x="2784" y="384"/>
                </a:cubicBezTo>
                <a:cubicBezTo>
                  <a:pt x="2904" y="264"/>
                  <a:pt x="3012" y="132"/>
                  <a:pt x="312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209680" y="3784680"/>
            <a:ext cx="4648320" cy="2235240"/>
          </a:xfrm>
          <a:custGeom>
            <a:avLst/>
            <a:gdLst/>
            <a:ahLst/>
            <a:rect l="l" t="t" r="r" b="b"/>
            <a:pathLst>
              <a:path w="2928" h="1408">
                <a:moveTo>
                  <a:pt x="0" y="16"/>
                </a:moveTo>
                <a:cubicBezTo>
                  <a:pt x="492" y="8"/>
                  <a:pt x="984" y="0"/>
                  <a:pt x="1296" y="16"/>
                </a:cubicBezTo>
                <a:cubicBezTo>
                  <a:pt x="1608" y="32"/>
                  <a:pt x="1704" y="56"/>
                  <a:pt x="1872" y="112"/>
                </a:cubicBezTo>
                <a:cubicBezTo>
                  <a:pt x="2040" y="168"/>
                  <a:pt x="2176" y="264"/>
                  <a:pt x="2304" y="352"/>
                </a:cubicBezTo>
                <a:cubicBezTo>
                  <a:pt x="2432" y="440"/>
                  <a:pt x="2552" y="536"/>
                  <a:pt x="2640" y="640"/>
                </a:cubicBezTo>
                <a:cubicBezTo>
                  <a:pt x="2728" y="744"/>
                  <a:pt x="2784" y="848"/>
                  <a:pt x="2832" y="976"/>
                </a:cubicBezTo>
                <a:cubicBezTo>
                  <a:pt x="2880" y="1104"/>
                  <a:pt x="2904" y="1256"/>
                  <a:pt x="2928" y="14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209680" y="3276720"/>
            <a:ext cx="4953240" cy="1269720"/>
          </a:xfrm>
          <a:custGeom>
            <a:avLst/>
            <a:gdLst/>
            <a:ahLst/>
            <a:rect l="l" t="t" r="r" b="b"/>
            <a:pathLst>
              <a:path w="3120" h="800">
                <a:moveTo>
                  <a:pt x="0" y="432"/>
                </a:moveTo>
                <a:cubicBezTo>
                  <a:pt x="484" y="424"/>
                  <a:pt x="968" y="416"/>
                  <a:pt x="1248" y="432"/>
                </a:cubicBezTo>
                <a:cubicBezTo>
                  <a:pt x="1528" y="448"/>
                  <a:pt x="1552" y="480"/>
                  <a:pt x="1680" y="528"/>
                </a:cubicBezTo>
                <a:cubicBezTo>
                  <a:pt x="1808" y="576"/>
                  <a:pt x="1936" y="680"/>
                  <a:pt x="2016" y="720"/>
                </a:cubicBezTo>
                <a:cubicBezTo>
                  <a:pt x="2096" y="760"/>
                  <a:pt x="2104" y="776"/>
                  <a:pt x="2160" y="768"/>
                </a:cubicBezTo>
                <a:cubicBezTo>
                  <a:pt x="2216" y="760"/>
                  <a:pt x="2192" y="800"/>
                  <a:pt x="2352" y="672"/>
                </a:cubicBezTo>
                <a:cubicBezTo>
                  <a:pt x="2512" y="544"/>
                  <a:pt x="2816" y="272"/>
                  <a:pt x="3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209680" y="3886200"/>
            <a:ext cx="2438640" cy="2057400"/>
          </a:xfrm>
          <a:custGeom>
            <a:avLst/>
            <a:gdLst/>
            <a:ahLst/>
            <a:rect l="l" t="t" r="r" b="b"/>
            <a:pathLst>
              <a:path w="1536" h="1296">
                <a:moveTo>
                  <a:pt x="0" y="0"/>
                </a:moveTo>
                <a:cubicBezTo>
                  <a:pt x="220" y="48"/>
                  <a:pt x="440" y="96"/>
                  <a:pt x="624" y="192"/>
                </a:cubicBezTo>
                <a:cubicBezTo>
                  <a:pt x="808" y="288"/>
                  <a:pt x="952" y="392"/>
                  <a:pt x="1104" y="576"/>
                </a:cubicBezTo>
                <a:cubicBezTo>
                  <a:pt x="1256" y="760"/>
                  <a:pt x="1396" y="1028"/>
                  <a:pt x="1536" y="1296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209680" y="3886200"/>
            <a:ext cx="4953240" cy="1650960"/>
          </a:xfrm>
          <a:custGeom>
            <a:avLst/>
            <a:gdLst/>
            <a:ahLst/>
            <a:rect l="l" t="t" r="r" b="b"/>
            <a:pathLst>
              <a:path w="3120" h="1040">
                <a:moveTo>
                  <a:pt x="0" y="0"/>
                </a:moveTo>
                <a:cubicBezTo>
                  <a:pt x="368" y="80"/>
                  <a:pt x="736" y="160"/>
                  <a:pt x="960" y="240"/>
                </a:cubicBezTo>
                <a:cubicBezTo>
                  <a:pt x="1184" y="320"/>
                  <a:pt x="1232" y="376"/>
                  <a:pt x="1344" y="480"/>
                </a:cubicBezTo>
                <a:cubicBezTo>
                  <a:pt x="1456" y="584"/>
                  <a:pt x="1528" y="776"/>
                  <a:pt x="1632" y="864"/>
                </a:cubicBezTo>
                <a:cubicBezTo>
                  <a:pt x="1736" y="952"/>
                  <a:pt x="1896" y="984"/>
                  <a:pt x="1968" y="1008"/>
                </a:cubicBezTo>
                <a:cubicBezTo>
                  <a:pt x="2040" y="1032"/>
                  <a:pt x="1960" y="1040"/>
                  <a:pt x="2064" y="1008"/>
                </a:cubicBezTo>
                <a:cubicBezTo>
                  <a:pt x="2168" y="976"/>
                  <a:pt x="2416" y="904"/>
                  <a:pt x="2592" y="816"/>
                </a:cubicBezTo>
                <a:cubicBezTo>
                  <a:pt x="2768" y="728"/>
                  <a:pt x="2944" y="604"/>
                  <a:pt x="3120" y="48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181480" y="2057400"/>
            <a:ext cx="83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铝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238880" y="1752480"/>
            <a:ext cx="149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Times New Roman"/>
              </a:rPr>
              <a:t>单层编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238880" y="2452680"/>
            <a:ext cx="195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最佳单层编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315200" y="3124080"/>
            <a:ext cx="149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双层编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315200" y="4495680"/>
            <a:ext cx="177012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双层编织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一层</a:t>
            </a:r>
            <a:r>
              <a:rPr b="1" lang="zh-CN" sz="2000" spc="-1" strike="noStrike">
                <a:solidFill>
                  <a:srgbClr val="a50021"/>
                </a:solidFill>
                <a:latin typeface="Symbol"/>
                <a:ea typeface="Symbol"/>
              </a:rPr>
              <a:t>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</a:rPr>
              <a:t>金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双层编织 </a:t>
            </a: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+ </a:t>
            </a: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双层</a:t>
            </a:r>
            <a:r>
              <a:rPr b="0" lang="zh-CN" sz="1800" spc="-1" strike="noStrike">
                <a:solidFill>
                  <a:srgbClr val="6600ff"/>
                </a:solidFill>
                <a:latin typeface="Symbol"/>
                <a:ea typeface="Symbol"/>
              </a:rPr>
              <a:t></a:t>
            </a:r>
            <a:r>
              <a:rPr b="0" lang="zh-CN" sz="1800" spc="-1" strike="noStrike">
                <a:solidFill>
                  <a:srgbClr val="6600ff"/>
                </a:solidFill>
                <a:latin typeface="Times New Roman"/>
              </a:rPr>
              <a:t>金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91320" y="54864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实心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屏蔽层的错误接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1066680" y="2514600"/>
            <a:ext cx="1524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19320" y="2819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514600" y="2514600"/>
            <a:ext cx="763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965160" y="2514600"/>
            <a:ext cx="330120" cy="30492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16" y="0"/>
                </a:moveTo>
                <a:cubicBezTo>
                  <a:pt x="8" y="36"/>
                  <a:pt x="0" y="72"/>
                  <a:pt x="16" y="96"/>
                </a:cubicBezTo>
                <a:cubicBezTo>
                  <a:pt x="32" y="120"/>
                  <a:pt x="88" y="128"/>
                  <a:pt x="11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21337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19051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16765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14479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12193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2860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057400" y="2514600"/>
            <a:ext cx="15228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288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6002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3716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48120" y="1828800"/>
            <a:ext cx="1676160" cy="1752480"/>
          </a:xfrm>
          <a:custGeom>
            <a:avLst/>
            <a:gdLst/>
            <a:ahLst/>
            <a:rect l="l" t="t" r="r" b="b"/>
            <a:pathLst>
              <a:path w="1056" h="1104">
                <a:moveTo>
                  <a:pt x="816" y="0"/>
                </a:moveTo>
                <a:lnTo>
                  <a:pt x="0" y="0"/>
                </a:lnTo>
                <a:lnTo>
                  <a:pt x="0" y="1104"/>
                </a:lnTo>
                <a:lnTo>
                  <a:pt x="1056" y="1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343400" y="1828800"/>
            <a:ext cx="380880" cy="1752480"/>
          </a:xfrm>
          <a:custGeom>
            <a:avLst/>
            <a:gdLst/>
            <a:ahLst/>
            <a:rect l="l" t="t" r="r" b="b"/>
            <a:pathLst>
              <a:path w="320" h="1104">
                <a:moveTo>
                  <a:pt x="0" y="0"/>
                </a:moveTo>
                <a:cubicBezTo>
                  <a:pt x="0" y="160"/>
                  <a:pt x="0" y="320"/>
                  <a:pt x="48" y="432"/>
                </a:cubicBezTo>
                <a:cubicBezTo>
                  <a:pt x="96" y="544"/>
                  <a:pt x="256" y="592"/>
                  <a:pt x="288" y="672"/>
                </a:cubicBezTo>
                <a:cubicBezTo>
                  <a:pt x="320" y="752"/>
                  <a:pt x="240" y="840"/>
                  <a:pt x="240" y="912"/>
                </a:cubicBezTo>
                <a:cubicBezTo>
                  <a:pt x="240" y="984"/>
                  <a:pt x="264" y="1044"/>
                  <a:pt x="288" y="1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895480" y="2362320"/>
            <a:ext cx="228600" cy="53316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533160"/>
              <a:gd name="textAreaBottom" fmla="*/ 522000 h 533160"/>
            </a:gdLst>
            <a:ahLst/>
            <a:rect l="textAreaLeft" t="textAreaTop" r="textAreaRight" b="textAreaBottom"/>
            <a:pathLst>
              <a:path w="21600" h="50332">
                <a:moveTo>
                  <a:pt x="3600" y="0"/>
                </a:moveTo>
                <a:arcTo wR="3600" hR="3600" stAng="16200000" swAng="-5400000"/>
                <a:lnTo>
                  <a:pt x="0" y="46732"/>
                </a:lnTo>
                <a:arcTo wR="3600" hR="3600" stAng="10800000" swAng="-5400000"/>
                <a:lnTo>
                  <a:pt x="18000" y="50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14600" y="243828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cubicBezTo>
                  <a:pt x="28" y="132"/>
                  <a:pt x="56" y="120"/>
                  <a:pt x="96" y="96"/>
                </a:cubicBezTo>
                <a:cubicBezTo>
                  <a:pt x="136" y="72"/>
                  <a:pt x="188" y="36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514600" y="259092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48"/>
                </a:moveTo>
                <a:cubicBezTo>
                  <a:pt x="52" y="52"/>
                  <a:pt x="104" y="56"/>
                  <a:pt x="144" y="48"/>
                </a:cubicBezTo>
                <a:cubicBezTo>
                  <a:pt x="184" y="40"/>
                  <a:pt x="212" y="20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514600" y="2666880"/>
            <a:ext cx="38088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76" y="20"/>
                  <a:pt x="152" y="40"/>
                  <a:pt x="192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514600" y="2819520"/>
            <a:ext cx="533520" cy="342720"/>
          </a:xfrm>
          <a:custGeom>
            <a:avLst/>
            <a:gdLst/>
            <a:ahLst/>
            <a:rect l="l" t="t" r="r" b="b"/>
            <a:pathLst>
              <a:path w="336" h="216">
                <a:moveTo>
                  <a:pt x="0" y="0"/>
                </a:moveTo>
                <a:cubicBezTo>
                  <a:pt x="52" y="8"/>
                  <a:pt x="104" y="16"/>
                  <a:pt x="144" y="48"/>
                </a:cubicBezTo>
                <a:cubicBezTo>
                  <a:pt x="184" y="80"/>
                  <a:pt x="208" y="168"/>
                  <a:pt x="240" y="192"/>
                </a:cubicBezTo>
                <a:cubicBezTo>
                  <a:pt x="272" y="216"/>
                  <a:pt x="304" y="204"/>
                  <a:pt x="336" y="19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257800" y="2514600"/>
            <a:ext cx="12193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105520" y="2819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400800" y="2514600"/>
            <a:ext cx="763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60199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H="1">
            <a:off x="57913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5562720" y="2514600"/>
            <a:ext cx="30456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53341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51055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1722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9436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7150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4864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257800" y="2514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934320" y="1828800"/>
            <a:ext cx="1676160" cy="1752480"/>
          </a:xfrm>
          <a:custGeom>
            <a:avLst/>
            <a:gdLst/>
            <a:ahLst/>
            <a:rect l="l" t="t" r="r" b="b"/>
            <a:pathLst>
              <a:path w="1056" h="1104">
                <a:moveTo>
                  <a:pt x="816" y="0"/>
                </a:moveTo>
                <a:lnTo>
                  <a:pt x="0" y="0"/>
                </a:lnTo>
                <a:lnTo>
                  <a:pt x="0" y="1104"/>
                </a:lnTo>
                <a:lnTo>
                  <a:pt x="1056" y="1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29600" y="1828800"/>
            <a:ext cx="380880" cy="1752480"/>
          </a:xfrm>
          <a:custGeom>
            <a:avLst/>
            <a:gdLst/>
            <a:ahLst/>
            <a:rect l="l" t="t" r="r" b="b"/>
            <a:pathLst>
              <a:path w="320" h="1104">
                <a:moveTo>
                  <a:pt x="0" y="0"/>
                </a:moveTo>
                <a:cubicBezTo>
                  <a:pt x="0" y="160"/>
                  <a:pt x="0" y="320"/>
                  <a:pt x="48" y="432"/>
                </a:cubicBezTo>
                <a:cubicBezTo>
                  <a:pt x="96" y="544"/>
                  <a:pt x="256" y="592"/>
                  <a:pt x="288" y="672"/>
                </a:cubicBezTo>
                <a:cubicBezTo>
                  <a:pt x="320" y="752"/>
                  <a:pt x="240" y="840"/>
                  <a:pt x="240" y="912"/>
                </a:cubicBezTo>
                <a:cubicBezTo>
                  <a:pt x="240" y="984"/>
                  <a:pt x="264" y="1044"/>
                  <a:pt x="288" y="1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781680" y="2362320"/>
            <a:ext cx="228600" cy="6094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09480"/>
              <a:gd name="textAreaBottom" fmla="*/ 598320 h 609480"/>
            </a:gdLst>
            <a:ahLst/>
            <a:rect l="textAreaLeft" t="textAreaTop" r="textAreaRight" b="textAreaBottom"/>
            <a:pathLst>
              <a:path w="21600" h="57532">
                <a:moveTo>
                  <a:pt x="3600" y="0"/>
                </a:moveTo>
                <a:arcTo wR="3600" hR="3600" stAng="16200000" swAng="-5400000"/>
                <a:lnTo>
                  <a:pt x="0" y="53932"/>
                </a:lnTo>
                <a:arcTo wR="3600" hR="3600" stAng="10800000" swAng="-5400000"/>
                <a:lnTo>
                  <a:pt x="18000" y="57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400800" y="243828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cubicBezTo>
                  <a:pt x="28" y="132"/>
                  <a:pt x="56" y="120"/>
                  <a:pt x="96" y="96"/>
                </a:cubicBezTo>
                <a:cubicBezTo>
                  <a:pt x="136" y="72"/>
                  <a:pt x="188" y="36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400800" y="259092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48"/>
                </a:moveTo>
                <a:cubicBezTo>
                  <a:pt x="52" y="52"/>
                  <a:pt x="104" y="56"/>
                  <a:pt x="144" y="48"/>
                </a:cubicBezTo>
                <a:cubicBezTo>
                  <a:pt x="184" y="40"/>
                  <a:pt x="212" y="20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400800" y="2666880"/>
            <a:ext cx="38088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76" y="20"/>
                  <a:pt x="152" y="40"/>
                  <a:pt x="192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092560" y="2489040"/>
            <a:ext cx="165240" cy="330480"/>
          </a:xfrm>
          <a:custGeom>
            <a:avLst/>
            <a:gdLst/>
            <a:ahLst/>
            <a:rect l="l" t="t" r="r" b="b"/>
            <a:pathLst>
              <a:path w="104" h="208">
                <a:moveTo>
                  <a:pt x="8" y="208"/>
                </a:moveTo>
                <a:cubicBezTo>
                  <a:pt x="32" y="176"/>
                  <a:pt x="56" y="144"/>
                  <a:pt x="56" y="112"/>
                </a:cubicBezTo>
                <a:cubicBezTo>
                  <a:pt x="56" y="80"/>
                  <a:pt x="0" y="32"/>
                  <a:pt x="8" y="16"/>
                </a:cubicBezTo>
                <a:cubicBezTo>
                  <a:pt x="16" y="0"/>
                  <a:pt x="60" y="8"/>
                  <a:pt x="104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400800" y="2819520"/>
            <a:ext cx="380880" cy="1440"/>
          </a:xfrm>
          <a:custGeom>
            <a:avLst/>
            <a:gdLst/>
            <a:ahLst/>
            <a:rect l="l" t="t" r="r" b="b"/>
            <a:pathLst>
              <a:path w="240" h="1">
                <a:moveTo>
                  <a:pt x="0" y="0"/>
                </a:moveTo>
                <a:cubicBezTo>
                  <a:pt x="52" y="0"/>
                  <a:pt x="104" y="0"/>
                  <a:pt x="144" y="0"/>
                </a:cubicBezTo>
                <a:cubicBezTo>
                  <a:pt x="184" y="0"/>
                  <a:pt x="212" y="0"/>
                  <a:pt x="24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934320" y="281952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48" y="0"/>
                </a:moveTo>
                <a:cubicBezTo>
                  <a:pt x="120" y="4"/>
                  <a:pt x="192" y="8"/>
                  <a:pt x="192" y="48"/>
                </a:cubicBezTo>
                <a:cubicBezTo>
                  <a:pt x="192" y="88"/>
                  <a:pt x="80" y="184"/>
                  <a:pt x="48" y="240"/>
                </a:cubicBezTo>
                <a:cubicBezTo>
                  <a:pt x="16" y="296"/>
                  <a:pt x="8" y="340"/>
                  <a:pt x="0" y="384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124080" y="2438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24080" y="2514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24080" y="2590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240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124080" y="27432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24080" y="28195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010280" y="2514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010280" y="2590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0102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rot="4771200">
            <a:off x="7424280" y="2450880"/>
            <a:ext cx="304920" cy="609480"/>
          </a:xfrm>
          <a:prstGeom prst="lightningBolt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219320" y="4876920"/>
            <a:ext cx="1523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71600" y="51814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666880" y="4876920"/>
            <a:ext cx="763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117440" y="4876920"/>
            <a:ext cx="330480" cy="30456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16" y="0"/>
                </a:moveTo>
                <a:cubicBezTo>
                  <a:pt x="8" y="36"/>
                  <a:pt x="0" y="72"/>
                  <a:pt x="16" y="96"/>
                </a:cubicBezTo>
                <a:cubicBezTo>
                  <a:pt x="32" y="120"/>
                  <a:pt x="88" y="128"/>
                  <a:pt x="11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22856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20570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18284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15998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3712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438280" y="4876920"/>
            <a:ext cx="15264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209680" y="4876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981080" y="4876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752480" y="4876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523880" y="4876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200400" y="4191120"/>
            <a:ext cx="3276720" cy="2209680"/>
          </a:xfrm>
          <a:custGeom>
            <a:avLst/>
            <a:gdLst/>
            <a:ahLst/>
            <a:rect l="l" t="t" r="r" b="b"/>
            <a:pathLst>
              <a:path w="1056" h="1104">
                <a:moveTo>
                  <a:pt x="816" y="0"/>
                </a:moveTo>
                <a:lnTo>
                  <a:pt x="0" y="0"/>
                </a:lnTo>
                <a:lnTo>
                  <a:pt x="0" y="1104"/>
                </a:lnTo>
                <a:lnTo>
                  <a:pt x="1056" y="1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791320" y="4191120"/>
            <a:ext cx="685800" cy="2209680"/>
          </a:xfrm>
          <a:custGeom>
            <a:avLst/>
            <a:gdLst/>
            <a:ahLst/>
            <a:rect l="l" t="t" r="r" b="b"/>
            <a:pathLst>
              <a:path w="320" h="1104">
                <a:moveTo>
                  <a:pt x="0" y="0"/>
                </a:moveTo>
                <a:cubicBezTo>
                  <a:pt x="0" y="160"/>
                  <a:pt x="0" y="320"/>
                  <a:pt x="48" y="432"/>
                </a:cubicBezTo>
                <a:cubicBezTo>
                  <a:pt x="96" y="544"/>
                  <a:pt x="256" y="592"/>
                  <a:pt x="288" y="672"/>
                </a:cubicBezTo>
                <a:cubicBezTo>
                  <a:pt x="320" y="752"/>
                  <a:pt x="240" y="840"/>
                  <a:pt x="240" y="912"/>
                </a:cubicBezTo>
                <a:cubicBezTo>
                  <a:pt x="240" y="984"/>
                  <a:pt x="264" y="1044"/>
                  <a:pt x="288" y="1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48120" y="472428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666880" y="4800600"/>
            <a:ext cx="38124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cubicBezTo>
                  <a:pt x="28" y="132"/>
                  <a:pt x="56" y="120"/>
                  <a:pt x="96" y="96"/>
                </a:cubicBezTo>
                <a:cubicBezTo>
                  <a:pt x="136" y="72"/>
                  <a:pt x="188" y="36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666880" y="4952880"/>
            <a:ext cx="38124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48"/>
                </a:moveTo>
                <a:cubicBezTo>
                  <a:pt x="52" y="52"/>
                  <a:pt x="104" y="56"/>
                  <a:pt x="144" y="48"/>
                </a:cubicBezTo>
                <a:cubicBezTo>
                  <a:pt x="184" y="40"/>
                  <a:pt x="212" y="20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666880" y="5029200"/>
            <a:ext cx="38124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76" y="20"/>
                  <a:pt x="152" y="40"/>
                  <a:pt x="192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276720" y="4800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276720" y="4876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276720" y="5029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276720" y="51814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76720" y="5334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666880" y="5181480"/>
            <a:ext cx="381240" cy="16524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0"/>
                </a:moveTo>
                <a:cubicBezTo>
                  <a:pt x="28" y="44"/>
                  <a:pt x="56" y="88"/>
                  <a:pt x="96" y="96"/>
                </a:cubicBezTo>
                <a:cubicBezTo>
                  <a:pt x="136" y="104"/>
                  <a:pt x="188" y="76"/>
                  <a:pt x="240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581280" y="55627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14880" y="5334120"/>
            <a:ext cx="571320" cy="228600"/>
          </a:xfrm>
          <a:custGeom>
            <a:avLst/>
            <a:gdLst/>
            <a:ahLst/>
            <a:rect l="l" t="t" r="r" b="b"/>
            <a:pathLst>
              <a:path w="312" h="288">
                <a:moveTo>
                  <a:pt x="24" y="0"/>
                </a:moveTo>
                <a:cubicBezTo>
                  <a:pt x="12" y="60"/>
                  <a:pt x="0" y="120"/>
                  <a:pt x="24" y="144"/>
                </a:cubicBezTo>
                <a:cubicBezTo>
                  <a:pt x="48" y="168"/>
                  <a:pt x="120" y="120"/>
                  <a:pt x="168" y="144"/>
                </a:cubicBezTo>
                <a:cubicBezTo>
                  <a:pt x="216" y="168"/>
                  <a:pt x="264" y="228"/>
                  <a:pt x="312" y="28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rot="4771200">
            <a:off x="3809520" y="4876560"/>
            <a:ext cx="304920" cy="609480"/>
          </a:xfrm>
          <a:prstGeom prst="lightningBolt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733920" y="5791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962520" y="5562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962520" y="6248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733920" y="5835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电缆屏蔽层的正确端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1" name=""/>
          <p:cNvSpPr/>
          <p:nvPr/>
        </p:nvSpPr>
        <p:spPr>
          <a:xfrm>
            <a:off x="5562720" y="3505320"/>
            <a:ext cx="228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876920" y="3657600"/>
            <a:ext cx="533160" cy="1522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91320" y="3276720"/>
            <a:ext cx="4572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4008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162920" y="3200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248520" y="3352680"/>
            <a:ext cx="759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400800" y="3200400"/>
            <a:ext cx="228600" cy="15228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28" y="48"/>
                  <a:pt x="144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477120" y="416556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112"/>
                </a:moveTo>
                <a:cubicBezTo>
                  <a:pt x="12" y="72"/>
                  <a:pt x="24" y="32"/>
                  <a:pt x="48" y="16"/>
                </a:cubicBezTo>
                <a:cubicBezTo>
                  <a:pt x="72" y="0"/>
                  <a:pt x="108" y="8"/>
                  <a:pt x="144" y="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334120" y="3581280"/>
            <a:ext cx="2286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24280" y="5715000"/>
            <a:ext cx="1524240" cy="533520"/>
          </a:xfrm>
          <a:prstGeom prst="wedgeRoundRectCallout">
            <a:avLst>
              <a:gd name="adj1" fmla="val -8018"/>
              <a:gd name="adj2" fmla="val -39643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机械力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屏蔽层压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477120" y="5715000"/>
            <a:ext cx="1904760" cy="457200"/>
          </a:xfrm>
          <a:prstGeom prst="wedgeRoundRectCallout">
            <a:avLst>
              <a:gd name="adj1" fmla="val -72333"/>
              <a:gd name="adj2" fmla="val -39687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金属连接器护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800600" y="2666880"/>
            <a:ext cx="1143000" cy="381240"/>
          </a:xfrm>
          <a:prstGeom prst="wedgeRoundRectCallout">
            <a:avLst>
              <a:gd name="adj1" fmla="val 91527"/>
              <a:gd name="adj2" fmla="val 8125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指形簧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315200" y="3505320"/>
            <a:ext cx="76320" cy="53316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533160"/>
              <a:gd name="textAreaBottom" fmla="*/ 529560 h 533160"/>
            </a:gdLst>
            <a:ahLst/>
            <a:rect l="textAreaLeft" t="textAreaTop" r="textAreaRight" b="textAreaBottom"/>
            <a:pathLst>
              <a:path w="21600" h="150287">
                <a:moveTo>
                  <a:pt x="3600" y="0"/>
                </a:moveTo>
                <a:arcTo wR="3600" hR="3600" stAng="16200000" swAng="-5400000"/>
                <a:lnTo>
                  <a:pt x="0" y="146687"/>
                </a:lnTo>
                <a:arcTo wR="3600" hR="3600" stAng="10800000" swAng="-5400000"/>
                <a:lnTo>
                  <a:pt x="18000" y="150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391520" y="39625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391520" y="35812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391520" y="36576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391520" y="37339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391520" y="38098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391520" y="388620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934320" y="3352680"/>
            <a:ext cx="380880" cy="8384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38440"/>
              <a:gd name="textAreaBottom" fmla="*/ 820080 h 838440"/>
            </a:gdLst>
            <a:ahLst/>
            <a:rect l="textAreaLeft" t="textAreaTop" r="textAreaRight" b="textAreaBottom"/>
            <a:pathLst>
              <a:path w="21600" h="47524">
                <a:moveTo>
                  <a:pt x="3600" y="0"/>
                </a:moveTo>
                <a:arcTo wR="3600" hR="3600" stAng="16200000" swAng="-5400000"/>
                <a:lnTo>
                  <a:pt x="0" y="43924"/>
                </a:lnTo>
                <a:arcTo wR="3600" hR="3600" stAng="10800000" swAng="-5400000"/>
                <a:lnTo>
                  <a:pt x="18000" y="475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00800" y="2590920"/>
            <a:ext cx="1828800" cy="60948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lnTo>
                  <a:pt x="0" y="0"/>
                </a:lnTo>
                <a:lnTo>
                  <a:pt x="115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400800" y="4343400"/>
            <a:ext cx="1981080" cy="609480"/>
          </a:xfrm>
          <a:custGeom>
            <a:avLst/>
            <a:gdLst/>
            <a:ahLst/>
            <a:rect l="l" t="t" r="r" b="b"/>
            <a:pathLst>
              <a:path w="1248" h="384">
                <a:moveTo>
                  <a:pt x="0" y="0"/>
                </a:moveTo>
                <a:lnTo>
                  <a:pt x="0" y="384"/>
                </a:lnTo>
                <a:lnTo>
                  <a:pt x="1152" y="384"/>
                </a:lnTo>
                <a:lnTo>
                  <a:pt x="1248" y="3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88400" y="2590920"/>
            <a:ext cx="482400" cy="2361960"/>
          </a:xfrm>
          <a:custGeom>
            <a:avLst/>
            <a:gdLst/>
            <a:ahLst/>
            <a:rect l="l" t="t" r="r" b="b"/>
            <a:pathLst>
              <a:path w="304" h="1872">
                <a:moveTo>
                  <a:pt x="152" y="0"/>
                </a:moveTo>
                <a:cubicBezTo>
                  <a:pt x="92" y="172"/>
                  <a:pt x="32" y="344"/>
                  <a:pt x="56" y="576"/>
                </a:cubicBezTo>
                <a:cubicBezTo>
                  <a:pt x="80" y="808"/>
                  <a:pt x="304" y="1200"/>
                  <a:pt x="296" y="1392"/>
                </a:cubicBezTo>
                <a:cubicBezTo>
                  <a:pt x="288" y="1584"/>
                  <a:pt x="16" y="1648"/>
                  <a:pt x="8" y="1728"/>
                </a:cubicBezTo>
                <a:cubicBezTo>
                  <a:pt x="0" y="1808"/>
                  <a:pt x="124" y="1840"/>
                  <a:pt x="248" y="18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133720" y="3429000"/>
            <a:ext cx="761760" cy="91440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914400"/>
              <a:gd name="textAreaBottom" fmla="*/ 877320 h 914400"/>
            </a:gdLst>
            <a:ahLst/>
            <a:rect l="textAreaLeft" t="textAreaTop" r="textAreaRight" b="textAreaBottom"/>
            <a:pathLst>
              <a:path w="21600" h="25926">
                <a:moveTo>
                  <a:pt x="3600" y="0"/>
                </a:moveTo>
                <a:arcTo wR="3600" hR="3600" stAng="16200000" swAng="-5400000"/>
                <a:lnTo>
                  <a:pt x="0" y="22326"/>
                </a:lnTo>
                <a:arcTo wR="3600" hR="3600" stAng="10800000" swAng="-5400000"/>
                <a:lnTo>
                  <a:pt x="18000" y="25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666880" y="3200400"/>
            <a:ext cx="76320" cy="228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666880" y="4343400"/>
            <a:ext cx="76320" cy="228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695680" y="3124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6956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895480" y="3505320"/>
            <a:ext cx="76320" cy="76176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761760"/>
              <a:gd name="textAreaBottom" fmla="*/ 758160 h 761760"/>
            </a:gdLst>
            <a:ahLst/>
            <a:rect l="textAreaLeft" t="textAreaTop" r="textAreaRight" b="textAreaBottom"/>
            <a:pathLst>
              <a:path w="21600" h="214682">
                <a:moveTo>
                  <a:pt x="3600" y="0"/>
                </a:moveTo>
                <a:arcTo wR="3600" hR="3600" stAng="16200000" swAng="-5400000"/>
                <a:lnTo>
                  <a:pt x="0" y="211082"/>
                </a:lnTo>
                <a:arcTo wR="3600" hR="3600" stAng="10800000" swAng="-5400000"/>
                <a:lnTo>
                  <a:pt x="18000" y="21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1800" y="35812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971800" y="36576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971800" y="37339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971800" y="38098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971800" y="38862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971800" y="39625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971800" y="403848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971800" y="411480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971800" y="41911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371600" y="3352680"/>
            <a:ext cx="533520" cy="10670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067040"/>
              <a:gd name="textAreaBottom" fmla="*/ 1041120 h 1067040"/>
            </a:gdLst>
            <a:ahLst/>
            <a:rect l="textAreaLeft" t="textAreaTop" r="textAreaRight" b="textAreaBottom"/>
            <a:pathLst>
              <a:path w="21600" h="43185">
                <a:moveTo>
                  <a:pt x="3600" y="0"/>
                </a:moveTo>
                <a:arcTo wR="3600" hR="3600" stAng="16200000" swAng="-5400000"/>
                <a:lnTo>
                  <a:pt x="0" y="39585"/>
                </a:lnTo>
                <a:arcTo wR="3600" hR="3600" stAng="10800000" swAng="-5400000"/>
                <a:lnTo>
                  <a:pt x="18000" y="43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62120" y="358128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76320" y="3733920"/>
            <a:ext cx="685800" cy="30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33520" y="3657600"/>
            <a:ext cx="228600" cy="4572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457200"/>
              <a:gd name="textAreaBottom" fmla="*/ 446040 h 457200"/>
            </a:gdLst>
            <a:ahLst/>
            <a:rect l="textAreaLeft" t="textAreaTop" r="textAreaRight" b="textAreaBottom"/>
            <a:pathLst>
              <a:path w="21600" h="43166">
                <a:moveTo>
                  <a:pt x="3600" y="0"/>
                </a:moveTo>
                <a:arcTo wR="3600" hR="3600" stAng="16200000" swAng="-5400000"/>
                <a:lnTo>
                  <a:pt x="0" y="39566"/>
                </a:lnTo>
                <a:arcTo wR="3600" hR="3600" stAng="10800000" swAng="-5400000"/>
                <a:lnTo>
                  <a:pt x="18000" y="43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43828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5909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3623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2860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0880" y="5029200"/>
            <a:ext cx="1752840" cy="533520"/>
          </a:xfrm>
          <a:prstGeom prst="wedgeRoundRectCallout">
            <a:avLst>
              <a:gd name="adj1" fmla="val -36504"/>
              <a:gd name="adj2" fmla="val -21756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护套与屏蔽层端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286000" y="5943600"/>
            <a:ext cx="1523880" cy="380880"/>
          </a:xfrm>
          <a:prstGeom prst="wedgeRoundRectCallout">
            <a:avLst>
              <a:gd name="adj1" fmla="val -21768"/>
              <a:gd name="adj2" fmla="val -409999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导电弹性衬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09480" y="2666880"/>
            <a:ext cx="1524240" cy="381240"/>
          </a:xfrm>
          <a:prstGeom prst="wedgeRoundRectCallout">
            <a:avLst>
              <a:gd name="adj1" fmla="val 63856"/>
              <a:gd name="adj2" fmla="val 129166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连接器上紧螺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743200" y="2743200"/>
            <a:ext cx="1447920" cy="685800"/>
          </a:xfrm>
          <a:custGeom>
            <a:avLst/>
            <a:gdLst/>
            <a:ahLst/>
            <a:rect l="l" t="t" r="r" b="b"/>
            <a:pathLst>
              <a:path w="912" h="432">
                <a:moveTo>
                  <a:pt x="0" y="432"/>
                </a:moveTo>
                <a:lnTo>
                  <a:pt x="0" y="0"/>
                </a:lnTo>
                <a:lnTo>
                  <a:pt x="9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43200" y="4343400"/>
            <a:ext cx="1523880" cy="83808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0"/>
                </a:moveTo>
                <a:lnTo>
                  <a:pt x="0" y="528"/>
                </a:lnTo>
                <a:lnTo>
                  <a:pt x="960" y="5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19440" y="2743200"/>
            <a:ext cx="571680" cy="2438280"/>
          </a:xfrm>
          <a:custGeom>
            <a:avLst/>
            <a:gdLst/>
            <a:ahLst/>
            <a:rect l="l" t="t" r="r" b="b"/>
            <a:pathLst>
              <a:path w="360" h="1536">
                <a:moveTo>
                  <a:pt x="360" y="0"/>
                </a:moveTo>
                <a:cubicBezTo>
                  <a:pt x="204" y="176"/>
                  <a:pt x="48" y="352"/>
                  <a:pt x="24" y="528"/>
                </a:cubicBezTo>
                <a:cubicBezTo>
                  <a:pt x="0" y="704"/>
                  <a:pt x="192" y="912"/>
                  <a:pt x="216" y="1056"/>
                </a:cubicBezTo>
                <a:cubicBezTo>
                  <a:pt x="240" y="1200"/>
                  <a:pt x="144" y="1312"/>
                  <a:pt x="168" y="1392"/>
                </a:cubicBezTo>
                <a:cubicBezTo>
                  <a:pt x="192" y="1472"/>
                  <a:pt x="276" y="1504"/>
                  <a:pt x="360" y="15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400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524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航空连接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71500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连接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75960" y="765000"/>
            <a:ext cx="6761160" cy="7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干扰对电路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2590920"/>
            <a:ext cx="846000" cy="896760"/>
          </a:xfrm>
          <a:custGeom>
            <a:avLst/>
            <a:gdLst/>
            <a:ahLst/>
            <a:rect l="l" t="t" r="r" b="b"/>
            <a:pathLst>
              <a:path w="577" h="565">
                <a:moveTo>
                  <a:pt x="0" y="0"/>
                </a:moveTo>
                <a:lnTo>
                  <a:pt x="12" y="84"/>
                </a:lnTo>
                <a:lnTo>
                  <a:pt x="12" y="156"/>
                </a:lnTo>
                <a:lnTo>
                  <a:pt x="12" y="228"/>
                </a:lnTo>
                <a:lnTo>
                  <a:pt x="12" y="324"/>
                </a:lnTo>
                <a:lnTo>
                  <a:pt x="12" y="360"/>
                </a:lnTo>
                <a:lnTo>
                  <a:pt x="12" y="396"/>
                </a:lnTo>
                <a:lnTo>
                  <a:pt x="12" y="432"/>
                </a:lnTo>
                <a:lnTo>
                  <a:pt x="12" y="468"/>
                </a:lnTo>
                <a:lnTo>
                  <a:pt x="12" y="516"/>
                </a:lnTo>
                <a:lnTo>
                  <a:pt x="12" y="564"/>
                </a:lnTo>
                <a:lnTo>
                  <a:pt x="576" y="288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7400" y="2978280"/>
            <a:ext cx="12852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67080" y="3048120"/>
            <a:ext cx="29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76360" y="4343400"/>
            <a:ext cx="846000" cy="896760"/>
          </a:xfrm>
          <a:custGeom>
            <a:avLst/>
            <a:gdLst/>
            <a:ahLst/>
            <a:rect l="l" t="t" r="r" b="b"/>
            <a:pathLst>
              <a:path w="577" h="565">
                <a:moveTo>
                  <a:pt x="0" y="0"/>
                </a:moveTo>
                <a:lnTo>
                  <a:pt x="12" y="84"/>
                </a:lnTo>
                <a:lnTo>
                  <a:pt x="12" y="156"/>
                </a:lnTo>
                <a:lnTo>
                  <a:pt x="12" y="228"/>
                </a:lnTo>
                <a:lnTo>
                  <a:pt x="12" y="324"/>
                </a:lnTo>
                <a:lnTo>
                  <a:pt x="12" y="360"/>
                </a:lnTo>
                <a:lnTo>
                  <a:pt x="12" y="396"/>
                </a:lnTo>
                <a:lnTo>
                  <a:pt x="12" y="432"/>
                </a:lnTo>
                <a:lnTo>
                  <a:pt x="12" y="468"/>
                </a:lnTo>
                <a:lnTo>
                  <a:pt x="12" y="516"/>
                </a:lnTo>
                <a:lnTo>
                  <a:pt x="12" y="564"/>
                </a:lnTo>
                <a:lnTo>
                  <a:pt x="576" y="288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56240" y="4419720"/>
            <a:ext cx="846000" cy="896760"/>
          </a:xfrm>
          <a:custGeom>
            <a:avLst/>
            <a:gdLst/>
            <a:ahLst/>
            <a:rect l="l" t="t" r="r" b="b"/>
            <a:pathLst>
              <a:path w="577" h="565">
                <a:moveTo>
                  <a:pt x="0" y="0"/>
                </a:moveTo>
                <a:lnTo>
                  <a:pt x="12" y="84"/>
                </a:lnTo>
                <a:lnTo>
                  <a:pt x="12" y="156"/>
                </a:lnTo>
                <a:lnTo>
                  <a:pt x="12" y="228"/>
                </a:lnTo>
                <a:lnTo>
                  <a:pt x="12" y="324"/>
                </a:lnTo>
                <a:lnTo>
                  <a:pt x="12" y="360"/>
                </a:lnTo>
                <a:lnTo>
                  <a:pt x="12" y="396"/>
                </a:lnTo>
                <a:lnTo>
                  <a:pt x="12" y="432"/>
                </a:lnTo>
                <a:lnTo>
                  <a:pt x="12" y="468"/>
                </a:lnTo>
                <a:lnTo>
                  <a:pt x="12" y="516"/>
                </a:lnTo>
                <a:lnTo>
                  <a:pt x="12" y="564"/>
                </a:lnTo>
                <a:lnTo>
                  <a:pt x="576" y="288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6560" y="2590920"/>
            <a:ext cx="844560" cy="896760"/>
          </a:xfrm>
          <a:custGeom>
            <a:avLst/>
            <a:gdLst/>
            <a:ahLst/>
            <a:rect l="l" t="t" r="r" b="b"/>
            <a:pathLst>
              <a:path w="577" h="565">
                <a:moveTo>
                  <a:pt x="0" y="0"/>
                </a:moveTo>
                <a:lnTo>
                  <a:pt x="12" y="84"/>
                </a:lnTo>
                <a:lnTo>
                  <a:pt x="12" y="156"/>
                </a:lnTo>
                <a:lnTo>
                  <a:pt x="12" y="228"/>
                </a:lnTo>
                <a:lnTo>
                  <a:pt x="12" y="324"/>
                </a:lnTo>
                <a:lnTo>
                  <a:pt x="12" y="360"/>
                </a:lnTo>
                <a:lnTo>
                  <a:pt x="12" y="396"/>
                </a:lnTo>
                <a:lnTo>
                  <a:pt x="12" y="432"/>
                </a:lnTo>
                <a:lnTo>
                  <a:pt x="12" y="468"/>
                </a:lnTo>
                <a:lnTo>
                  <a:pt x="12" y="516"/>
                </a:lnTo>
                <a:lnTo>
                  <a:pt x="12" y="564"/>
                </a:lnTo>
                <a:lnTo>
                  <a:pt x="576" y="288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27400" y="4730760"/>
            <a:ext cx="12852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7280" y="4807080"/>
            <a:ext cx="12852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5800" y="2978280"/>
            <a:ext cx="128520" cy="139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67080" y="4800600"/>
            <a:ext cx="308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7280" y="3048120"/>
            <a:ext cx="55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46960" y="4876920"/>
            <a:ext cx="69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8640" y="3282840"/>
            <a:ext cx="0" cy="29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3581280"/>
            <a:ext cx="97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4320" y="3587760"/>
            <a:ext cx="11160" cy="20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98640" y="5035680"/>
            <a:ext cx="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5334120"/>
            <a:ext cx="9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5264280"/>
            <a:ext cx="128520" cy="1396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6840" y="327672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6840" y="335268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1840" y="3054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1840" y="3359160"/>
            <a:ext cx="0" cy="36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37000" y="3733920"/>
            <a:ext cx="41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6840" y="3809880"/>
            <a:ext cx="27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8480" y="3886200"/>
            <a:ext cx="12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2960" y="2814480"/>
            <a:ext cx="29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1720" y="2814480"/>
            <a:ext cx="29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42960" y="4643280"/>
            <a:ext cx="50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92680" y="4643280"/>
            <a:ext cx="4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48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4800600"/>
            <a:ext cx="48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27400" y="1911240"/>
            <a:ext cx="761760" cy="82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67080" y="213372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73360" y="2139840"/>
            <a:ext cx="0" cy="29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78040" y="2438280"/>
            <a:ext cx="20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4959360"/>
            <a:ext cx="609840" cy="67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11640" y="5099040"/>
            <a:ext cx="128520" cy="317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52760" y="5111640"/>
            <a:ext cx="128520" cy="292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1800" y="5410080"/>
            <a:ext cx="58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2440" y="5410080"/>
            <a:ext cx="1303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3080" y="334800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寄生电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8160" y="3892680"/>
            <a:ext cx="761760" cy="82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9440" y="4419720"/>
            <a:ext cx="1285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4107960"/>
            <a:ext cx="104760" cy="3114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121280"/>
            <a:ext cx="128520" cy="2919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10280" y="4419720"/>
            <a:ext cx="129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78040" y="6324480"/>
            <a:ext cx="41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6477120"/>
            <a:ext cx="12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9680" y="6400800"/>
            <a:ext cx="26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36760" y="3111480"/>
            <a:ext cx="2235240" cy="2984400"/>
          </a:xfrm>
          <a:custGeom>
            <a:avLst/>
            <a:gdLst/>
            <a:ahLst/>
            <a:rect l="l" t="t" r="r" b="b"/>
            <a:pathLst>
              <a:path w="1312" h="1496">
                <a:moveTo>
                  <a:pt x="1312" y="8"/>
                </a:moveTo>
                <a:cubicBezTo>
                  <a:pt x="984" y="4"/>
                  <a:pt x="656" y="0"/>
                  <a:pt x="448" y="8"/>
                </a:cubicBezTo>
                <a:cubicBezTo>
                  <a:pt x="240" y="16"/>
                  <a:pt x="128" y="32"/>
                  <a:pt x="64" y="56"/>
                </a:cubicBezTo>
                <a:cubicBezTo>
                  <a:pt x="0" y="80"/>
                  <a:pt x="24" y="128"/>
                  <a:pt x="64" y="152"/>
                </a:cubicBezTo>
                <a:cubicBezTo>
                  <a:pt x="104" y="176"/>
                  <a:pt x="240" y="184"/>
                  <a:pt x="304" y="200"/>
                </a:cubicBezTo>
                <a:cubicBezTo>
                  <a:pt x="368" y="216"/>
                  <a:pt x="424" y="192"/>
                  <a:pt x="448" y="248"/>
                </a:cubicBezTo>
                <a:cubicBezTo>
                  <a:pt x="472" y="304"/>
                  <a:pt x="448" y="376"/>
                  <a:pt x="448" y="536"/>
                </a:cubicBezTo>
                <a:cubicBezTo>
                  <a:pt x="448" y="696"/>
                  <a:pt x="448" y="1048"/>
                  <a:pt x="448" y="1208"/>
                </a:cubicBezTo>
                <a:cubicBezTo>
                  <a:pt x="448" y="1368"/>
                  <a:pt x="448" y="1432"/>
                  <a:pt x="448" y="1496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5638680"/>
            <a:ext cx="1522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6095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型连接器的屏蔽层搭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1828800"/>
            <a:ext cx="8153280" cy="4900680"/>
            <a:chOff x="533520" y="1828800"/>
            <a:chExt cx="8153280" cy="4900680"/>
          </a:xfrm>
        </p:grpSpPr>
        <p:pic>
          <p:nvPicPr>
            <p:cNvPr id="2149" name="000625g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8153280" cy="49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0" name=""/>
            <p:cNvSpPr/>
            <p:nvPr/>
          </p:nvSpPr>
          <p:spPr>
            <a:xfrm>
              <a:off x="914400" y="1905120"/>
              <a:ext cx="7772400" cy="457200"/>
            </a:xfrm>
            <a:prstGeom prst="rect">
              <a:avLst/>
            </a:prstGeom>
            <a:solidFill>
              <a:srgbClr val="cc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圆形连接器屏蔽层搭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2" name="000625h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01000" cy="4684680"/>
          </a:xfrm>
          <a:prstGeom prst="rect">
            <a:avLst/>
          </a:prstGeom>
          <a:ln w="0">
            <a:noFill/>
          </a:ln>
        </p:spPr>
      </p:pic>
      <p:sp>
        <p:nvSpPr>
          <p:cNvPr id="2153" name=""/>
          <p:cNvSpPr/>
          <p:nvPr/>
        </p:nvSpPr>
        <p:spPr>
          <a:xfrm>
            <a:off x="762120" y="1981080"/>
            <a:ext cx="7696080" cy="914400"/>
          </a:xfrm>
          <a:prstGeom prst="rect">
            <a:avLst/>
          </a:prstGeom>
          <a:solidFill>
            <a:srgbClr val="ccfdfc"/>
          </a:solidFill>
          <a:ln w="9360">
            <a:solidFill>
              <a:srgbClr val="ccf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接线端子上的屏蔽电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5" name="000625j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29600" cy="4591080"/>
          </a:xfrm>
          <a:prstGeom prst="rect">
            <a:avLst/>
          </a:prstGeom>
          <a:ln w="0">
            <a:noFill/>
          </a:ln>
        </p:spPr>
      </p:pic>
      <p:sp>
        <p:nvSpPr>
          <p:cNvPr id="2156" name=""/>
          <p:cNvSpPr/>
          <p:nvPr/>
        </p:nvSpPr>
        <p:spPr>
          <a:xfrm>
            <a:off x="609480" y="2133720"/>
            <a:ext cx="8229600" cy="685800"/>
          </a:xfrm>
          <a:prstGeom prst="rect">
            <a:avLst/>
          </a:prstGeom>
          <a:solidFill>
            <a:srgbClr val="dceef0"/>
          </a:solidFill>
          <a:ln w="9360">
            <a:solidFill>
              <a:srgbClr val="ccf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尽量减小小辨接法的危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8" name="000625l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4573800"/>
          </a:xfrm>
          <a:prstGeom prst="rect">
            <a:avLst/>
          </a:prstGeom>
          <a:ln w="0">
            <a:noFill/>
          </a:ln>
        </p:spPr>
      </p:pic>
      <p:sp>
        <p:nvSpPr>
          <p:cNvPr id="2159" name=""/>
          <p:cNvSpPr/>
          <p:nvPr/>
        </p:nvSpPr>
        <p:spPr>
          <a:xfrm>
            <a:off x="457200" y="2133720"/>
            <a:ext cx="8229600" cy="533160"/>
          </a:xfrm>
          <a:prstGeom prst="rect">
            <a:avLst/>
          </a:prstGeom>
          <a:solidFill>
            <a:srgbClr val="c0e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上的局部屏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838080" y="41590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523880" y="4006800"/>
            <a:ext cx="53352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219320" y="3625920"/>
            <a:ext cx="2209680" cy="990360"/>
          </a:xfrm>
          <a:custGeom>
            <a:avLst/>
            <a:gdLst/>
            <a:ahLst/>
            <a:rect l="l" t="t" r="r" b="b"/>
            <a:pathLst>
              <a:path w="1392" h="336">
                <a:moveTo>
                  <a:pt x="0" y="336"/>
                </a:moveTo>
                <a:lnTo>
                  <a:pt x="0" y="0"/>
                </a:lnTo>
                <a:lnTo>
                  <a:pt x="1392" y="0"/>
                </a:lnTo>
                <a:lnTo>
                  <a:pt x="1392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38080" y="431172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38080" y="46162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38080" y="44640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876920" y="4005360"/>
            <a:ext cx="2057400" cy="19810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029200" y="4157640"/>
            <a:ext cx="1752480" cy="16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781680" y="49197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781680" y="530064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05720" y="568152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781680" y="453852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705720" y="41576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876920" y="53006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876920" y="49197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952880" y="568152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876920" y="453852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52880" y="415764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400800" y="40053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019920" y="40053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638680" y="40053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257800" y="40053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400800" y="58341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019920" y="58341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638680" y="58341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57800" y="58341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86000" y="4006800"/>
            <a:ext cx="53352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57200" y="5683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利用一层铜箔做屏蔽盒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1219320" y="4616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666880" y="5943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屏蔽盒的接地间隔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4191120" y="5530680"/>
            <a:ext cx="60948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324480" y="4843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324480" y="4767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238880" y="5759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所有穿出屏蔽盒的导线经过滤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7162560" y="4919760"/>
            <a:ext cx="685800" cy="9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553080" y="45403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410080" y="4464000"/>
            <a:ext cx="2286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943600" y="4464000"/>
            <a:ext cx="2286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486400" y="5226120"/>
            <a:ext cx="60948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172200" y="2254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629400" y="2178000"/>
            <a:ext cx="22860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629400" y="2254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629400" y="2482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172200" y="2711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29400" y="2635200"/>
            <a:ext cx="22860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629400" y="2711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29400" y="2940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934320" y="1720800"/>
            <a:ext cx="304560" cy="17524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0" y="144"/>
                </a:moveTo>
                <a:lnTo>
                  <a:pt x="0" y="1056"/>
                </a:lnTo>
                <a:lnTo>
                  <a:pt x="96" y="1104"/>
                </a:lnTo>
                <a:lnTo>
                  <a:pt x="96" y="0"/>
                </a:lnTo>
                <a:lnTo>
                  <a:pt x="0" y="14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943600" y="1568520"/>
            <a:ext cx="1828800" cy="2133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010280" y="3473280"/>
            <a:ext cx="444600" cy="1143000"/>
          </a:xfrm>
          <a:custGeom>
            <a:avLst/>
            <a:gdLst/>
            <a:ahLst/>
            <a:rect l="l" t="t" r="r" b="b"/>
            <a:pathLst>
              <a:path w="280" h="720">
                <a:moveTo>
                  <a:pt x="0" y="720"/>
                </a:moveTo>
                <a:cubicBezTo>
                  <a:pt x="100" y="660"/>
                  <a:pt x="200" y="600"/>
                  <a:pt x="240" y="480"/>
                </a:cubicBezTo>
                <a:cubicBezTo>
                  <a:pt x="280" y="360"/>
                  <a:pt x="260" y="180"/>
                  <a:pt x="2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7010280" y="187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010280" y="3016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91120" y="2649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片状电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5334120" y="2406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334120" y="2863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线路板走线的电感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666880"/>
            <a:ext cx="5486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 = 0.002S(2.3lg ( 2S / W ) + 0.5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2895480"/>
            <a:ext cx="1066680" cy="152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33520" y="1981080"/>
            <a:ext cx="2514600" cy="9144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00200" y="1981080"/>
            <a:ext cx="2286000" cy="9144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600200" y="2133720"/>
            <a:ext cx="2286000" cy="9144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124080"/>
            <a:ext cx="0" cy="381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124080"/>
            <a:ext cx="0" cy="381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335268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3336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76520" y="2362320"/>
            <a:ext cx="21333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27273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867200"/>
            <a:ext cx="4876920" cy="1723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 = (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 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) / (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- 2M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= ( 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+ M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257800"/>
            <a:ext cx="609480" cy="763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5257800"/>
            <a:ext cx="609480" cy="763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85800" y="403812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295280" y="403812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403812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971800" y="403812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971800" y="411444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295280" y="4114440"/>
            <a:ext cx="18288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4648320"/>
            <a:ext cx="1219320" cy="38088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88" y="32"/>
                  <a:pt x="176" y="0"/>
                  <a:pt x="240" y="16"/>
                </a:cubicBezTo>
                <a:cubicBezTo>
                  <a:pt x="304" y="32"/>
                  <a:pt x="344" y="96"/>
                  <a:pt x="384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46324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362320" y="3657600"/>
            <a:ext cx="91440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733920" y="3886200"/>
            <a:ext cx="91440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2800"/>
            <a:ext cx="7207560" cy="77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地线网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3881520"/>
            <a:ext cx="3595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87680" y="2286000"/>
            <a:ext cx="5768640" cy="3505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20920" y="2895480"/>
            <a:ext cx="1055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05160" y="3048120"/>
            <a:ext cx="71280" cy="75960"/>
          </a:xfrm>
          <a:custGeom>
            <a:avLst/>
            <a:gdLst>
              <a:gd name="textAreaLeft" fmla="*/ 3240 w 71280"/>
              <a:gd name="textAreaRight" fmla="*/ 68040 w 7128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011">
                <a:moveTo>
                  <a:pt x="3600" y="0"/>
                </a:moveTo>
                <a:arcTo wR="3600" hR="3600" stAng="16200000" swAng="-5400000"/>
                <a:lnTo>
                  <a:pt x="0" y="19411"/>
                </a:lnTo>
                <a:arcTo wR="3600" hR="3600" stAng="10800000" swAng="-5400000"/>
                <a:lnTo>
                  <a:pt x="18000" y="23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79880" y="2895480"/>
            <a:ext cx="10540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7560" y="2895480"/>
            <a:ext cx="1055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67560" y="3809880"/>
            <a:ext cx="1055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79880" y="3809880"/>
            <a:ext cx="10540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20920" y="3809880"/>
            <a:ext cx="1055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0920" y="4648320"/>
            <a:ext cx="1055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79880" y="4648320"/>
            <a:ext cx="10540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67560" y="4648320"/>
            <a:ext cx="1055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05160" y="3962520"/>
            <a:ext cx="71280" cy="75960"/>
          </a:xfrm>
          <a:custGeom>
            <a:avLst/>
            <a:gdLst>
              <a:gd name="textAreaLeft" fmla="*/ 3240 w 71280"/>
              <a:gd name="textAreaRight" fmla="*/ 68040 w 7128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011">
                <a:moveTo>
                  <a:pt x="3600" y="0"/>
                </a:moveTo>
                <a:arcTo wR="3600" hR="3600" stAng="16200000" swAng="-5400000"/>
                <a:lnTo>
                  <a:pt x="0" y="19411"/>
                </a:lnTo>
                <a:arcTo wR="3600" hR="3600" stAng="10800000" swAng="-5400000"/>
                <a:lnTo>
                  <a:pt x="18000" y="23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05160" y="4800600"/>
            <a:ext cx="71280" cy="76320"/>
          </a:xfrm>
          <a:custGeom>
            <a:avLst/>
            <a:gdLst>
              <a:gd name="textAreaLeft" fmla="*/ 3240 w 71280"/>
              <a:gd name="textAreaRight" fmla="*/ 68040 w 71280"/>
              <a:gd name="textAreaTop" fmla="*/ 3240 h 76320"/>
              <a:gd name="textAreaBottom" fmla="*/ 73080 h 76320"/>
            </a:gdLst>
            <a:ahLst/>
            <a:rect l="textAreaLeft" t="textAreaTop" r="textAreaRight" b="textAreaBottom"/>
            <a:pathLst>
              <a:path w="21600" h="23120">
                <a:moveTo>
                  <a:pt x="3600" y="0"/>
                </a:moveTo>
                <a:arcTo wR="3600" hR="3600" stAng="16200000" swAng="-5400000"/>
                <a:lnTo>
                  <a:pt x="0" y="19520"/>
                </a:lnTo>
                <a:arcTo wR="3600" hR="3600" stAng="10800000" swAng="-5400000"/>
                <a:lnTo>
                  <a:pt x="18000" y="2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64120" y="4800600"/>
            <a:ext cx="69840" cy="7632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6320"/>
              <a:gd name="textAreaBottom" fmla="*/ 73080 h 76320"/>
            </a:gdLst>
            <a:ahLst/>
            <a:rect l="textAreaLeft" t="textAreaTop" r="textAreaRight" b="textAreaBottom"/>
            <a:pathLst>
              <a:path w="21600" h="23594">
                <a:moveTo>
                  <a:pt x="3600" y="0"/>
                </a:moveTo>
                <a:arcTo wR="3600" hR="3600" stAng="16200000" swAng="-5400000"/>
                <a:lnTo>
                  <a:pt x="0" y="19994"/>
                </a:lnTo>
                <a:arcTo wR="3600" hR="3600" stAng="10800000" swAng="-5400000"/>
                <a:lnTo>
                  <a:pt x="18000" y="235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64120" y="3962520"/>
            <a:ext cx="69840" cy="7596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483">
                <a:moveTo>
                  <a:pt x="3600" y="0"/>
                </a:moveTo>
                <a:arcTo wR="3600" hR="3600" stAng="16200000" swAng="-5400000"/>
                <a:lnTo>
                  <a:pt x="0" y="19883"/>
                </a:lnTo>
                <a:arcTo wR="3600" hR="3600" stAng="10800000" swAng="-5400000"/>
                <a:lnTo>
                  <a:pt x="18000" y="234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64120" y="3048120"/>
            <a:ext cx="69840" cy="7596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483">
                <a:moveTo>
                  <a:pt x="3600" y="0"/>
                </a:moveTo>
                <a:arcTo wR="3600" hR="3600" stAng="16200000" swAng="-5400000"/>
                <a:lnTo>
                  <a:pt x="0" y="19883"/>
                </a:lnTo>
                <a:arcTo wR="3600" hR="3600" stAng="10800000" swAng="-5400000"/>
                <a:lnTo>
                  <a:pt x="18000" y="234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53240" y="3048120"/>
            <a:ext cx="69840" cy="7596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483">
                <a:moveTo>
                  <a:pt x="3600" y="0"/>
                </a:moveTo>
                <a:arcTo wR="3600" hR="3600" stAng="16200000" swAng="-5400000"/>
                <a:lnTo>
                  <a:pt x="0" y="19883"/>
                </a:lnTo>
                <a:arcTo wR="3600" hR="3600" stAng="10800000" swAng="-5400000"/>
                <a:lnTo>
                  <a:pt x="18000" y="234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53240" y="3962520"/>
            <a:ext cx="69840" cy="7596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5960"/>
              <a:gd name="textAreaBottom" fmla="*/ 72720 h 75960"/>
            </a:gdLst>
            <a:ahLst/>
            <a:rect l="textAreaLeft" t="textAreaTop" r="textAreaRight" b="textAreaBottom"/>
            <a:pathLst>
              <a:path w="21600" h="23483">
                <a:moveTo>
                  <a:pt x="3600" y="0"/>
                </a:moveTo>
                <a:arcTo wR="3600" hR="3600" stAng="16200000" swAng="-5400000"/>
                <a:lnTo>
                  <a:pt x="0" y="19883"/>
                </a:lnTo>
                <a:arcTo wR="3600" hR="3600" stAng="10800000" swAng="-5400000"/>
                <a:lnTo>
                  <a:pt x="18000" y="234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53240" y="4800600"/>
            <a:ext cx="69840" cy="76320"/>
          </a:xfrm>
          <a:custGeom>
            <a:avLst/>
            <a:gdLst>
              <a:gd name="textAreaLeft" fmla="*/ 3240 w 69840"/>
              <a:gd name="textAreaRight" fmla="*/ 66600 w 69840"/>
              <a:gd name="textAreaTop" fmla="*/ 3240 h 76320"/>
              <a:gd name="textAreaBottom" fmla="*/ 73080 h 76320"/>
            </a:gdLst>
            <a:ahLst/>
            <a:rect l="textAreaLeft" t="textAreaTop" r="textAreaRight" b="textAreaBottom"/>
            <a:pathLst>
              <a:path w="21600" h="23594">
                <a:moveTo>
                  <a:pt x="3600" y="0"/>
                </a:moveTo>
                <a:arcTo wR="3600" hR="3600" stAng="16200000" swAng="-5400000"/>
                <a:lnTo>
                  <a:pt x="0" y="19994"/>
                </a:lnTo>
                <a:arcTo wR="3600" hR="3600" stAng="10800000" swAng="-5400000"/>
                <a:lnTo>
                  <a:pt x="18000" y="235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8640" y="3048120"/>
            <a:ext cx="211320" cy="236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09960" y="5257800"/>
            <a:ext cx="492408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39760" y="3048120"/>
            <a:ext cx="2811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76440" y="3048120"/>
            <a:ext cx="70344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33960" y="3048120"/>
            <a:ext cx="63360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34040" y="3048120"/>
            <a:ext cx="211320" cy="23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23080" y="3048120"/>
            <a:ext cx="2109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39760" y="3962520"/>
            <a:ext cx="2811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39760" y="4800600"/>
            <a:ext cx="2811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76440" y="3962520"/>
            <a:ext cx="70344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76440" y="4800600"/>
            <a:ext cx="70344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3960" y="4800600"/>
            <a:ext cx="63360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33960" y="3962520"/>
            <a:ext cx="63360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23080" y="3962520"/>
            <a:ext cx="2109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23080" y="4800600"/>
            <a:ext cx="21096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3124080"/>
            <a:ext cx="6984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16560" y="3124080"/>
            <a:ext cx="6984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6560" y="3962520"/>
            <a:ext cx="6984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4038480"/>
            <a:ext cx="69840" cy="12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9440" y="30481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392436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30481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30481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39625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48006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52578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0481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396252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48006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2578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4880" y="3962520"/>
            <a:ext cx="15228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19440" y="48006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59320" y="5219640"/>
            <a:ext cx="15264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59320" y="4800600"/>
            <a:ext cx="152640" cy="1522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杨继深   2004年5月   电话：010-68386283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6:43:17Z</dcterms:created>
  <dc:creator>天亦通</dc:creator>
  <dc:description/>
  <dc:language>en-US</dc:language>
  <cp:lastModifiedBy>Billgates</cp:lastModifiedBy>
  <dcterms:modified xsi:type="dcterms:W3CDTF">2004-05-08T04:00:25Z</dcterms:modified>
  <cp:revision>294</cp:revision>
  <dc:subject/>
  <dc:title>第五部分 PCB的电磁兼容设计</dc:title>
</cp:coreProperties>
</file>