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3.wmf" ContentType="image/x-wmf"/>
  <Override PartName="/ppt/media/image28.png" ContentType="image/png"/>
  <Override PartName="/ppt/media/image31.wmf" ContentType="image/x-wmf"/>
  <Override PartName="/ppt/media/image6.wmf" ContentType="image/x-wmf"/>
  <Override PartName="/ppt/media/image33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8.wmf" ContentType="image/x-wmf"/>
  <Override PartName="/ppt/media/image40.png" ContentType="image/png"/>
  <Override PartName="/ppt/media/image41.png" ContentType="image/png"/>
  <Override PartName="/ppt/media/image9.wmf" ContentType="image/x-wmf"/>
  <Override PartName="/ppt/media/image39.png" ContentType="image/png"/>
  <Override PartName="/ppt/media/image42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2F7-76C2-4338-8892-28265E51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7920" y="301716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0FD-CD29-47ED-88B7-67D3F75D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7360" y="10666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7920" y="301716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7360" y="301716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F68-10A2-48B5-9EF2-48A950C6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5560" y="10666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3200" y="106668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7920" y="301716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5560" y="301716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3200" y="3017160"/>
            <a:ext cx="233064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93F-8528-46A2-AD44-768E22BC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7920" y="1066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5E3-01D8-41A1-8BB8-397F5AD8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DA4-C9F0-4ECB-A2BD-11725B4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7360" y="106668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277-62DC-45CF-96F8-3E3ED6E7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544-8AED-463D-97CE-22CD091A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7920" y="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D35-7557-49AB-9D98-841B65F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7360" y="106668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7920" y="301716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AA5-687B-4F1B-B830-EA07AFA4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5323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7360" y="10666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7360" y="301716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C1AA-1107-45B6-B63E-C561096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7360" y="1066680"/>
            <a:ext cx="353232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7920" y="3017160"/>
            <a:ext cx="723888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E35-B022-4543-9E92-3C08908E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06668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550"/>
              </a:spcBef>
              <a:buClr>
                <a:srgbClr val="000000"/>
              </a:buClr>
              <a:buSzPct val="50000"/>
              <a:buFont typeface="ZapfDingbats BT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57913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920" y="57913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84F4-A08B-4B36-9199-911CB28E83E0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838080"/>
            <a:ext cx="716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57434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295640" cy="10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Forward Reset Technique Using the UCC2891 PWM Control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286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819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510552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ve Map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419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Timing - Reso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1143000"/>
          <a:ext cx="2970360" cy="43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297036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9880" y="3429000"/>
          <a:ext cx="5181480" cy="1228680"/>
        </p:xfrm>
        <a:graphic>
          <a:graphicData uri="http://schemas.openxmlformats.org/drawingml/2006/table">
            <a:tbl>
              <a:tblPr/>
              <a:tblGrid>
                <a:gridCol w="838080"/>
                <a:gridCol w="592200"/>
                <a:gridCol w="55080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Z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Z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733920" y="487692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3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4 Dominant L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4 – Body-Diode Con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1 – Body-Diode Conduction (Magnetizing Current 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4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0 Repe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87640" y="990720"/>
          <a:ext cx="4570560" cy="22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7640" y="990720"/>
                    <a:ext cx="457056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1 Turn-On ZVS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04920" y="990720"/>
          <a:ext cx="4800600" cy="28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48006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52280" y="4437000"/>
                <a:ext cx="1658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52280" y="4894200"/>
                <a:ext cx="2895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Q</m:t>
                        </m:r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S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280" y="5454720"/>
                <a:ext cx="16002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486400" y="1317600"/>
                <a:ext cx="13716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la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48320" y="400680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1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dentify Main ZVS Parasitic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1960" y="92880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2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efine Dela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89920" y="207180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3.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Q1 Turn-On ZVS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86400" y="2878200"/>
                <a:ext cx="12952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6935760" y="287820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Turn-On Z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486400" y="3427560"/>
                <a:ext cx="1219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7856640" y="47847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343400" y="3909960"/>
                <a:ext cx="46864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u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l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43400" y="4708440"/>
                <a:ext cx="33526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l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229600" y="4861080"/>
                <a:ext cx="762120" cy="30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6935040" y="34131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343400" y="5470560"/>
                <a:ext cx="2133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g</m:t>
                        </m:r>
                      </m:sub>
                    </m:sSub>
                    <m:r>
                      <m:t xml:space="preserve">&gt;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l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g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630480" y="543888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ght Load, High 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VS Not Alway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1520" y="245268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Turn-Off Z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1 ZVS Simplif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12840" y="990720"/>
          <a:ext cx="357336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990720"/>
                    <a:ext cx="357336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435560" y="990720"/>
          <a:ext cx="3565440" cy="20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35560" y="990720"/>
                    <a:ext cx="35654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57200" y="29718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nant Cycle at Q1 Turn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VS Achieved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10160" y="2971800"/>
            <a:ext cx="4533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nant Cycle at Q1 Turn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Achieve Z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nant Capacitance Naturally Discharges in Same Direction as Resonan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nant Current dominated by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M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MA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eak at Q1 Turn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90720" y="3664080"/>
                <a:ext cx="2286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7200" y="43434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in Set Dela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roducing the UCC2891/2/3/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72200" y="990720"/>
            <a:ext cx="2971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 a UCC3580 Re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 Mo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ycle by Cycle Current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dicated AUX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able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e Max Duty Cycle Cl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able Internal Slope Compen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ynchronizable Osc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V Internal Start-Up 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able Soft-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able Line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ueDrive 2A Sink Sourc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94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/1/2/3/4 Part 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4191120"/>
            <a:ext cx="4267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/1/2/3/4 Targeted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rchant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8-V Telecom Power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com and General 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2-V Automotive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f-Line Power Conver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4191120"/>
            <a:ext cx="4267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ically Limited to 6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Fl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ically Limited to 200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3520" y="990720"/>
          <a:ext cx="8000640" cy="3047400"/>
        </p:xfrm>
        <a:graphic>
          <a:graphicData uri="http://schemas.openxmlformats.org/drawingml/2006/table">
            <a:tbl>
              <a:tblPr/>
              <a:tblGrid>
                <a:gridCol w="1425600"/>
                <a:gridCol w="1346760"/>
                <a:gridCol w="3802680"/>
                <a:gridCol w="14256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 Startup Circ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CS Threshold + Slope Co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CC28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4-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 Input DC/DC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CC2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Off-line or Low Input Voltage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.2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CC2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4-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 Input DC/DC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0.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CC2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Off-line or Low Input Voltage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.2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 EV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197000" y="914400"/>
            <a:ext cx="2841480" cy="28954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04480" y="3886200"/>
            <a:ext cx="47624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M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00W Half Br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lf-Driven Synchronous Rec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VS High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y Low Component 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w Input Line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 Short Circuit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gulates to Zero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7660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19640" y="3962520"/>
            <a:ext cx="3543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6V &lt;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&lt; 7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A &lt;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&lt; 30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3.3V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3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 Reg &lt; 0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ad Reg &lt; 0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114800" y="838080"/>
          <a:ext cx="4724280" cy="3048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838080"/>
                    <a:ext cx="47242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 EVM Schema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7660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5800" y="906480"/>
            <a:ext cx="77724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 Transformer Wav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Transformer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 Operate in Third Quadrant (Q3) of BH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mary Magnetizing Current goes Negative for Z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ΔB Same as RCD Cl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ign for Core Loss Limit not Saturation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53400" y="1371600"/>
            <a:ext cx="738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48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79680" y="2819520"/>
            <a:ext cx="7808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OU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1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rcRect l="0" t="0" r="0" b="3090"/>
          <a:stretch/>
        </p:blipFill>
        <p:spPr>
          <a:xfrm>
            <a:off x="5105520" y="990720"/>
            <a:ext cx="3657600" cy="3182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6095880" y="1066680"/>
                <a:ext cx="60984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∝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8001000" y="2676600"/>
                <a:ext cx="609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∝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 flipV="1">
            <a:off x="762120" y="1219320"/>
            <a:ext cx="0" cy="2666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371600" y="1219320"/>
            <a:ext cx="0" cy="266688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7760" y="1279440"/>
            <a:ext cx="73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1000" y="3200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91000" y="1295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10520" y="12952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10520" y="32004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EVM Clamp Voltage Li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4343040"/>
            <a:ext cx="2819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n=36V, Iout=1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max=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lamp=89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27160" y="1066680"/>
            <a:ext cx="4268520" cy="32004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646520" y="106668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24280" y="4343400"/>
            <a:ext cx="2819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n=72V, Iout=1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min=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lamp=102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3429000"/>
            <a:ext cx="51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14600" y="2666880"/>
            <a:ext cx="51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1981080"/>
            <a:ext cx="51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02560" y="3429000"/>
            <a:ext cx="51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P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02560" y="2666880"/>
            <a:ext cx="51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02560" y="1981080"/>
            <a:ext cx="51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er Design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Transformer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urns Ratio Effect on Clamp Voltage (V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urns Ratio Effect on SR Gate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2280" y="1068480"/>
          <a:ext cx="4565880" cy="253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8480"/>
                    <a:ext cx="456588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867280" y="3130560"/>
                <a:ext cx="110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g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03920" y="4552920"/>
            <a:ext cx="223344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N=6, 36V&lt;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72V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6V&lt;Vgs(QF)&lt;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.5V&lt;Vgs(QR)&lt;8.5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800600" y="990720"/>
          <a:ext cx="4191120" cy="200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990720"/>
                    <a:ext cx="41911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867280" y="3809880"/>
                <a:ext cx="28958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g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ET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2286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819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143000"/>
            <a:ext cx="7620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itional Transformer Rese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rd Winding, RCD Clamp, Resonant 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Reset Forward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gh Side Cl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w Side Cl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ing Di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VS Design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roducing the UCC2891/2/3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eatures, Part Differences,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 E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Operation and Performanc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er Design Consid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mary and Secondary Gate Dr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VS Wave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sible Performance Improv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ference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 Final Though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EVM SR Gate Dr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267080" y="914400"/>
          <a:ext cx="4191120" cy="303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914400"/>
                    <a:ext cx="419112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304920" y="9144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306360" y="3581280"/>
            <a:ext cx="3656160" cy="2743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12360" y="1143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N=36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2360" y="384012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IN=72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3080" y="220968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GS(Q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2720" y="307800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GS(Q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3080" y="490680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GS(Q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2720" y="574524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GS(Q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4267080" y="4119480"/>
          <a:ext cx="4114440" cy="1671840"/>
        </p:xfrm>
        <a:graphic>
          <a:graphicData uri="http://schemas.openxmlformats.org/drawingml/2006/table">
            <a:tbl>
              <a:tblPr/>
              <a:tblGrid>
                <a:gridCol w="1028880"/>
                <a:gridCol w="1029240"/>
                <a:gridCol w="1027440"/>
                <a:gridCol w="1028880"/>
              </a:tblGrid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Rds(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6.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.12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Q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8.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.7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7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2.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Q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5.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.2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m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4114800" y="586728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ariable VGS = Variable Rds(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EVM Primary Gate Dr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6 Must be P-Channel for Low-Side Cl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amp Circuit (C10, D3, R8) Required on Q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x to Out Delay (per side) Set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rcRect l="0" t="0" r="17578" b="0"/>
          <a:stretch/>
        </p:blipFill>
        <p:spPr>
          <a:xfrm>
            <a:off x="4635360" y="1066680"/>
            <a:ext cx="3517920" cy="32004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27160" y="1066680"/>
            <a:ext cx="4268520" cy="32022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982520" y="1325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70080" y="19810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1447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990720" y="1447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87360" y="1295280"/>
            <a:ext cx="594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54680" y="16304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7 (V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4680" y="266688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6 (V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2986200" y="5560920"/>
                <a:ext cx="23320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l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LA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6172200" y="4114800"/>
            <a:ext cx="24382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EVM Q7 ZVS Wavefo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44956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7 Turn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1ns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verl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’t Resonate to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 Enough Inductive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 Enough Dela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343400"/>
            <a:ext cx="358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7 Turn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Z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646520" y="106668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227160" y="106668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295280" y="269712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C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16160" y="1859040"/>
            <a:ext cx="51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10280" y="269712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C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31160" y="1859040"/>
            <a:ext cx="51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cing Q7 Turn-On ZV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43430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7 Turn-On (Vin=72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μH Inductor Added in Series with Transformer Prim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UCC2891 OUT/AUX Dela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d Delay Implies Decreased Max Duty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Max Duty Cycle Clamp Can Increase Max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27160" y="106668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4960" y="18288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C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=V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1447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590920" y="1447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87560" y="1295280"/>
            <a:ext cx="594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新細明體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4724280" y="1542960"/>
          <a:ext cx="4267440" cy="20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42960"/>
                    <a:ext cx="42674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formance Improvements that can be made on the E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92468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grated Planar Magn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uce Copper Lo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e Transformer and Inductor 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gulated Secondary SR Gate Dr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trol Driven Verses Self Dri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7228 Predictive Gate Drive on Secondary for additional Efficiency Gains (UCC27228 is new product due to release Q2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e ZVS Turn-On of Main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uce Turns Ratio (Duty Cycle) to Allow Additional Time for Z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turable Reactor Added to Secondary May Help Z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Literat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/1/2/3/4 Current-Mode Active Clamp PWM Controller Datasheet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as Instruments Literature No. SLUS54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and Reset Technique Enhances Forward Converter Performance,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wer Supply Design Seminar SEM-1000, Topic 3, by Bill Andreycak, Texas Instruments Literature No. SLUP10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ign Considerations for Active Clamp and Reset Technique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Power Supply Design Seminar SEM-1100, Topic 3, by Dhaval Dalal, Texas Instruments Literature No. SLUP11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48-V Input, 3.3V/100 Watt Converter With UCC3580-1 Controll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User guide to Accommodate PMP206_C Reference Design, Texas Instruments Literature No. SLUU14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EVM, 48-V to 1.3-V, 30-A Forward Converter with Active Clamp Rese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User Guide to Accommodate UCC2891EVM by Steve Mappus, Texas Instruments Literature No. TBD –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ailable Q40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igning for High Efficiency with the UCC289/1/2/3/4 Active Clamp PWM Controller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pplication Note by Steve Mappus, Texas Instruments Literature Number TBD –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ailable Q40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evelopment Tool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EVM, 48-V to 3.3-V, 30-A Forward Converter with Active Clamp Reset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exas Instruments Development Tool No. UCC2891EVM –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ailable Q4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 Final Thou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2876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rt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/3 for 24-48V isolated input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2/4 for Off-Line Applications or low input voltage systems below 24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Get ZVS at Turn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ditional ZVS at Turn-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CC2891 High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gh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aded With Internal Part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roved Performance and Features over Compe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A TrueDr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utput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891 Eliminates the “Disadvantages” Normally Associated with Active Cl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duct Released October 30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ditional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er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set Techniqu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286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819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3219480"/>
            <a:ext cx="327672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w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w Voltage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cycled Inductive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-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50% Duty Cycle Li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wer Transformer Turns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d Transformer Lea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219480"/>
            <a:ext cx="2971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gt;50% Duty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e Transformer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-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gher Voltage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sipative Inductive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lamp R Lo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314360"/>
          <a:ext cx="266724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14360"/>
                    <a:ext cx="266724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429000" y="1314360"/>
          <a:ext cx="251460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314360"/>
                    <a:ext cx="25146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230760" y="268596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) Third Wi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7440" y="268596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) RCD Cla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268596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) Resonant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324480" y="1295280"/>
          <a:ext cx="2514600" cy="11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295280"/>
                    <a:ext cx="251460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3236760"/>
            <a:ext cx="29718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ewest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e Transformer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cycled Inductive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uced E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gt;50% Duty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advan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rd-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rasitic L and C Var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gher Voltage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lf-Driven Synchronous Rectification not Intu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Reset Techn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2133720"/>
            <a:ext cx="6248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licable to Forward and Flyback Top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Applied to Either High Side or Low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tural ZVS (Zero Voltage Switching) for Highest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xed Frequency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gher Frequency Operation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gt;50% Duty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cycles Inductiv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uced 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y to Adapt Self-Driven Synchronous Rec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MOSFET Switch Required for Active 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te Drive Circuitry somewhat 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Max Duty Cycle Clamp is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ced PWM Control Technique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2286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819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990720"/>
          <a:ext cx="3352680" cy="17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3352680" cy="17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gh-Side (Flyback) Active Cla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91440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cl Lower than Low-Side Cl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2 is N-Channel, More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maller Clamp Cap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te Drive Transformer for Q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073160"/>
          <a:ext cx="510552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73160"/>
                    <a:ext cx="510552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90920" y="3276720"/>
          <a:ext cx="5289480" cy="2938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276720"/>
                    <a:ext cx="52894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4572000"/>
                <a:ext cx="1828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04920" y="5410080"/>
                <a:ext cx="18288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80880" y="4038480"/>
                <a:ext cx="990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w-Side (Boost) Active Cla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914400"/>
            <a:ext cx="3657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rect Gate drive to Q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e Delay Timing for Z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me Vds as High-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rger Clamp Cap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gher Clamp Voltage than High-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2 is P-Channel, Less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1066680"/>
          <a:ext cx="5105520" cy="27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510552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4920" y="4952880"/>
                <a:ext cx="2189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83" name=""/>
          <p:cNvGraphicFramePr/>
          <p:nvPr/>
        </p:nvGraphicFramePr>
        <p:xfrm>
          <a:off x="2590920" y="3276720"/>
          <a:ext cx="5265720" cy="289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276720"/>
                    <a:ext cx="526572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80880" y="4343400"/>
                <a:ext cx="1427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e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Timing - Power Trans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8600" y="1143000"/>
          <a:ext cx="29703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29703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886200" y="990720"/>
          <a:ext cx="4570560" cy="22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990720"/>
                    <a:ext cx="457056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809880" y="3429000"/>
          <a:ext cx="5181480" cy="1228680"/>
        </p:xfrm>
        <a:graphic>
          <a:graphicData uri="http://schemas.openxmlformats.org/drawingml/2006/table">
            <a:tbl>
              <a:tblPr/>
              <a:tblGrid>
                <a:gridCol w="838080"/>
                <a:gridCol w="592200"/>
                <a:gridCol w="55080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Z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NON Z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3733920" y="4876920"/>
            <a:ext cx="5029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0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1 Dominant L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1 - Con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3 – Switching, Con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Timing - Reso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9880" y="3429000"/>
          <a:ext cx="5181480" cy="1228680"/>
        </p:xfrm>
        <a:graphic>
          <a:graphicData uri="http://schemas.openxmlformats.org/drawingml/2006/table">
            <a:tbl>
              <a:tblPr/>
              <a:tblGrid>
                <a:gridCol w="838080"/>
                <a:gridCol w="592200"/>
                <a:gridCol w="55080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Z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Z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733920" y="487692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1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2 Dominant L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2 – Body-Diode Conduction (Magnetizing Current 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4 – Body-Diode  Con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1143000"/>
          <a:ext cx="2970360" cy="43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297036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887640" y="990720"/>
          <a:ext cx="4570560" cy="22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7640" y="990720"/>
                    <a:ext cx="457056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ve Clamp Timing - Cla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143000"/>
          <a:ext cx="2970360" cy="43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2970360" cy="43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85768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09880" y="3429000"/>
          <a:ext cx="5181480" cy="1228680"/>
        </p:xfrm>
        <a:graphic>
          <a:graphicData uri="http://schemas.openxmlformats.org/drawingml/2006/table">
            <a:tbl>
              <a:tblPr/>
              <a:tblGrid>
                <a:gridCol w="838080"/>
                <a:gridCol w="592200"/>
                <a:gridCol w="55080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D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Z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ZV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733920" y="4876920"/>
            <a:ext cx="5029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2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3 Dominant L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2 – Conduction (Magnetizing Current 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4 - Con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87640" y="990720"/>
          <a:ext cx="4570560" cy="22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7640" y="990720"/>
                    <a:ext cx="457056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29:48Z</dcterms:created>
  <dc:creator>DENNM</dc:creator>
  <dc:description/>
  <dc:language>en-US</dc:language>
  <cp:lastModifiedBy>范文鵬</cp:lastModifiedBy>
  <cp:lastPrinted>2002-03-08T18:34:24Z</cp:lastPrinted>
  <dcterms:modified xsi:type="dcterms:W3CDTF">2004-10-02T02:50:15Z</dcterms:modified>
  <cp:revision>593</cp:revision>
  <dc:subject/>
  <dc:title>No Slide Title</dc:title>
</cp:coreProperties>
</file>